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E11E-5A04-4C67-8A5C-2153B804E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AA5A-E403-4AE4-AC9C-E6F12CE76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8A6D-3BD0-4F37-BC22-29CB41C79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8997-0C3F-4216-9EA3-95B9E4534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9A69-F9E3-4AEB-AEA4-ED49D58A6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D04A-2A65-4DEF-86D6-43796E180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AE4B-2817-481E-9E1D-5B0130ECF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68BC-0260-4659-AF5E-05C759E2B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2E50-B3CF-4A24-B2F8-EF6E9EF0E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975C-B129-4638-A68A-77F964F92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BADD-A8C9-4CC8-A348-1A5782D30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04B6-84A7-43A7-AFFE-F8007734C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2091-C03E-4D70-A4F1-5A79E2194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0F4F-9135-4C51-AA43-0DFC6523B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D34E-0D4C-4AB2-A479-4DBAC1340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0006-545D-49D1-A205-C309C2488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4C23-0CC1-4313-A94A-FB2225847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62FC-A217-4A0F-A0E4-A1DF49353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D555-7A35-4145-A9A4-E65AA4383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EBEB-1807-411E-B118-39181E42B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FEFD-135A-45F8-A288-E2CC15D28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30AA-36D3-4AA5-9788-58DCEF1C8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E07C-4655-4762-B731-3205190D1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PECIES OF FLOWER GIVEN AS A GIF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LAYER OF THE EARTH, A CAPE-LIKE GARMENT, OR A PART OF A FIRE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2 BOOKS OF THE BIBLE NAMED AFTER WOMEN.  ESTHER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484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NILES CRANE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IFE ON "FRASIER", WHO NEVER APPEARED ON CAM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68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EQUITY SECURITIES ARE STOCKS.  WHAT ARE THE MOST COMMON DEBT SECUR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523880" y="762120"/>
            <a:ext cx="6096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Y" STAND FOR IN "CS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SON  (CRUSO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DANIEL DEFOE'S NOVEL ABOUT A MAN BEING SHIPWRECKED FOR 28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ARON  (PAU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PLAYED JESSE PINKMAN IN "BREAKING B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LAYER OF THE EARTH, A CAPE-LIKE GARMENT, OR A PART OF A FIREPL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LAD INCLUDES GREENS, TOMATO, BACON, CHICKEN, EGGS, AVOCADO, ROQUEFORT CHEESE, CHIVES, AND VINAIGRET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PECIES OF FLOWER GIVEN AS A GI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267080"/>
            <a:ext cx="8076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OF  FAMOUS  BASEBALL  PLA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2 BOOKS OF THE BIBLE NAMED AFTER WOMEN.  ESTHER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NILES CRANE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IFE ON "FRASIER", WHO NEVER APPEARED ON CAM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EQUITY SECURITIES ARE STOCKS.  WHAT ARE THE MOST COMMON DEBT SECURI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Y" STAND FOR IN "CS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DANIEL DEFOE'S NOVEL ABOUT A MAN BEING SHIPWRECKED FOR 28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838080"/>
            <a:ext cx="72388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PLAYED JESSE PINKMAN IN "BREAKING B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LAD INCLUDES GREENS, TOMATO, BACON, CHICKEN, EGGS, AVOCADO, ROQUEFORT CHEESE, CHIVES, AND VINAIGRET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02:11:13Z</dcterms:created>
  <dc:creator>Jennifer Budzinski</dc:creator>
  <dc:description/>
  <dc:language>en-US</dc:language>
  <cp:lastModifiedBy>Erich Friedman</cp:lastModifiedBy>
  <dcterms:modified xsi:type="dcterms:W3CDTF">2020-08-24T18:11:39Z</dcterms:modified>
  <cp:revision>405</cp:revision>
  <dc:subject/>
  <dc:title>Slide 1</dc:title>
</cp:coreProperties>
</file>