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F1D5-1FC5-4323-A638-143E08DB6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790E-FC16-489C-A015-597EBF33E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AB3E-6CD4-44FB-9389-19ED3A79E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85F3-2E30-4C1C-AE4D-747304CF3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A732-74EA-4209-9159-4266FA8A2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6BBB-7802-40BB-9719-1DF86F555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064E-F120-45DF-B778-19B4C7971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BF40-53D0-4B18-AA18-33FA17612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D44F-45FC-4D9D-A9A2-88E664D84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23C7-9ACC-423B-89A1-4F1C925FA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2B52-2945-4110-AC74-AC3A95A29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5CE2-23AE-4C38-86CC-6CAF03E27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1E7E-67E3-4112-A6DB-9BC755A60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2062-7267-4377-A75C-DB11C6563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E0D8-9778-458F-8433-F9E4785CF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3864-6DD0-4B5F-83A2-67F17233F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7B6E-4F99-4CE4-87FF-50BB9A074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5955-2479-4E0F-8EE9-2106B1523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9BE2-E72A-4C0A-802A-E475A42D4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0435E-5A6F-4F98-B26E-CFB71D8C7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A29A-D4BC-4C13-B73E-FA1801890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2A18-DF7A-4F58-A4B6-81C1337F4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311B-C7BE-4642-B8A8-6D7A2EAD6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FLOWER GIVEN AS A GIF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LAYER OF THE EARTH, A CAPE-LIKE GARMENT, OR A PART OF A FIRE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 BOOKS OF THE BIBLE NAMED AFTER WOMEN.  ESTHER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NILES CRANE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N "FRASIER", WHO NEVER APPEARED ON CAM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1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6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EQUITY SECURITIES ARE STOCKS.  WHAT ARE THE MOST COMMON DEBT SECURIT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523880" y="762120"/>
            <a:ext cx="6096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Y" STAND FOR IN "CS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SON  (CRUSO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DANIEL DEFOE'S NOVEL ABOUT A MAN BEING SHIPWRECKED FOR 28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(PAU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JESSE PINKMAN IN "BREAKING B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A LAYER OF THE EARTH, A CAPE-LIKE GARMENT, OR A PART OF A FIRE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AD INCLUDES GREENS, TOMATO, BACON, CHICKEN, EGGS, AVOCADO, ROQUEFORT CHEESE, CHIVES, AND VINAIGRET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SPECIES OF FLOWER GIVEN AS A G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267080"/>
            <a:ext cx="8076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FAMOUS  BASEBALL  PLAY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 BOOKS OF THE BIBLE NAMED AFTER WOMEN.  ESTHER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NILES CRANE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IFE ON "FRASIER", WHO NEVER APPEARED ON CAM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OST COMMON EQUITY SECURITIES ARE STOCKS.  WHAT ARE THE MOST COMMON DEBT SECURI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Y" STAND FOR IN "CS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DANIEL DEFOE'S NOVEL ABOUT A MAN BEING SHIPWRECKED FOR 28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8380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OR WHO PLAYED JESSE PINKMAN IN "BREAKING B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LAD INCLUDES GREENS, TOMATO, BACON, CHICKEN, EGGS, AVOCADO, ROQUEFORT CHEESE, CHIVES, AND VINAIGRET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02:11:13Z</dcterms:created>
  <dc:creator>Jennifer Budzinski</dc:creator>
  <dc:description/>
  <dc:language>en-US</dc:language>
  <cp:lastModifiedBy>Erich Friedman</cp:lastModifiedBy>
  <dcterms:modified xsi:type="dcterms:W3CDTF">2020-08-24T18:11:39Z</dcterms:modified>
  <cp:revision>405</cp:revision>
  <dc:subject/>
  <dc:title>Slide 1</dc:title>
</cp:coreProperties>
</file>