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7AC0-FA02-4586-B074-732410BD5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C716-BAFF-4B14-A2D3-1A4784C32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77C9-CF64-482B-8480-5A7FE40EE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70BB-D561-4EDC-B865-D8C19AC11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F904-3273-4972-9D78-7669737B3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5A8E-7F2A-406F-990C-823185924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B5EF-0B96-4E33-BD17-EE7D93C5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1494-C9A7-4DF0-B008-80D267CC4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5BE5-E37D-4716-A88A-D2283C09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FA1E-50F5-4F60-9A2F-F985F732C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F245-4CD5-4033-BBB0-CA5C7ECB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7DD3-37C5-4141-8EB5-CD1184135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8D03-3B79-43BB-B799-DEC277FE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E1CC-9F01-4B5F-8C53-E7098151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FBA5-234A-4803-82F0-EE3308AD9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1137-7F3E-486E-B51C-A5CA687F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101D-0BFF-4647-95F8-54FCD482D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5145-554F-4F94-8547-9C24CD424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BF8E-11F0-41DF-9086-DC3C9B35A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97B-93BC-451C-AB1A-2DACCC405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BD27-9BC3-4981-A02E-04CA57A32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9226-2AF7-48E3-982A-4D6619C0D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43FC-CEC6-4341-8481-8BAD34320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FLOWER GIVEN AS A GI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LAYER OF THE EARTH, A CAPE-LIKE GARMENT, OR A PART OF A FIRE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 BOOKS OF THE BIBLE NAMED AFTER WOMEN.  ESTHER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NILES CRANE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N "FRASIER", WHO NEVER APPEARED ON CAM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6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EQUITY SECURITIES ARE STOCKS.  WHAT ARE THE MOST COMMON DEBT SECUR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523880" y="762120"/>
            <a:ext cx="6096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Y" STAND FOR IN "CS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SON  (CRUSO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DANIEL DEFOE'S NOVEL ABOUT A MAN BEING SHIPWRECKED FOR 28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(PAU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JESSE PINKMAN IN "BREAKING 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LAYER OF THE EARTH, A CAPE-LIKE GARMENT, OR A PART OF A FIRE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AD INCLUDES GREENS, TOMATO, BACON, CHICKEN, EGGS, AVOCADO, ROQUEFORT CHEESE, CHIVES, AND VINAIGRET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FLOWER GIVEN AS A G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267080"/>
            <a:ext cx="80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FAMOUS  BASEBALL  P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 BOOKS OF THE BIBLE NAMED AFTER WOMEN.  ESTHER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NILES CRANE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N "FRASIER", WHO NEVER APPEARED ON CAM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EQUITY SECURITIES ARE STOCKS.  WHAT ARE THE MOST COMMON DEBT SECURI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Y" STAND FOR IN "CS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DANIEL DEFOE'S NOVEL ABOUT A MAN BEING SHIPWRECKED FOR 28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838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JESSE PINKMAN IN "BREAKING 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AD INCLUDES GREENS, TOMATO, BACON, CHICKEN, EGGS, AVOCADO, ROQUEFORT CHEESE, CHIVES, AND VINAIGRET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02:11:13Z</dcterms:created>
  <dc:creator>Jennifer Budzinski</dc:creator>
  <dc:description/>
  <dc:language>en-US</dc:language>
  <cp:lastModifiedBy>Erich Friedman</cp:lastModifiedBy>
  <dcterms:modified xsi:type="dcterms:W3CDTF">2020-08-24T18:11:39Z</dcterms:modified>
  <cp:revision>405</cp:revision>
  <dc:subject/>
  <dc:title>Slide 1</dc:title>
</cp:coreProperties>
</file>