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E0D1-51E1-4440-A290-D39D045A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8F8E-0269-470A-ADC6-E4ACDA2A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ED5A-868C-446B-AC5B-BA975D02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ACCB-3FD6-4E2B-990B-E01618F9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5AA-3F2D-4F16-B730-C3325E0E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2968-25C1-426C-AF05-7011E50A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A4D-E315-4B28-9F35-50E4AD8C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427-77F7-40EA-9CB1-DA5A5924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6835-7E86-4AFA-84BA-82AFB159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6F5-5798-4955-BCDE-253338CB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AB43-FAF6-4FC8-8D1E-A5735F18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9C4-F73A-4FB2-AF7F-F71AE0F9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FA8E-30D0-4F91-9C2A-1348577A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AB04-380B-4AA3-B016-80D18553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D490-AA3C-48BA-B4CC-573776AB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2CF2-0C6C-45EC-B0B6-E14E88A3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8D6-15AD-4FC8-966E-C822E286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7D5-633A-44CA-8B2E-BE9F83ED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FAE2-0B1E-4DD8-AAC6-97FD20A79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46A9-5064-4694-A1D3-CA2EE5CC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120B-2131-4434-82E3-03E1B9F3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ECA-C651-4CE9-BAB0-F4407959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D1B2-5B8B-4842-832F-85EE1C30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0666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HAS APPEARED IN 8 WOODY ALLEN FILMS, INCLUDING "SLEEPER" AND "MANHATT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(F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5240" y="762120"/>
            <a:ext cx="701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THE CAPTAIN ON THE TV SHOW "FIRE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POPULAR BYRDS SONG THAT CONTAINS 8 VERSES OF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IS  (FLAGS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S, WHAT IS THE FIRST NAME OF TRIXIE'S M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ONS  AND)  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6800"/>
            <a:ext cx="744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IN THE TITLE OF THE 1912 D.H. LAWRENCE NOVEL ABOUT LIFE IN A WORKING-CLASS SET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8480" y="762120"/>
            <a:ext cx="754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"F" IN "EW&amp;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1360" y="762120"/>
            <a:ext cx="772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60-1956, FOUR FARTHINGS MAD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38240" y="4876920"/>
            <a:ext cx="7067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ANDOM–ACCESS) 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PARLANCE, WHAT DOES THE "M" IN "RA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THE CAPTAIN ON THE TV SHOW "FIRE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ISLAMIC HOLY MONTH OF RAMADAN, WHAT ARE OBSERVERS SUPPOSED TO DO DURING DAYLIGHT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E  (KEA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2920" y="762120"/>
            <a:ext cx="831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HAS APPEARED IN 8 WOODY ALLEN FILMS, INCLUDING "SLEEPER" AND "MANHATT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A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POPULAR BYRDS SONG THAT CONTAINS 8 VERSES OF THE BOOK OF ECCLESIAS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38320" y="762120"/>
            <a:ext cx="686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S, WHAT IS THE FIRST NAME OF TRIXIE'S M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IN THE TITLE OF THE 1912 D.H. LAWRENCE NOVEL ABOUT LIFE IN A WORKING-CLASS SET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"F" IN "EW&amp;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60-1956, FOUR FARTHINGS MADE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3760" y="761760"/>
            <a:ext cx="7296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PARLANCE, WHAT DOES THE "M" IN "RA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ISLAMIC HOLY MONTH OF RAMADAN, WHAT ARE OBSERVERS SUPPOSED TO DO DURING DAYLIGHT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8-29T16:30:18Z</dcterms:modified>
  <cp:revision>436</cp:revision>
  <dc:subject/>
  <dc:title>Slide 1</dc:title>
</cp:coreProperties>
</file>