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A88E-552C-4A51-91E8-B053FAD7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4BC0-1C31-4F66-82BC-B1DBFFBF9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0932-70C4-49A0-AD4B-FCDCBF10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803F-4098-4F90-AB1A-C002EF711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0638-C3AE-4381-90D3-01C62BF19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23A8-6FA1-4FAE-BBA8-168B519DA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A667-0BCC-47A3-B7C6-83451142F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B70A-F288-4C4F-9F25-38DAD7817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5F39-F939-4562-A123-CFA4BD40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0C2C-1F75-4C19-B91C-E0043C9A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DD62-2795-4A41-A244-ECE22509E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E466-6455-4061-BEB5-0F91ACD36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F471-60C3-4BBD-8C92-AEF487B00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64A4-D6AA-40EA-B510-19E82F56E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39D-B290-4DDD-A5A1-665723E0B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93E9-49BB-40C8-90C5-65B3D3E9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2A6F-4254-4843-99BD-67833429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5FA7-930D-46F6-A864-397505757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7F74-076D-4909-9475-CD3C3C967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06E2-FA23-4594-91FB-0F5B9C762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54BB-8D22-436B-BA62-13181DBFA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48D6-A682-4AC9-8500-8536ACB4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934C-BA00-41AA-AF03-AC4B19D63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33480" y="1066680"/>
            <a:ext cx="727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1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HAS APPEARED IN 8 WOODY ALLEN FILMS, INCLUDING "SLEEPER" AND "MANHATT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HAN  (FILL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5240" y="762120"/>
            <a:ext cx="7013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THE CAPTAIN ON THE TV SHOW "FIRE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7960" y="762120"/>
            <a:ext cx="8666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POPULAR BYRDS SONG THAT CONTAINS 8 VERSES OF THE BOOK OF ECCLESIAS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IS  (FLAGS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S, WHAT IS THE FIRST NAME OF TRIXIE'S M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ONS  AND)  L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7160" y="766800"/>
            <a:ext cx="7448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IN THE TITLE OF THE 1912 D.H. LAWRENCE NOVEL ABOUT LIFE IN A WORKING-CLASS SET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8480" y="762120"/>
            <a:ext cx="754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"F" IN "EW&amp;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1360" y="762120"/>
            <a:ext cx="772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60-1956, FOUR FARTHINGS MAD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38240" y="4876920"/>
            <a:ext cx="7067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ANDOM–ACCESS)  M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0200" y="762120"/>
            <a:ext cx="77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PARLANCE, WHAT DOES THE "M" IN "RA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THE CAPTAIN ON THE TV SHOW "FIRE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6160" y="762120"/>
            <a:ext cx="759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ISLAMIC HOLY MONTH OF RAMADAN, WHAT ARE OBSERVERS SUPPOSED TO DO DURING DAYLIGHT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E  (KEA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12920" y="762120"/>
            <a:ext cx="831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HAS APPEARED IN 8 WOODY ALLEN FILMS, INCLUDING "SLEEPER" AND "MANHATT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LA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POPULAR BYRDS SONG THAT CONTAINS 8 VERSES OF THE BOOK OF ECCLESIAS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38320" y="762120"/>
            <a:ext cx="686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S, WHAT IS THE FIRST NAME OF TRIXIE'S M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IN THE TITLE OF THE 1912 D.H. LAWRENCE NOVEL ABOUT LIFE IN A WORKING-CLASS SET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38160" y="762120"/>
            <a:ext cx="726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"F" IN "EW&amp;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8080" y="761760"/>
            <a:ext cx="872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60-1956, FOUR FARTHINGS MADE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3760" y="761760"/>
            <a:ext cx="7296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OMPUTER PARLANCE, WHAT DOES THE "M" IN "RA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ISLAMIC HOLY MONTH OF RAMADAN, WHAT ARE OBSERVERS SUPPOSED TO DO DURING DAYLIGHT HO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8-29T16:30:18Z</dcterms:modified>
  <cp:revision>436</cp:revision>
  <dc:subject/>
  <dc:title>Slide 1</dc:title>
</cp:coreProperties>
</file>