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C346-B358-4EDC-824F-B52CF07D8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8361-89FF-4D43-A0E3-1859CBBD6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F26E-D830-4047-8457-0F0C0CFF5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4CA1-28FE-4DE4-9C82-2555DB91F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55DF-4686-40BC-AADA-867EFBC50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B76-907A-4353-A539-F1F7F681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DB72-4D01-4A6B-936E-067B5503A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FC27-4E47-40B1-A5F8-11A90E89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D1A4-89E3-4F95-A956-B77A0D477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029C-1228-4831-B837-2422A210B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BC09-FC8C-45AE-ACDA-C30C95BE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CD7-C5DB-42E0-9A48-F8476CFEC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E5BE-F477-4429-89D3-587F0DEB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7AB7-0F91-4965-A563-657D2BAE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CA07-5033-40A2-BFC4-4CD6D6E8D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7A58-6F51-455F-9BAD-63DA9FAD0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F29D-4C52-4FC8-879A-E30146B5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7F98-249F-47CC-8BE8-C7EFCC49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5AB2-A4F1-46BF-A188-79271C6F0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8D3C-680C-437C-88C3-E1CC8A775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19C6-60AE-4E37-9B78-BEE77365E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ADF9-1380-483A-97EF-1658D4558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28CF-DFBB-4638-84D9-2258A059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LUN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ICONIC 1942 POSTER "WE CAN DO IT", WHAT IS ROSIE THE RIVETER WEARING THAT IS POLKA-DOT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  SCOUT  COO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76440" y="762120"/>
            <a:ext cx="7791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LE OF WHAT PRODUCT IS THE LARGEST FINANCIAL LITERACY PROGRAM IN THE WORLD FOR GIR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3720" y="762120"/>
            <a:ext cx="829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K–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GUN IS THE MOST WIDELY-USED RIFL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ERN 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9320" y="762120"/>
            <a:ext cx="778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AURORA BOREA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HA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1880" y="762120"/>
            <a:ext cx="767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VOT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GUITAR SONG IN HISTORY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NOBY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93560" y="762120"/>
            <a:ext cx="8155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OCATION OF THE WORST NUCLEAR DISAS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LEQ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BLISHES MORE THAN HALF THE WORLD'S ROMANCE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44680" y="762120"/>
            <a:ext cx="8054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LE OF WHAT PRODUCT IS THE LARGEST FINANCIAL LITERACY PROGRAM IN THE WORLD FOR GIR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ERINE  D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ND, A PIONEER IN ELECTRONIC MUSIC, HAS PUBLISHED OVER 100 ALBUMS AND DONE OVER 60 MOVIE SOUNDTR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8760" y="762120"/>
            <a:ext cx="828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ICONIC 1942 POSTER "WE CAN DO IT", WHAT IS ROSIE THE RIVETER WEARING THAT IS POLKA-DOT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NS  OF  MARIJU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BRITISH TV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GUN IS THE MOST WIDELY-USED RIFL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9200" y="762120"/>
            <a:ext cx="7723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AURORA BOREA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6960" y="761760"/>
            <a:ext cx="775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VOT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GUITAR SONG IN HISTORY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LOCATION OF THE WORST NUCLEAR DISASTER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BLISHES MORE THAN HALF THE WORLD'S ROMANCE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ND, A PIONEER IN ELECTRONIC MUSIC, HAS PUBLISHED OVER 100 ALBUMS AND DONE OVER 60 MOVIE SOUNDTRA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1-14T12:58:08Z</dcterms:modified>
  <cp:revision>506</cp:revision>
  <dc:subject/>
  <dc:title>Slide 1</dc:title>
</cp:coreProperties>
</file>