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63E67-B456-4788-A4D3-37F301156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1F97F-10DD-438D-8159-4268E1F30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2D7B5-6837-4AD0-B063-915B1C4F2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DEF07-5C75-40F8-9099-F4D75C2F1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1CD38-D06C-4BFC-8B52-6D362289D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A64B7-AB4A-4689-AF5E-06CEB4A88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E2E75-FA10-4DD7-BE38-08ECDF809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03F30-7948-4966-A6F7-7BFE64FFD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BE7BA-70F0-47CA-911A-843E0D3A9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3F7F7-20D9-4F87-A754-F03C6C2C1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F522D-B356-4069-8AD8-1996D5FCE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03480-B9B8-4EFF-9A38-9E5D4412A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C6E5B-AF59-4508-9C4E-45999CCC7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A8591-6506-43F3-A208-ECCCA1539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6CCB5-98F5-4047-A814-CA587639E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84B82-E819-4F04-8E6E-A55658E81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854EC-9E80-4549-B016-3A8A05D38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4AB0F-6808-43BF-A274-16937C0AA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3C2C-4873-4DD2-A803-107CC9BEF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667D7-5E04-4ED5-B410-F235AA0E4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3E1F5-F8C2-4C28-9335-8F67BE6DD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8E1F-9FB9-4310-927D-60DB35355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531CC-F3FD-419C-A49D-42766F631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066680"/>
            <a:ext cx="6477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 (THANKS LUNA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46040" y="761760"/>
            <a:ext cx="8251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ICONIC 1942 POSTER "WE CAN DO IT", WHAT IS ROSIE THE RIVETER WEARING THAT IS POLKA-DOT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IRL  SCOUT  COOK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76440" y="762120"/>
            <a:ext cx="7791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ALE OF WHAT PRODUCT IS THE LARGEST FINANCIAL LITERACY PROGRAM IN THE WORLD FOR GIR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-38160" y="4952880"/>
            <a:ext cx="9220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CTOR  W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23720" y="762120"/>
            <a:ext cx="8296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ONGEST-RUNNING BRITISH TV SE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K–4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055520" y="762120"/>
            <a:ext cx="70311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USSIAN GUN IS THE MOST WIDELY-USED RIFLE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RTHERN  LIGH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79320" y="762120"/>
            <a:ext cx="7785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ICKNAME OF THE AURORA BOREAL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URPLE  HAZ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31880" y="762120"/>
            <a:ext cx="7678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IMI HENDRIX SONG WAS VOTED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BEST GUITAR SONG IN HISTORY BY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ROLLING STON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RNOBY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93560" y="762120"/>
            <a:ext cx="8155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WAS THE LOCATION OF THE WORST NUCLEAR DISASTER IN HISTO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719280" y="4952880"/>
            <a:ext cx="770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LEQU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80880" y="762120"/>
            <a:ext cx="83822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PUBLISHES MORE THAN HALF THE WORLD'S ROMANCE NOVE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44680" y="762120"/>
            <a:ext cx="8054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ALE OF WHAT PRODUCT IS THE LARGEST FINANCIAL LITERACY PROGRAM IN THE WORLD FOR GIR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76320" y="4952880"/>
            <a:ext cx="8991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NGERINE  DRE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334800" y="762120"/>
            <a:ext cx="8474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RMAN BAND, A PIONEER IN ELECTRONIC MUSIC, HAS PUBLISHED OVER 100 ALBUMS AND DONE OVER 60 MOVIE SOUNDTRAC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ADB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28760" y="762120"/>
            <a:ext cx="82864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ICONIC 1942 POSTER "WE CAN DO IT", WHAT IS ROSIE THE RIVETER WEARING THAT IS POLKA-DOT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647640" y="4952880"/>
            <a:ext cx="7848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RAINS  OF  MARIJU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84200" y="761760"/>
            <a:ext cx="817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ONGEST-RUNNING BRITISH TV SER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076400" y="762120"/>
            <a:ext cx="6991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USSIAN GUN IS THE MOST WIDELY-USED RIFLE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09200" y="762120"/>
            <a:ext cx="7723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ICKNAME OF THE AURORA BOREAL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96960" y="761760"/>
            <a:ext cx="7750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IMI HENDRIX SONG WAS VOTED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BEST GUITAR SONG IN HISTORY BY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ROLLING STON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68360" y="761760"/>
            <a:ext cx="8207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WAS THE LOCATION OF THE WORST NUCLEAR DISASTER IN HISTO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25440" y="761760"/>
            <a:ext cx="8491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PUBLISHES MORE THAN HALF THE WORLD'S ROMANCE NOVE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16080" y="762120"/>
            <a:ext cx="8510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RMAN BAND, A PIONEER IN ELECTRONIC MUSIC, HAS PUBLISHED OVER 100 ALBUMS AND DONE OVER 60 MOVIE SOUNDTRACK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1-01-14T12:58:08Z</dcterms:modified>
  <cp:revision>506</cp:revision>
  <dc:subject/>
  <dc:title>Slide 1</dc:title>
</cp:coreProperties>
</file>