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61F71-B0CA-4B58-AF2F-FF246EE6D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A9009-F5B6-48A3-A7A3-933F0ACE3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66D22-72CB-4EDD-BDD6-58BABC8E8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AEF9E-8290-4712-9DB0-88C3FC292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F7119-54C9-4C8A-8003-3414591F1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9EFAD-1514-49E9-89C8-0E125C171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D653C-2D9A-46B9-B224-E71F6EE3E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74019-B624-44A9-ABB8-8B1136A58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D98F9-E2A7-4F3E-8D2C-AC33C92B3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4E9A3-2A0B-4F88-9BDB-336CA21E5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E0D6-2AAC-4ACF-BC28-93FFA50A1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237D0-9503-4C80-BB4F-CD3FB3D61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CF243-744A-4D28-8487-123AF4A66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CFFEC-7FDB-43EA-A2C9-6A22778D4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B83E2-A141-4C90-BA09-C282E7190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E4FC6-6581-4F6D-AA93-A027A6EDC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D024-092C-494E-92A7-3C8776E86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A88E7-CCB4-43E7-8AF6-1C40E7852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16F18-E3B5-4CB2-AEC8-F3BF1B5A1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6F983-2926-4152-86C1-80514A9C9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16266-A577-4D5A-A5AA-50F3BE85F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49582-327C-4BFE-ACCB-87ECEB22F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6480E-0DBF-48E2-A581-3321B1826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 (THANKS MARGI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852480" y="761760"/>
            <a:ext cx="7439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PLETE THE TITLE OF THE 2007 FILM STARRING JANE FONDA, FELICITY HUFFMAN, AND LINDSAY LOHAN: "GEORGIA ____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 (BESIDES BEING SCHOOL-RELATED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IS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555480" y="952560"/>
            <a:ext cx="3229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CHANNEL HAS THIS LO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4641840" y="533520"/>
            <a:ext cx="394668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2657520" y="4952880"/>
            <a:ext cx="38098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706320" y="762120"/>
            <a:ext cx="77104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COLLEGE MAJ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26676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IENCE  BOO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380880" y="762120"/>
            <a:ext cx="83822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LIBRARY OF SCIENCE CLASSIFICATION, WHAT WILL YOU FIND IN THE "Q" SEC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34308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EN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514440" y="762120"/>
            <a:ext cx="8115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VOLUTION IS FAMOUS FOR THE GUILLOT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181160" y="495288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GRA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07880" y="762120"/>
            <a:ext cx="8328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GAME IN WHICH EACH PLAYER HAS TO NAME A CITY THAT BEGINS WITH THE LETTER  THE LAST CITY ENDED WI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IGONOME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241280" y="762120"/>
            <a:ext cx="66614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TEACHER WOULD ASK YOU "WHAT'S YOUR SINE?"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143000" y="495288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GEB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351000" y="762120"/>
            <a:ext cx="8442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SCIPLINE COMES   FROM THE ARABIC MEANING "REUNION OF BROKEN PART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3456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V CHANNEL HAS THIS LO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4641840" y="533520"/>
            <a:ext cx="394668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971640" y="762120"/>
            <a:ext cx="72007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GOO GOO DOLLS HAVE HAD TWO #1 SONGS: "IRIS" AND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838080" y="762120"/>
            <a:ext cx="74678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PLETE THE TITLE OF THE 2007 FILM STARRING JANE FONDA, FELICITY HUFFMAN, AND LINDSAY LOHAN: "GEORGIA ____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647640" y="3809880"/>
            <a:ext cx="78487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marL="229680" indent="-229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NTIONED,  IN  THAT  ORDER,  IN  SAM  COOKE'S  SONG  "WHAT  A  WONDERFUL  WORLD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 (BESIDES BEING SCHOOL-RELATED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POPULAR COLLEGE MAJ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LIBRARY OF SCIENCE CLASSIFICATION, WHAT WILL YOU FIND IN THE "Q" SEC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42880" y="762120"/>
            <a:ext cx="8058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VOLUTION IS FAMOUS FOR THE GUILLOTI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85920" y="761760"/>
            <a:ext cx="8370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GAME IN WHICH EACH PLAYER HAS TO NAME A CITY THAT BEGINS WITH THE LETTER  THE LAST CITY ENDED WIT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085760" y="761760"/>
            <a:ext cx="6972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KIND OF TEACHER WOULD ASK YOU "WHAT'S YOUR SINE?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34440" y="761760"/>
            <a:ext cx="85042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SCIPLINE COMES   FROM THE ARABIC MEANING "REUNION OF BROKEN PART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961920" y="762120"/>
            <a:ext cx="72201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GOO GOO DOLLS HAVE HAD TWO #1 SONGS: "IRIS" AN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1-08-29T16:32:36Z</dcterms:modified>
  <cp:revision>443</cp:revision>
  <dc:subject/>
  <dc:title>Slide 1</dc:title>
</cp:coreProperties>
</file>