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8EE-1ABB-45A9-86D0-569FECE4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4B55-19B3-4FBA-8D30-61117B8C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835F-9E94-4FAF-96F6-9AC5BBB6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C51-9785-4F04-A9B6-3513A385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16BD-29F0-4499-AA98-1971E865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CBF-B61B-4F97-B4FC-8C64CBAE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B218-1487-4A73-8B90-BF1F0654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3D7E-5997-4EBB-9436-557E6B03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AAF-7AFD-4C14-92F0-F8EDFD63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6F05-7510-40BA-B367-7E1B8E7A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E7A-BBFB-4B47-8329-A0D45E44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F0CA-6CC7-4B6B-9239-C9E7730F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D97A-A27D-4E12-8798-29E5FA56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9DE-4590-4961-BA4C-7FA3A0C0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69B-7D35-4E70-89DA-C3F3340E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88C-C139-47D5-8DAB-BA0326E6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1FC0-A8AF-4668-81A1-DA23B2B0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7C9-234B-441A-9151-FA929E67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78B2-4092-4C35-8A09-2212D352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9C5C-33FD-40B6-887E-2136D9C9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6E04-1D90-4F86-A215-B5C7DEB5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ABC-A1B1-40B5-9A9F-CE46A689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99E0-02F6-4A98-8427-C3F5662B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TITLE OF THE 2007 FILM STARRING JANE FONDA, FELICITY HUFFMAN, AND LINDSAY LOHAN: "GEORGIA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 (BESIDES BEING SCHOOL-RELATE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55480" y="952560"/>
            <a:ext cx="32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39466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57520" y="4952880"/>
            <a:ext cx="3809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6320" y="762120"/>
            <a:ext cx="77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OLLEGE MA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IENCE 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IBRARY OF SCIENCE CLASSIFICATION, WHAT WILL YOU FIND IN THE "Q"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 IS FAMOUS FOR THE GUILLOT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GAME IN WHICH EACH PLAYER HAS TO NAME A CITY THAT BEGINS WITH THE LETTER  THE LAST CITY END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GON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41280" y="762120"/>
            <a:ext cx="666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ACHER WOULD ASK YOU "WHAT'S YOUR SINE?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1000" y="762120"/>
            <a:ext cx="844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IPLINE COMES   FROM THE ARABIC MEANING "REUNION OF BROKEN P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45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3946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TITLE OF THE 2007 FILM STARRING JANE FONDA, FELICITY HUFFMAN, AND LINDSAY LOHAN: "GEORGIA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3809880"/>
            <a:ext cx="7848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TIONED,  IN  THAT  ORDER,  IN  SAM  COOKE'S  SONG  "WHAT  A  WONDERFUL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 (BESIDES BEING SCHOOL-RELATE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OLLEGE MAJ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IBRARY OF SCIENCE CLASSIFICATION, WHAT WILL YOU FIND IN THE "Q"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 IS FAMOUS FOR THE GUILLOT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GAME IN WHICH EACH PLAYER HAS TO NAME A CITY THAT BEGINS WITH THE LETTER  THE LAST CITY ENDED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ACHER WOULD ASK YOU "WHAT'S YOUR SINE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IPLINE COMES   FROM THE ARABIC MEANING "REUNION OF BROKEN PA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8-29T16:32:36Z</dcterms:modified>
  <cp:revision>443</cp:revision>
  <dc:subject/>
  <dc:title>Slide 1</dc:title>
</cp:coreProperties>
</file>