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80D1-3CC9-4006-B5CB-0F87A2D20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6918-92EA-4CD5-81D2-56EF24CA8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77DA-B1D7-4346-9675-24CBEA981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4346-11FC-4F56-8409-01A75AB8E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0FF7-1D54-4DC3-ADD6-067C397A1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C1F5-7277-4036-A014-029360B53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8420-7F57-4BB7-9BB9-80EE6933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202D-52D7-4D9C-9154-A1F30584A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5832-7DF1-4CE5-9852-B8E9C0BD3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D0B8-FEB8-46D8-928E-4FFA9EF13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35A6-56ED-4701-8BBF-6BFEA5AA3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C316-A337-4915-B512-ED44F350B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6AA2-EE07-4E8F-84E0-ED00519A9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9822-F388-46C4-96AF-901030A5A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80AD-D6A5-46B4-BBB1-4938CD260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0B17-FDEE-4509-89DD-8A92E0348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DC01-0122-47C0-BB64-28F4E2B6B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BE44-031F-4CB8-B531-11047670F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32CE-77A2-48BF-AE52-A26E168EF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3BEE-5E58-42F3-8584-C2465D4CE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DCB0-56B3-4762-820A-8764E16D7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9FBB-A752-4AB3-ADFD-77CBE2C57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E2D7-6B0C-4166-AA7F-E16488A22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JOEL'S FIRST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ELING  BANJ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74640" y="762120"/>
            <a:ext cx="779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'S INSTRUMENTAL BY ERIC WEISSBERG BECAME A #1 SONG AFTER APPEARING IN THE 1972 FILM "DELIVER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G  A  G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00120" y="762120"/>
            <a:ext cx="794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. REX RELEASED THEIR BRITISH HIT "GET IT ON" IN AMERICA, WHAT DID THEY CALL THE SONG 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TAR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79400" y="762120"/>
            <a:ext cx="758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AD SONG BEGINS WITH THE LYRICS "WHO DRAWS THE CROWD AND PLAYS SO LOUD, B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VENTY–SIX  TROMB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95320" y="766800"/>
            <a:ext cx="735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IGNATURE SONG FROM THE 1957 PLAY "THE MUSIC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MBOURINE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WAS THE TITLE TRACK OFF THE BYRDS' FIRST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DOLIN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ECOND     #1 HIT SONG OF BRUCE HORNSBY AND THE RANGE, AFTER "THE WAY IT 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NGLE  BELL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30360" y="762120"/>
            <a:ext cx="7881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HIT SONG DID BOBBY HELMS HAVE IN 195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'S INSTRUMENTAL BY ERIC WEISSBERG BECAME A #1 SONG AFTER APPEARING IN THE 1972 FILM "DELIVER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1500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G  THE  DRUM  ALL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NTI-WORK ANTHEM" SONG BY TODD RUNDGREN IS PLAYED AT LAMBEAU FIELD WHENEVER THE PACKERS SCORE A TOUCHDOW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ANO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28720" y="762120"/>
            <a:ext cx="7486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JOEL'S FIR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03400" y="4267080"/>
            <a:ext cx="69357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MUSICAL  INSTR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95440" y="761760"/>
            <a:ext cx="795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. REX RELEASED THEIR BRITISH HIT "GET IT ON" IN AMERICA, WHAT DID THEY CALL THE SONG 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41400" y="762120"/>
            <a:ext cx="726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AD SONG BEGINS WITH THE LYRICS "WHO DRAWS THE CROWD AND PLAYS SO LOUD, B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IGNATURE SONG FROM THE 1957 PLAY "THE MUSIC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WAS THE TITLE TRACK OFF THE BYRDS' FIRST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76160" y="76176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ECOND     #1 HIT SONG OF BRUCE HORNSBY AND THE RANGE, AFTER "THE WAY IT 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3120" y="762120"/>
            <a:ext cx="7996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HIT SONG DID BOBBY HELMS HAVE IN 195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30200" y="762120"/>
            <a:ext cx="828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NTI-WORK ANTHEM" SONG BY TODD RUNDGREN IS PLAYED AT LAMBEAU FIELD WHENEVER THE PACKERS SCORE A TOUCHD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1-09-21T16:25:39Z</dcterms:modified>
  <cp:revision>454</cp:revision>
  <dc:subject/>
  <dc:title>Slide 1</dc:title>
</cp:coreProperties>
</file>