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191F-42C7-4D32-97FA-C614B50B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36FD-3C68-45E8-9779-EB6FCE0B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3E11-EA84-4C06-868A-FD279EF00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9B88-661E-427D-8CCE-3A357AB17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449D-7E82-4F03-B81F-F09D2838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444B-80C0-4DF3-BD7D-2B7CC8D5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83B9-6ACC-4843-B1B7-7BD21B3B2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B5FB-41A0-4F86-AC7C-582D8D343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518F-A743-406D-ADC7-94DAB0E39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A812-7DE2-4075-9346-112B20A5E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FB02-31C1-4082-A714-33D072432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1B49-DC25-454D-9EA1-517708D5D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DF69-2737-44E3-8C82-0A09EA24A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641B-8960-40A9-AEE7-08CB91F0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EDC-0057-47A1-AA4F-9715B7659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B4E-F053-458C-ABD0-04618B6A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1BF7-5B71-4988-95C1-853B29CE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4347-A56A-4708-AF9F-288A4368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D7EE-FB1E-47D2-960A-21E14C7B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2F6D3-5296-49BB-851E-E68D597F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EA5-A4E7-452A-BCEC-9D1DEDB32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43E4-577E-493B-BA19-D01C88BD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7765-EDEF-4C06-B69F-BEDB3CC1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ELING  BANJ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INSTRUMENTAL BY ERIC WEISSBERG BECAME A #1 SONG AFTER APPEARING IN THE 1972 FILM "DELIVER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A  G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. REX RELEASED THEIR BRITISH HIT "GET IT ON" IN AMERICA, WHAT DID THEY CALL THE SONG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79400" y="762120"/>
            <a:ext cx="758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SONG BEGINS WITH THE LYRICS "WHO DRAWS THE CROWD AND PLAYS SO LOUD,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TY–SIX  TROM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5320" y="76680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FROM THE 1957 PLAY "THE MUSIC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BOURINE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WAS THE TITLE TRACK OFF THE BYRDS' FIRS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OLIN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COND     #1 HIT SONG OF BRUCE HORNSBY AND THE RANGE, AFTER "THE WAY IT 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NGLE  BELL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0360" y="762120"/>
            <a:ext cx="78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HIT SONG DID BOBBY HELMS HAVE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INSTRUMENTAL BY ERIC WEISSBERG BECAME A #1 SONG AFTER APPEARING IN THE 1972 FILM "DELIVER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THE  DRUM  ALL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NTI-WORK ANTHEM" SONG BY TODD RUNDGREN IS PLAYED AT LAMBEAU FIELD WHENEVER THE PACKERS SCORE A TOUCHDOW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3400" y="4267080"/>
            <a:ext cx="69357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USICAL  INSTR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. REX RELEASED THEIR BRITISH HIT "GET IT ON" IN AMERICA, WHAT DID THEY CALL THE SONG 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SONG BEGINS WITH THE LYRICS "WHO DRAWS THE CROWD AND PLAYS SO LOUD,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FROM THE 1957 PLAY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WAS THE TITLE TRACK OFF THE BYRDS' FIRS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ECOND     #1 HIT SONG OF BRUCE HORNSBY AND THE RANGE, AFTER "THE WAY IT 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HIT SONG DID BOBBY HELMS HAVE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NTI-WORK ANTHEM" SONG BY TODD RUNDGREN IS PLAYED AT LAMBEAU FIELD WHENEVER THE PACKERS SCORE A TOUCH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1-09-21T16:25:39Z</dcterms:modified>
  <cp:revision>454</cp:revision>
  <dc:subject/>
  <dc:title>Slide 1</dc:title>
</cp:coreProperties>
</file>