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B70A-3FDD-487A-B38D-98038247A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BA97-16E5-4F7C-8473-AEA2C3170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C452-BED2-4A21-98E1-07848BED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146D-15E1-4418-877F-C9E063934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39C9-75B7-4867-A1C9-4F645060B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D7D0-9EFD-4C63-ACD5-9FEF60776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5945-1B01-4A77-BE93-118968DF5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006C-3705-42C8-A051-A3ACF5150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AC2D-E6A6-4075-B635-8A1A44FF0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0708-FE17-4BBC-A63A-9973E5028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94E6-0795-4C60-A894-CC9AE2B21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E891-B336-4C00-A2A0-9637E595B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C1A3-9A58-48F9-B946-3BDE6E23A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6300-DC24-4DF2-A667-6AC061FA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CEAD-F7CF-4B98-BF8D-24BB24A66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55A3-5AE0-469A-A29B-551334D9E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649D-246F-43B9-8CB4-9C9FD0E8E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7206-C004-4A14-A89F-FCC400463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5DFB-0EB4-4485-B3CD-4F4765FAB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5814-2D7C-4F56-BEED-6ADC2BAC3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4057-A468-41C9-8643-B3B01E327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76F5-A79C-46B0-9894-ADBEF9F1A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E193-54A2-4B15-8C44-20EDEB999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VEHICLE)  ASSEMBLY  (BUILD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LLEST BUILDING AT KENNEDY SPACE CENTER IS THE "VAB".  WHAT DOES THE "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695600" y="762120"/>
            <a:ext cx="5752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KE IT WITH YOU" AND "THE GUITA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5639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62120" y="1066680"/>
            <a:ext cx="46479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gn3yi.jpg"/>
          <p:cNvPicPr/>
          <p:nvPr/>
        </p:nvPicPr>
        <p:blipFill>
          <a:blip r:embed="rId1"/>
          <a:stretch/>
        </p:blipFill>
        <p:spPr>
          <a:xfrm>
            <a:off x="6248520" y="533520"/>
            <a:ext cx="23842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E  TH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HOT SCORES ONE POINT IN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CONTAINED THE SONG "GOOD MORNING STAR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371600" y="762120"/>
            <a:ext cx="6400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ATED A GREEK TRAG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T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STORY BY HANS CHRISTIAN ANDERSEN, WHAT DOES A CHILD REMARK THAT THE EMPEROR L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LLEST BUILDING AT KENNEDY SPACE CENTER IS THE "VAB".  WHAT DOES THE "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ID PRESIDENT LYNDON JOHNSON DECLARE WAR IN HIS 1964 STATE OF THE UNION ADD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23960" y="48769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LIN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33400" y="761760"/>
            <a:ext cx="567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KE IT WITH YOU" AND "THE GUITA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1066680"/>
            <a:ext cx="4572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gn3yi.jpg"/>
          <p:cNvPicPr/>
          <p:nvPr/>
        </p:nvPicPr>
        <p:blipFill>
          <a:blip r:embed="rId1"/>
          <a:stretch/>
        </p:blipFill>
        <p:spPr>
          <a:xfrm>
            <a:off x="6248520" y="533520"/>
            <a:ext cx="2384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HOT SCORES ONE POINT IN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CONTAINED THE SONG "GOOD MORNING STARS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ATED A GREEK TRAG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STORY BY HANS CHRISTIAN ANDERSEN, WHAT DOES A CHILD REMARK THAT THE EMPEROR LA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ID PRESIDENT LYNDON JOHNSON DECLARE WAR IN HIS 1964 STATE OF THE UNION ADD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0:37:49Z</dcterms:created>
  <dc:creator>Jennifer Budzinski</dc:creator>
  <dc:description/>
  <dc:language>en-US</dc:language>
  <cp:lastModifiedBy>Erich Friedman</cp:lastModifiedBy>
  <dcterms:modified xsi:type="dcterms:W3CDTF">2021-09-21T16:25:57Z</dcterms:modified>
  <cp:revision>441</cp:revision>
  <dc:subject/>
  <dc:title>Slide 1</dc:title>
</cp:coreProperties>
</file>