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D118-D67A-461B-AE09-A242861F7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FCD1-7D0D-4C1F-933D-9240671F6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00D9-2D27-4A1D-8AC8-5B615A6B5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5201-423B-485D-8181-61F421C37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6D88-AE8B-4F3C-BD23-3A407EE30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E797-9E58-4B4C-BFD8-420CDC545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DD83-E0C4-4F94-80A7-22EBB0E17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77B1-1C61-4505-86C2-B0FD4AE25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807A-1D56-4286-B81F-B08EA1815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6442-A0B6-48D2-A44F-75DB23F10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5237-4AF5-48CE-8840-467BB1273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B738-ABCD-44B4-B2C9-B28237180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629B-AF31-47B2-AF15-221E71294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1C71-75F3-4EC1-82FD-BE2EA0419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D0E7-760B-4CE7-8C6D-BE9214735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7688-9FAD-4DFD-8C08-6483F9302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8469-E813-46C4-8FE7-7700780A0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0223-2EF8-419A-AF81-218CE5589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1A80-0724-488B-B792-0EB6DA096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4FFF-6563-4491-886D-2EA439A9E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961C-D61B-4120-8D4A-52AD0E168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B391-98EB-4948-8925-A2E63FA75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A7B3-5646-43DD-9F7C-E28F2EA9B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MAGAZINE HAS THE LARGEST CIRCULATION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VEHICLE)  ASSEMBLY  (BUILD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ALLEST BUILDING AT KENNEDY SPACE CENTER IS THE "VAB".  WHAT DOES THE "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695600" y="762120"/>
            <a:ext cx="5752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KE IT WITH YOU" AND "THE GUITAR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5639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62120" y="1066680"/>
            <a:ext cx="464796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MUS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gn3yi.jpg"/>
          <p:cNvPicPr/>
          <p:nvPr/>
        </p:nvPicPr>
        <p:blipFill>
          <a:blip r:embed="rId1"/>
          <a:stretch/>
        </p:blipFill>
        <p:spPr>
          <a:xfrm>
            <a:off x="6248520" y="533520"/>
            <a:ext cx="23842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E  TH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HOT SCORES ONE POINT IN BASKET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CONTAINED THE SONG "GOOD MORNING STAR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371600" y="762120"/>
            <a:ext cx="6400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RRATED A GREEK TRAGE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T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STORY BY HANS CHRISTIAN ANDERSEN, WHAT DOES A CHILD REMARK THAT THE EMPEROR LA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238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ALLEST BUILDING AT KENNEDY SPACE CENTER IS THE "VAB".  WHAT DOES THE "A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V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DID PRESIDENT LYNDON JOHNSON DECLARE WAR IN HIS 1964 STATE OF THE UNION ADD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MAGAZINE HAS THE LARGEST CIRCULATION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723960" y="48769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LIN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33400" y="761760"/>
            <a:ext cx="567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KE IT WITH YOU" AND "THE GUITAR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2120" y="1066680"/>
            <a:ext cx="45720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YMBOL MEAN IN MUS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gn3yi.jpg"/>
          <p:cNvPicPr/>
          <p:nvPr/>
        </p:nvPicPr>
        <p:blipFill>
          <a:blip r:embed="rId1"/>
          <a:stretch/>
        </p:blipFill>
        <p:spPr>
          <a:xfrm>
            <a:off x="6248520" y="533520"/>
            <a:ext cx="23842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HOT SCORES ONE POINT IN BASKET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CONTAINED THE SONG "GOOD MORNING STARSH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RRATED A GREEK TRAGE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STORY BY HANS CHRISTIAN ANDERSEN, WHAT DOES A CHILD REMARK THAT THE EMPEROR LAC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DID PRESIDENT LYNDON JOHNSON DECLARE WAR IN HIS 1964 STATE OF THE UNION ADD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5T10:37:49Z</dcterms:created>
  <dc:creator>Jennifer Budzinski</dc:creator>
  <dc:description/>
  <dc:language>en-US</dc:language>
  <cp:lastModifiedBy>Erich Friedman</cp:lastModifiedBy>
  <dcterms:modified xsi:type="dcterms:W3CDTF">2021-09-21T16:25:57Z</dcterms:modified>
  <cp:revision>441</cp:revision>
  <dc:subject/>
  <dc:title>Slide 1</dc:title>
</cp:coreProperties>
</file>