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120D-1358-413D-AD0C-202B01637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7951-261B-4B81-915A-D71CB881F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E8B0-9DD1-44B2-898A-289C352DC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82D9-7C2D-47C0-8FC5-FCFEE44D8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3000-F656-4795-A12C-35793A190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B6A6-2F1D-4898-8F20-7891B6358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2F00-CF31-4BC4-8250-F14ACDBC6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3068-B103-4A37-B496-0DD444310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33FA-CA5E-452A-81C5-B8A15A870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CCA2-14C0-4A31-9E24-7BD172A3D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03AC-F8F4-43AE-AB77-FBD3C4167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2567-D756-4A8B-A7BD-3D3B936EC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A09C-D895-4F0A-B528-EB5FE1775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7E0F-2E0D-4FAA-9EB2-C54A30D3D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98F5-65CB-4FA6-BF16-F759B6FFF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08F6-D4DF-4354-990D-88DDB6DF0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663E-B0AF-4136-BB70-E2BBE2B63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4DA0-7552-4713-A28F-7CA28BF28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577A-91AE-4209-9B93-2BC81A58E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CD69-2AA3-4728-ABA6-C1F7B22C1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FF70-FED6-402D-A25C-F3DE5610F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91A0-2654-4BB0-A97E-9E8D465CC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AE40-6813-4A6F-8B7E-9E12EBA22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990360"/>
            <a:ext cx="6172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Y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98-FOOT HIGH STATUE "CHRIST THE REDEEMER" IS LOCATED IN WHAT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CITIE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00600"/>
            <a:ext cx="5790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S  ANGE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676520" y="762120"/>
            <a:ext cx="5790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GRAUMAN'S CHINESE THE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00600"/>
            <a:ext cx="82296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O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552680" y="762120"/>
            <a:ext cx="6038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SOUTH KOR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CELO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143000" y="83808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EUROPEAN CITY WAS A VAN DRIVEN INTO PEDESTRIANS KILLING 14 PEOPLE IN 201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752480" y="4800600"/>
            <a:ext cx="5639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TLAN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WORLD'S BUSIEST AIRPORT SINCE 199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0060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YD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87560" y="762120"/>
            <a:ext cx="6968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EUROPEAN SETTLEMENT IN AUSTRALI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006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TH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85800" y="76212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LATO'S ACADEMY AND ARISTOTLE'S LYCEUM WERE LOCATED IN WHAT CIT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55600" y="480060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IJ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90400" y="762120"/>
            <a:ext cx="7988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TED CITY THAT IS THE CAPITAL OF A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743120" y="762120"/>
            <a:ext cx="5657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GRAUMAN'S CHINESE THEA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104840" y="762120"/>
            <a:ext cx="693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W GARDENS IS LOCATED IN WHAT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0060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O  DE  JANEI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33520" y="762120"/>
            <a:ext cx="8153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98-FOOT HIGH STATUE "CHRIST THE REDEEMER" IS LOCATED IN WHAT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181160" y="4267080"/>
            <a:ext cx="67816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CENT  HOSTS  OF  THE  SUMMER  OLYM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09480" y="762120"/>
            <a:ext cx="8077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CITI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428840" y="761760"/>
            <a:ext cx="6286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SOUTH KORE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143000" y="76212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EUROPEAN CITY WAS A VAN DRIVEN INTO PEDESTRIANS KILLING 14 PEOPLE IN 201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447920" y="762120"/>
            <a:ext cx="6248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  TO WORLD'S BUSIEST AIRPORT SINCE 199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109520" y="761760"/>
            <a:ext cx="6924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EUROPEAN SETTLEMENT IN AUSTRAL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66720" y="762120"/>
            <a:ext cx="78105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LATO'S ACADEMY AND ARISTOTLE'S LYCEUM WERE LOCATED IN WHAT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TED CITY THAT IS THE CAPITAL OF A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W GARDENS IS LOCATED IN WHAT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8:03:49Z</dcterms:created>
  <dc:creator>Jennifer Budzinski</dc:creator>
  <dc:description/>
  <dc:language>en-US</dc:language>
  <cp:lastModifiedBy>Erich Friedman</cp:lastModifiedBy>
  <dcterms:modified xsi:type="dcterms:W3CDTF">2021-09-21T16:26:31Z</dcterms:modified>
  <cp:revision>356</cp:revision>
  <dc:subject/>
  <dc:title>Slide 1</dc:title>
</cp:coreProperties>
</file>