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E2A7-FF20-4919-8243-4B21BE9E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FFC5-6783-4322-A11B-B9653A85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78AE-8C52-4503-9F5D-D68124BAB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9780-385C-48E9-A15E-7A099AAE2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527F-F732-45C9-8526-99FA0CE54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ABE3-C300-40E2-8F40-30A5529BC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CAFE-D495-4316-9DE3-2847C8A0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35E9-8E76-4E53-ABED-C4DA81D3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56D5-7B20-4D06-9D9B-837646370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C4C4-5306-4F33-B533-3CE88EAF3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1E38-C5D0-42AB-8C5E-0B02C4447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1678-0696-4CE9-B37B-A22D54624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3F90-D04A-4E04-A516-3259C99FE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172B-842F-4AA1-8A2B-77610D71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4B29-C9F9-4B59-9AE9-D8536C8F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4476-B5FB-4867-A4A6-F4C2A585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010B-2638-43D5-B0C0-F441ABB5F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15CC-8ECC-42EF-A850-50573296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03EC-14FB-4FF6-A469-D6C49127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ADAE-1C4F-4D4D-B238-DDC594219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C1CD-699A-4737-A30D-2044378B5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56BC-7409-4F84-978C-F7C19FF5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10E2-EAE4-46C8-BD2C-554A1EEB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98-FOOT HIGH STATUE "CHRIST THE REDEEMER" IS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676520" y="762120"/>
            <a:ext cx="5790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GRAUMAN'S CHINESE THE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52680" y="762120"/>
            <a:ext cx="6038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8380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EUROPEAN CITY WAS A VAN DRIVEN INTO PEDESTRIANS KILLING 14 PEOPLE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006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WORLD'S BUSIEST AIRPORT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7560" y="762120"/>
            <a:ext cx="696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EUROPEAN SETTLEMENT IN AUSTRAL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H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TO'S ACADEMY AND ARISTOTLE'S LYCEUM WERE LOCATED IN WHAT 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556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0400" y="762120"/>
            <a:ext cx="798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THAT IS THE CAPITAL OF A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43120" y="762120"/>
            <a:ext cx="565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GRAUMAN'S CHINESE THE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W GARDENS IS LOCATED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  DE  JAN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98-FOOT HIGH STATUE "CHRIST THE REDEEMER" IS LOCATED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81160" y="4267080"/>
            <a:ext cx="6781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CENT  HOSTS  OF  THE  SUMMER  OLYM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28840" y="761760"/>
            <a:ext cx="6286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SOUTH KO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EUROPEAN CITY WAS A VAN DRIVEN INTO PEDESTRIANS KILLING 14 PEOPLE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  TO WORLD'S BUSIEST AIRPORT SINCE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09520" y="761760"/>
            <a:ext cx="6924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EUROPEAN SETTLEMENT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TO'S ACADEMY AND ARISTOTLE'S LYCEUM WERE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THAT IS THE CAPITAL OF A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W GARDENS IS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1-09-21T16:26:31Z</dcterms:modified>
  <cp:revision>356</cp:revision>
  <dc:subject/>
  <dc:title>Slide 1</dc:title>
</cp:coreProperties>
</file>