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6BD2-461F-4917-808B-65721D501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34D9-CF19-476F-9347-32CEF1908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13CE-F0F8-4369-92D5-D8700EC3A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D0BE-1FDC-47F3-9BD5-EA4EB3A0C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3FDD-958B-4533-B0C7-111938249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2D9C-7716-49E3-BF92-33E68C2F2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12E9-6C8B-46C8-8CE4-6C123ACB1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0512-9517-4679-9E90-3EC0C912C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F108-2ADF-440B-8658-B222D96FD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29C8-B9F5-4B8E-82FD-85D52EF04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FF96-0A35-4609-AC4E-B2070CC72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7AEC-4D41-4C62-881E-4A244207A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3C50-CB6F-419D-BEAD-BD17616CE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C26A-2094-43E8-AC08-C1C7ABABD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B548-BA37-4D20-90DF-452FDA887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ACE5-4E74-4016-BA51-ED965F1ED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D835-568A-4C2C-BD15-9082D9489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9C75-442B-440B-9773-0DE626729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ED10-5A1A-4786-BF3A-8070296BE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E7F8-9F7A-401C-8597-3910F73CF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368F-A590-46FA-89FA-14B46318D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D3D2-0EA9-461B-8E64-5717D0526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EB4B-A4D1-4EB0-9B0B-46E122694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0218-6905-47C5-9E83-06E1EBB86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61920" y="762120"/>
            <a:ext cx="7220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WETO USED TO BE AN ACRONYM FOR "SOUTH-WESTERN TOWNSHIPS" OF WHAT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28760" y="761760"/>
            <a:ext cx="8286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LM "BLACK HAWK DOWN" WAS SET IN WHAT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CITIE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C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066680" y="762120"/>
            <a:ext cx="70106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WAS THE PROPHET MUHAMMAD BOR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DR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390600" y="762120"/>
            <a:ext cx="8362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THE HOME OF THE HIGHEST EARNING SOCCER CLUB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YEONGCHA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971640" y="765000"/>
            <a:ext cx="720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HOSTED THE 2018 WINTER OLYMP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MAS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47640" y="75420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MENTIONED IN GENESIS USED TO BE  CONSIDERED THE OLDEST CITY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CKHOL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676440" y="762120"/>
            <a:ext cx="7791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HOSTS THE ANNUAL AWARDING OF NOBEL PRIZ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ÜR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571680" y="762120"/>
            <a:ext cx="80010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CONSIDERED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COMPETITIVE FINANCIAL CENTER OF EUROPE, AFTER LOND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485720" y="990360"/>
            <a:ext cx="6172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LD CITIES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LGR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CAPITAL OF YUGOSLAV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ANNESBU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971640" y="762120"/>
            <a:ext cx="7200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WETO USED TO BE AN ACRONYM FOR "SOUTH-WESTERN TOWNSHIPS" OF WHAT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GADISH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495360" y="762120"/>
            <a:ext cx="8153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LM "BLACK HAWK DOWN" WAS SET IN WHAT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533520" y="4343400"/>
            <a:ext cx="8076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CATED  IN  COUNTRIES  WHOSE  NAMES  START  WITH  "S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CITI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WAS THE PROPHET MUHAMMAD BOR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THE HOME OF THE HIGHEST EARNING SOCCER CLUB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076400" y="762120"/>
            <a:ext cx="6991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HOSTED THE 2018 WINTER OLYMP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38280" y="762120"/>
            <a:ext cx="7867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MENTIONED IN GENESIS USED TO BE  CONSIDERED THE OLDEST CITY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428840" y="762120"/>
            <a:ext cx="6286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HOSTS THE ANNUAL AWARDING OF NOBEL PRIZE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6280" y="761760"/>
            <a:ext cx="8191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CONSIDERED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COMPETITIVE FINANCIAL CENTER OF EUROPE, AFTER LOND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62080" y="761760"/>
            <a:ext cx="6819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CAPITAL OF YUGOSLAV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9-19T01:13:15Z</dcterms:modified>
  <cp:revision>377</cp:revision>
  <dc:subject/>
  <dc:title>Slide 1</dc:title>
</cp:coreProperties>
</file>