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D296-B70E-45FA-BAC8-C945E977C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D657-A6FE-4925-9DEC-189B601BD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8393-F6A1-4E53-AF0B-7FCE2BC33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9F84-33E2-4D06-B58B-5255D3435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66D4-56B0-422D-A9F9-A6763815A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AC73-9A4B-47E3-AA3B-931233D5D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9FD6-2565-499C-AD06-646342949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6E5A-B68B-4E7B-BE2C-89355CBF0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3D80-9989-40D3-BE30-456A88E67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21E9-4117-4379-841E-6645A924F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B81D-E04E-4A51-8023-A45D9154E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3E1C-D234-4DB9-99AD-3074699EA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E50C-4F17-4260-B551-7FE94BCD1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07C2-7FE1-4956-8066-071E58718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50FA-4F49-49E2-8AE8-07DD47298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C046-E733-4634-8C84-688C158EB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17D1-C086-4E41-A52D-9616030BA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B877-EE73-4861-A2B6-3B7D05DAA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FE10-A9D9-4841-9CC3-4FB5B635C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6BCF-D940-4D1D-B490-2EB821974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CA33-CC8F-4EE2-8135-B159AB148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AB75-FA11-46F0-A8B2-8AB735CE9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09D0-A027-4A6E-BC57-6D7C6213F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6252-A7F8-45C8-84AF-1DD617361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WETO USED TO BE AN ACRONYM FOR "SOUTH-WESTERN TOWNSHIPS" OF WHAT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28760" y="761760"/>
            <a:ext cx="8286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BLACK HAWK DOWN" WAS SET IN WHAT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ITIE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C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066680" y="762120"/>
            <a:ext cx="7010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WAS THE PROPHET MUHAMMAD B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R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90600" y="762120"/>
            <a:ext cx="8362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HOME OF THE HIGHEST EARNING SOCCER CLUB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YEONGCH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71640" y="76500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HOSTED THE 2018 WINT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MAS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47640" y="75420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MENTIONED IN GENESIS USED TO BE  CONSIDERED THE OLDEST CIT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CKHO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76440" y="762120"/>
            <a:ext cx="7791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HOSTS THE ANNUAL AWARDING OF NOBEL PRIZ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ÜR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71680" y="762120"/>
            <a:ext cx="8001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CONSIDERED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COMPETITIVE FINANCIAL CENTER OF EUROPE, AFTER LON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85720" y="9903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LD CITIES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G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APITAL OF YUGOSLAV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ESBU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71640" y="762120"/>
            <a:ext cx="7200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WETO USED TO BE AN ACRONYM FOR "SOUTH-WESTERN TOWNSHIPS" OF WHAT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GADIS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BLACK HAWK DOWN" WAS SET IN WHAT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533520" y="434340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CATED  IN  COUNTRIES  WHOSE  NAMES  START  WITH  "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IT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WAS THE PROPHET MUHAMMAD B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HOME OF THE HIGHEST EARNING SOCCER CLUB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76400" y="762120"/>
            <a:ext cx="6991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HOSTED THE 2018 WINT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38280" y="762120"/>
            <a:ext cx="786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MENTIONED IN GENESIS USED TO BE  CONSIDERED THE OLDEST CITY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428840" y="762120"/>
            <a:ext cx="6286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HOSTS THE ANNUAL AWARDING OF NOBEL PRIZ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CONSIDERED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COMPETITIVE FINANCIAL CENTER OF EUROPE, AFTER LON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62080" y="761760"/>
            <a:ext cx="6819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APITAL OF YUGOSLAV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19T01:13:15Z</dcterms:modified>
  <cp:revision>377</cp:revision>
  <dc:subject/>
  <dc:title>Slide 1</dc:title>
</cp:coreProperties>
</file>