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15E-23CF-4D9A-998B-E311D67CF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A56E-18C4-49A4-9871-6DBEDE570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D977-21CE-4300-B5D4-A1E6AB92B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C90A-4A69-4843-8D9E-CA631F38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857-C90C-4F57-A8B0-F6167EAC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5EEA-D45D-44E1-BB6A-430FCC20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669-C8A7-48B3-8A79-0D38F328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62D3-FF8C-4CF0-8948-51FD09630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F57B-BC2D-4169-A47A-9DB651A9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D5F-F253-47EF-B222-898E7395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9C21-26D2-4F27-B3A9-776D51AD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EFF8-CC39-40C2-A30A-FFDAEE06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275F-882E-4ED5-9B44-B61424AAB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AE0A-62AA-4A4C-8AB3-9504D9F8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8D46-D3BA-4AF3-83A1-D3DD0180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FB7F-8386-4A0B-8ECA-BFAF371F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7CF1-2E08-4E8C-9C91-BF6C4C6CE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D0C-8CC8-4131-A5A9-1B1ECE5B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0C7-DE4B-4BB5-8D41-87E0569A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435-8911-49E6-A95C-30B95D2F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C3F8-913A-4D5D-A5BF-C69EF4FA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C321-D441-4F3B-94A2-A9158203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74D2-9916-4E69-A49F-F65087E24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7160" y="762120"/>
            <a:ext cx="8689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A MID-SIZED TWIN OF THE MERCURY SABLE 1986-2007 BUT HAS BEEN A FULL-SIZED CAR EVER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52440" y="762120"/>
            <a:ext cx="8439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DWINDLING GLOBAL SUPPLIES, MACY'S STILL USES 300,000 CUBIC FEET OF WHAT GAS EVERY THANKSGIVING FOR ITS BIG PA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76320" y="762120"/>
            <a:ext cx="7191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ICH MONTH OF THE YEAR IS BLACK HISTORY MONTH CELEBR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85640" y="762120"/>
            <a:ext cx="817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VITAMINS INCLUDES THIAMINE, RIBOFLAVIN, AND NIAC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OD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ALBUM 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VOTE AS THE BEST ALBUM OF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09600" y="762120"/>
            <a:ext cx="67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TO RESIDE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82800" y="762120"/>
            <a:ext cx="71769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OF THE DUTCH BAND SHOCKING B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1400" y="762120"/>
            <a:ext cx="780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-HOST OF THE CBS SHOW "THE TALK" WON THE FIRST GRAMMY AWARD FOR BEST RAP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DWINDLING GLOBAL SUPPLIES, MACY'S STILL USES 300,000 CUBIC FEET OF WHAT GAS EVERY THANKSGIVING FOR ITS BIG PAR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95200" y="762120"/>
            <a:ext cx="855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EARNED A DOCTOR OF SCIENCE FROM M.I.T., EARNING HIM THE NICKNAME "DR. RENDEZVO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6040" y="762120"/>
            <a:ext cx="879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A MID-SIZED TWIN OF THE MERCURY SABLE 1986-2007 BUT HAS BEEN A FULL-SIZED CAR EVER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4840" y="43434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KNOWN  FOR  BEING  SECOND  ON  SOME 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MONTH OF THE YEAR IS BLACK HISTORY MONTH CELEBR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7440" y="762120"/>
            <a:ext cx="8167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VITAMINS INCLUDES THIAMINE, RIBOFLAVIN, AND NIAC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ALBUM 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VOTE AS THE BEST ALBUM OF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TO RESIDE IN THE WHITE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1840" y="761760"/>
            <a:ext cx="742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OF THE DUTCH BAND SHOCKING B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360" y="762120"/>
            <a:ext cx="7791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-HOST OF THE CBS SHOW "THE TALK" WON THE FIRST GRAMMY AWARD FOR BEST RAP COLLABOR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7960" y="762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EARNED A DOCTOR OF SCIENCE FROM M.I.T., EARNING HIM THE NICKNAME "DR. RENDEZVO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1-09-19T01:15:45Z</dcterms:modified>
  <cp:revision>432</cp:revision>
  <dc:subject/>
  <dc:title>Slide 1</dc:title>
</cp:coreProperties>
</file>