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0DB0-E3B2-47AC-9A5B-4BBC4783B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209F-EAB2-40D2-9AA3-902A5DA4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2294-6A07-4EDD-81F1-F5FA274DD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B879-AF78-490F-A125-A5FEC8BF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3238-48B7-425E-A4A7-7D1E6B11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D458-6B71-459F-96FC-5A456C72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055-5D3A-4A8D-967D-31B99ACB5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9DDE-95CD-4472-89F8-7D59683DE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2DA-8DDA-4573-9ED4-24AB4BEB3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4105-0CC5-4ABB-AC69-4E416E759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36BB-E36A-43BF-A331-276907419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32F-6F26-443E-B0FD-177EB4F7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CDF8-0E81-41E2-978C-21172D7FE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2D9A-303F-452E-AE2C-CC46125D8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F58C-80A3-4A2B-A3C1-D3662C410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05F-7B8A-4379-915E-BF2D5BA4C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64D-85F2-468C-B820-8D564C94C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0EA0-5C2F-4F2E-95D4-951E0278F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11BA-9E51-449F-89B1-972E35B8B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B2A9-7076-452F-B628-1F56CFF8B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2733-9F64-4CFC-9B12-58A95CFF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486E-F328-4884-A662-9119A1E6A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DA69-9E95-4A36-847B-474355715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7160" y="762120"/>
            <a:ext cx="8689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A MID-SIZED TWIN OF THE MERCURY SABLE 1986-2007 BUT HAS BEEN A FULL-SIZED CAR EVER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52440" y="762120"/>
            <a:ext cx="8439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DWINDLING GLOBAL SUPPLIES, MACY'S STILL USES 300,000 CUBIC FEET OF WHAT GAS EVERY THANKSGIVING FOR ITS BIG PAR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76320" y="762120"/>
            <a:ext cx="7191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ICH MONTH OF THE YEAR IS BLACK HISTORY MONTH CELEBRAT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85640" y="762120"/>
            <a:ext cx="817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VITAMINS INCLUDES THIAMINE, RIBOFLAVIN, AND NIAC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OD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ALBUM 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VOTE AS THE BEST ALBUM OF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09600" y="762120"/>
            <a:ext cx="6724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TO RESIDE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82800" y="762120"/>
            <a:ext cx="71769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OF THE DUTCH BAND SHOCKING B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1400" y="762120"/>
            <a:ext cx="780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-HOST OF THE CBS SHOW "THE TALK" WON THE FIRST GRAMMY AWARD FOR BEST RAP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DWINDLING GLOBAL SUPPLIES, MACY'S STILL USES 300,000 CUBIC FEET OF WHAT GAS EVERY THANKSGIVING FOR ITS BIG PAR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95200" y="762120"/>
            <a:ext cx="855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EARNED A DOCTOR OF SCIENCE FROM M.I.T., EARNING HIM THE NICKNAME "DR. RENDEZVO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6040" y="762120"/>
            <a:ext cx="879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WAS A MID-SIZED TWIN OF THE MERCURY SABLE 1986-2007 BUT HAS BEEN A FULL-SIZED CAR EVER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4840" y="43434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KNOWN  FOR  BEING  SECOND  ON  SOME  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MONTH OF THE YEAR IS BLACK HISTORY MONTH CELEBR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7440" y="762120"/>
            <a:ext cx="8167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VITAMINS INCLUDES THIAMINE, RIBOFLAVIN, AND NIAC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MARLEY ALBUM 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VOTE AS THE BEST ALBUM OF  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TO RESIDE IN THE WHITE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1840" y="761760"/>
            <a:ext cx="742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OF THE DUTCH BAND SHOCKING B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360" y="762120"/>
            <a:ext cx="7791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-HOST OF THE CBS SHOW "THE TALK" WON THE FIRST GRAMMY AWARD FOR BEST RAP COLLABOR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7960" y="762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EARNED A DOCTOR OF SCIENCE FROM M.I.T., EARNING HIM THE NICKNAME "DR. RENDEZVO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1-09-19T01:15:45Z</dcterms:modified>
  <cp:revision>432</cp:revision>
  <dc:subject/>
  <dc:title>Slide 1</dc:title>
</cp:coreProperties>
</file>