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F627-FA09-4F38-A2C4-592F2F2D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2163-1D08-4E29-88A8-771C87FA0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EFBD-E87F-4AB2-BA5E-DC6F25890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7474-DC91-454C-8279-0CA76F63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3708-6F13-4BEA-B79A-F6D468696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A271-40F9-43D5-9E84-C7B9B6B3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EC54-13B1-483F-9E51-EBA6BE40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73A6-F276-43A3-9BC0-C3320F00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19BC-836F-4AF6-90E3-3CD1031B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B17D-35CC-468B-9C96-0F9048DF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4323-0D06-491F-98B2-F0180CA3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D2B-50CA-4EAF-B2D5-8CAFB86E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17F0-1085-4050-B459-875A44C99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B68A-48A2-43BE-8614-6391BB620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2C7E-98AE-47BE-8653-B0149B74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CE1-2FA9-420C-A0FB-95935C51E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FA42-F28B-4D95-AA42-D6A18BF7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28BB-5E30-4F99-9D68-1D7E4D402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A1CB-4250-4053-A9AB-6784E70B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1EA8-FBDB-48E6-8571-0AB139D3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1A1-A90D-4DA0-A42C-BE3E52F2C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3BB5-B3D0-4C8B-81AC-914A0312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462A-FE0E-419B-9490-47AD26BB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BROADCASTING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33640" y="762120"/>
            <a:ext cx="687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DISNEY UNIVERSE, WHO IS THE PARTNER OF LILO PELEKA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S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1600" y="762120"/>
            <a:ext cx="874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TANT SUPERVILLAIN WAS PLAYED BY JENNIFER LAWRENCE IN 4 "X-ME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SH IN "FINDING NEMO" HAS HER NAME IN THE TITLE OF THE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KIE  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PISODE OF "SESAME STREET", WHAT MUPPET TOOK BITES FROM A "W", MAKING IT AN "N", THEN A "V", THEN AN "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U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4840" y="762120"/>
            <a:ext cx="87328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HARACTERS POPULAR IN THE U.S. BEGAN IN BELGIUM AS LES SCHTOUMP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RY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4800" y="762120"/>
            <a:ext cx="8472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VAN GOGH PAINTING DEPICTS THE VIEW FROM THE LUNATIC ASYLUM AFTER HE MUTILATED HIS 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5840" y="762120"/>
            <a:ext cx="67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DISNEY UNIVERSE, WHO IS THE PARTNER OF LILO PELEKA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18960" y="762120"/>
            <a:ext cx="850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9560" y="762120"/>
            <a:ext cx="7723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BROADCASTING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TANT SUPERVILLAIN WAS PLAYED BY JENNIFER LAWRENCE IN 4 "X-ME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SH IN "FINDING NEMO" HAS HER NAME IN THE TITLE OF THE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PISODE OF "SESAME STREET", WHAT MUPPET TOOK BITES FROM A "W", MAKING IT AN "N", THEN A "V", THEN AN "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HARACTERS POPULAR IN THE U.S. BEGAN IN BELGIUM AS LES SCHTOUMP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1160" y="762120"/>
            <a:ext cx="85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VAN GOGH PAINTING DEPICTS THE VIEW FROM THE LUNATIC ASYLUM AFTER HE MUTILATED HIS 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1-02-07T10:54:48Z</dcterms:modified>
  <cp:revision>429</cp:revision>
  <dc:subject/>
  <dc:title>Slide 1</dc:title>
</cp:coreProperties>
</file>