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0F2-3A8B-48C8-A2D2-A196DF25B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703-0B29-46C3-866E-DDA3E345A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AAC6-B099-4A1A-BA36-6B5C5F463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3666-47B1-419A-A35F-6FAD76D8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CB05A-53C0-4991-BC79-2E4E5070B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14967-C8EC-4D0B-9D21-9546D04DD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A20C-9694-448C-B7E4-8BE4A81D1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A2AF-3CA1-4AE5-8243-D81BFDEC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1DF-07AC-43D8-977B-8EEA5D1D7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1B72-31DE-4DB6-BFD4-B8D3AF63C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941E-FC41-45FA-83AF-331FAED38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DCEE-E565-4047-A9AE-81EF66FC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941B-7A37-4A8F-9E17-9969B40D20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0D8-0F02-4878-9A5F-788511108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9CD6-7411-4AA1-A8FC-FA04F4DF2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9BAB-2BD1-43A6-AA40-F509E8CB2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328D-C7B0-461C-908C-6E1C082E5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0B05-1687-4176-9222-417225C88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7E3B-4807-4A38-90AF-C2533671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1348D-A421-4321-B07A-43F43ED0D3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1583-135E-4F63-8A21-7A8A51458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9F9F6-EDF3-4DF1-8324-5723A8169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E546-8B27-41CE-B966-90AD313E5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58800" y="762120"/>
            <a:ext cx="7826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BROADCASTING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133640" y="762120"/>
            <a:ext cx="6876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DISNEY UNIVERSE, WHO IS THE PARTNER OF LILO PELEKA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371600" y="4876920"/>
            <a:ext cx="6400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STI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01600" y="762120"/>
            <a:ext cx="874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TANT SUPERVILLAIN WAS PLAYED BY JENNIFER LAWRENCE IN 4 "X-MEN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23960" y="762120"/>
            <a:ext cx="7696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SH IN "FINDING NEMO" HAS HER NAME IN THE TITLE OF THE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OKIE  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90440" y="762120"/>
            <a:ext cx="8763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PISODE OF "SESAME STREET", WHAT MUPPET TOOK BITES FROM A "W", MAKING IT AN "N", THEN A "V", THEN AN "I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PTU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MU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04840" y="762120"/>
            <a:ext cx="87328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HARACTERS POPULAR IN THE U.S. BEGAN IN BELGIUM AS LES SCHTOUMP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RRY  N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34800" y="762120"/>
            <a:ext cx="8472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VAN GOGH PAINTING DEPICTS THE VIEW FROM THE LUNATIC ASYLUM AFTER HE MUTILATED HIS E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185840" y="762120"/>
            <a:ext cx="6772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DISNEY UNIVERSE, WHO IS THE PARTNER OF LILO PELEKA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18960" y="762120"/>
            <a:ext cx="8506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K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9560" y="762120"/>
            <a:ext cx="7723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EUROPE'S LARGEST BROADCASTING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INGS  THAT  ARE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TANT SUPERVILLAIN WAS PLAYED BY JENNIFER LAWRENCE IN 4 "X-MEN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SH IN "FINDING NEMO" HAS HER NAME IN THE TITLE OF THE SEQU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762120"/>
            <a:ext cx="8785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EPISODE OF "SESAME STREET", WHAT MUPPET TOOK BITES FROM A "W", MAKING IT AN "N", THEN A "V", THEN AN "I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ARTHEST PLANET FROM THE SU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14200" y="761760"/>
            <a:ext cx="8715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TOON CHARACTERS POPULAR IN THE U.S. BEGAN IN BELGIUM AS LES SCHTOUMP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81160" y="762120"/>
            <a:ext cx="8581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AMOUS VAN GOGH PAINTING DEPICTS THE VIEW FROM THE LUNATIC ASYLUM AFTER HE MUTILATED HIS E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5920" y="762120"/>
            <a:ext cx="837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1-02-07T10:54:48Z</dcterms:modified>
  <cp:revision>429</cp:revision>
  <dc:subject/>
  <dc:title>Slide 1</dc:title>
</cp:coreProperties>
</file>