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87C1-02A1-4835-A27E-BA540F125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DFD6-0E37-417D-B585-D51238ACC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8C98-F8B0-454B-B5E5-8D0A3B6EF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4B3D-BE96-4B7C-BA38-395AC8B5A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90E1-4FD4-46F2-BC0A-A1FA0E3D7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9E48-B746-4A1D-BA64-F74D47499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0E74-6368-45AA-99FC-ACA4CB65B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6111-972C-4B3D-B7F8-3C8D47181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EE72-D829-405F-A0FF-19CB6BADC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B55C-34D7-4444-B82A-12A10E015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E137-FEBC-4B0C-9C93-8BE2100C3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FAA4-B8DC-467F-A17B-CD266849A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5766-FEFB-4B3C-A0C6-6E2315268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182F-0A5A-42D4-8786-20A75BFA5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C1D2-72DF-457B-8851-43117A237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A5FA-0CC8-421E-BAE2-91BCB6463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F9AF-4308-42F2-A5A1-762ED0F70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9804-DA1C-4CC5-BF7C-ED03AF7D3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FC0C-4BE3-4312-B3E3-99801E5E1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BCD5-81F1-4EF7-872F-2132FA59D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79DC-FB9C-4F48-8C30-A22B09E26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57DA-2687-432A-B152-E7F175E56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BC02-823F-4237-B12D-FEC5F7C14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44120" y="762120"/>
            <a:ext cx="7653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 COMING-OF-AGE FILM STARS JONAH HILL AND MICHAEL CER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L SINGER PUT OUT ALBUMS WITH TITLES OF THE ALL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K  (DIFFER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04720" y="762120"/>
            <a:ext cx="8134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WAS THE SLOGAN OF THOMAS J. WATSON, CEO OF IBM, WHICH WAS ALSO THE FIRST WORD OF APPLE COMPUTER'S SLO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T  P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04720" y="762120"/>
            <a:ext cx="8134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TERM FIRST USED BY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MEN'S WEAR DAIL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1970 TO DESCRIBE LUXURIOUS SHORTS CAME TO MEAN ANY PAIR OF EXTREMELY SHORT SHOR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W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85640" y="762120"/>
            <a:ext cx="8172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MIUM CABLE CHANNEL SHOWS THE SERIES "HOMELAND", "SHAMELESS", AND "BILLIO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D  SW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70 FILM DOES CHARLES BRONSON'S WIFE LIV ULLMANN GET KIDNAPPED IN FR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L  (773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66880" y="762120"/>
            <a:ext cx="7410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CALCULATOR, WHAT NAUGHTY WORD DOES THE RESULT OF 2×3×1289 LOOK LIKE UPSIDE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19120" y="762120"/>
            <a:ext cx="810576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LEBRITY MAGAZINE PUTS OUT AN ANNUAL "SEXIEST MAN ALIVE" ISS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N–S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33320" y="762120"/>
            <a:ext cx="7677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DOES LIAM NEESON PLAY AN AIR MARSHALL WHO MUST FIND A KILLER ABOARD A FL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80960" y="762120"/>
            <a:ext cx="8182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WAS THE SLOGAN OF THOMAS J. WATSON, CEO OF IBM, WHICH WAS ALSO THE FIRST WORD OF APPLE COMPUTER'S SLOG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61880" y="762120"/>
            <a:ext cx="8220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3 FILM DO SANDRA BULLOCK AND GEORGE CLOONEY PLAY ASTRONAUTS STRANDED IN SP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B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11080" y="762120"/>
            <a:ext cx="7521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 COMING-OF-AGE FILM STARS JONAH HILL AND MICHAEL CE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28600" y="48769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80880" y="762120"/>
            <a:ext cx="8382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L SINGER PUT OUT ALBUMS WITH TITLES OF THE ALL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TERM FIRST USED BY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MEN'S WEAR DAIL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1970 TO DESCRIBE LUXURIOUS SHORTS CAME TO MEAN ANY PAIR OF EXTREMELY SHORT SHORT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87440" y="762120"/>
            <a:ext cx="8167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MIUM CABLE CHANNEL SHOWS THE SERIES "HOMELAND", "SHAMELESS", AND "BILLIO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65080" y="762120"/>
            <a:ext cx="7413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70 FILM DOES CHARLES BRONSON'S WIFE LIV ULLMANN GET KIDNAPPED IN FR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3120" y="762120"/>
            <a:ext cx="7457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CALCULATOR, WHAT NAUGHTY WORD DOES THE RESULT OF 2×3×1289 LOOK LIKE UPSIDE D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LEBRITY MAGAZINE PUTS OUT AN ANNUAL "SEXIEST MAN ALIVE" ISS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66360" y="762120"/>
            <a:ext cx="7791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DOES LIAM NEESON PLAY AN AIR MARSHALL WHO MUST FIND A KILLER ABOARD A FL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3 FILM DO SANDRA BULLOCK AND GEORGE CLOONEY PLAY ASTRONAUTS STRANDED IN SP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1-09-19T01:22:24Z</dcterms:modified>
  <cp:revision>433</cp:revision>
  <dc:subject/>
  <dc:title>Slide 1</dc:title>
</cp:coreProperties>
</file>