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27E8-AEC2-459C-9497-A777C36DC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9504-D35C-4078-8931-4BE2328F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529F-95D6-4C1C-8128-892B0BB4D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2A0B-9617-40F7-A8E9-F2AA31096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8CF5-6B40-4020-86BC-D73F6B13E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D140-AD04-4DCD-B963-AAC88D11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4DB9-4EED-469B-B2C1-6CB338F2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D787-6A16-4F0C-A591-DBEAB71B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2193-945A-4837-B7CD-8E01D8BA2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A165-510C-432F-B718-10DC28F0F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1878-088F-4A3D-8439-826C621E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75B0-920D-4046-BEA0-D325DAC26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A254-A42A-4C41-8436-BE8F57E23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793D-8C2F-49FF-815B-1B10B53E4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9A6F-4F6A-40CB-B07F-DA07475E2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96EE-BBB1-4B63-8994-06B65ECFB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9992-991E-4875-8BD6-D2CD3DD35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D7D6-DB7C-46C6-9AE0-F263CD39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74FE-6F0E-488A-AFC6-C68C2F71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0D8E-190E-49FF-8BE0-D18F9E291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9EC-2D3D-40CB-A221-D7FC22282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BE29-DDF5-49E7-98E9-584D8D0B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E421F-AB98-4813-BA12-CE45D3CF2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COMING-OF-AGE FILM STARS JONAH HILL AND MICHAEL CE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SINGER PUT OUT ALBUMS WITH TITLES OF THE ALL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K  (DIFFER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04720" y="762120"/>
            <a:ext cx="813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THE SLOGAN OF THOMAS J. WATSON, CEO OF IBM, WHICH WAS ALSO THE FIRST WORD OF APPLE COMPUTER'S SL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04720" y="762120"/>
            <a:ext cx="813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ERM FIRST USED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MEN'S WEAR DAI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1970 TO DESCRIBE LUXURIOUS SHORTS CAME TO MEAN ANY PAIR OF EXTREMELY SHORT SHOR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85640" y="762120"/>
            <a:ext cx="8172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MIUM CABLE CHANNEL SHOWS THE SERIES "HOMELAND", "SHAMELESS", AND "BILL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  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0 FILM DOES CHARLES BRONSON'S WIFE LIV ULLMANN GET KIDNAPPED IN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  (77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6880" y="762120"/>
            <a:ext cx="741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ALCULATOR, WHAT NAUGHTY WORD DOES THE RESULT OF 2×3×1289 LOOK LIKE UPSIDE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19120" y="762120"/>
            <a:ext cx="81057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BRITY MAGAZINE PUTS OUT AN ANNUAL "SEXIEST MAN ALIVE" ISS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N–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3320" y="762120"/>
            <a:ext cx="767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LIAM NEESON PLAY AN AIR MARSHALL WHO MUST FIND A KILLER ABOARD A FL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THE SLOGAN OF THOMAS J. WATSON, CEO OF IBM, WHICH WAS ALSO THE FIRST WORD OF APPLE COMPUTER'S SL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1880" y="762120"/>
            <a:ext cx="82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3 FILM DO SANDRA BULLOCK AND GEORGE CLOONEY PLAY ASTRONAUTS STRANDED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COMING-OF-AGE FILM STARS JONAH HILL AND MICHAEL C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0880" y="762120"/>
            <a:ext cx="8382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SINGER PUT OUT ALBUMS WITH TITLES OF THE ALL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ERM FIRST USED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MEN'S WEAR DAIL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 1970 TO DESCRIBE LUXURIOUS SHORTS CAME TO MEAN ANY PAIR OF EXTREMELY SHORT SHOR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7440" y="762120"/>
            <a:ext cx="8167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MIUM CABLE CHANNEL SHOWS THE SERIES "HOMELAND", "SHAMELESS", AND "BILL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5080" y="762120"/>
            <a:ext cx="741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0 FILM DOES CHARLES BRONSON'S WIFE LIV ULLMANN GET KIDNAPPED IN F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3120" y="762120"/>
            <a:ext cx="745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ALCULATOR, WHAT NAUGHTY WORD DOES THE RESULT OF 2×3×1289 LOOK LIKE UPSIDE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BRITY MAGAZINE PUTS OUT AN ANNUAL "SEXIEST MAN ALIVE" ISS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360" y="762120"/>
            <a:ext cx="7791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LIAM NEESON PLAY AN AIR MARSHALL WHO MUST FIND A KILLER ABOARD A FL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3 FILM DO SANDRA BULLOCK AND GEORGE CLOONEY PLAY ASTRONAUTS STRANDED IN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1-09-19T01:22:24Z</dcterms:modified>
  <cp:revision>433</cp:revision>
  <dc:subject/>
  <dc:title>Slide 1</dc:title>
</cp:coreProperties>
</file>