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802B-5BDA-42F0-8435-DE32D72D5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C150-EF49-41E7-928B-7F34B5B0C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BDF4-64E3-427D-A5D5-A19744CE5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4835-5EF6-4BCB-869B-651F5DE02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C5B5-8FBE-4133-AA72-A4BB6F00F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F185-9D7B-4CF2-836F-74AE247D5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BF54-227D-4C6C-BD1C-E30C1CCFE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F5CE-9998-4AF3-BDA0-15ADAE7E8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DCCD-A843-4ADD-B050-F91943E1F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1944-48A5-4A22-9902-C684C8ECA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60CF-C76F-44CD-8F7D-B3B715F94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1F47-AA65-4CC5-A070-EF0730702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4D1F-A037-4DAD-BDF6-4C0B26EC2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B919-364D-4236-9120-14FAB7735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72CD-6A39-4A57-A50B-17D9990BF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8940-BAB6-411C-8244-FC24916D3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A0F3-11B8-4CE0-BFA8-3BE2842ED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DD73-6DEC-4C55-B61C-10B26521A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E332-5006-40C9-B1B5-A373C9C23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FD92-7668-4EA4-8B3B-938C10B64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5F22-EC8E-4041-93B8-126A33728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D893-99AC-4F8C-9437-B80E5B2DB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1CE4-2295-4478-A2EA-BC3B65D46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OTAGONIST OF PHILIP KERR'S SERIES OF 14 NOVELS ABOUT WWII AND THE COLD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ICA  LEWIN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INTERN WHO HAD AN AFFAIR WITH BILL CLIN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S  PE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IRD PARTY PRESIDENTIAL CANDIDATE WHO GOT 19% OF THE VOTE IN 199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62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Y  BI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 THE "RAT PACK" WITH FRANK SINATRA, DEAN MARTIN, SAMMY DAVIS JR., AND PETER LAW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THE MAN WHO SHOT JOHN F. KENN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IS  JO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7472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ERCEDES BENZ" AND "ME AND BOBBY MCG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9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BE 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OETRY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HEL  MAD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OST OF THE MOST POPULAR NEWS SHOW ON MSN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INTERN WHO HAD AN AFFAIR WITH BILL CLIN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NDLER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ING SACKER FOR THE ARIZONA CARDINALS, WHO PLAYED IN THE 2015 AND 2017 PRO BOWL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GUN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OTAGONIST OF PHILIP KERR'S SERIES OF 14 NOVELS ABOUT WWII AND THE COLD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3434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NAMES  ARE  CHARACTERS  ON  THE  TV  SHOW  "FRIEND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IRD PARTY PRESIDENTIAL CANDIDATE WHO GOT 19% OF THE VOTE IN 199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 THE "RAT PACK" WITH FRANK SINATRA, DEAN MARTIN, SAMMY DAVIS JR., AND PETER LAW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THE MAN WHO SHOT JOHN F. KENN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ERCEDES BENZ" AND "ME AND BOBBY MCG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OETRY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OST OF THE MOST POPULAR NEWS SHOW ON MSN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ING SACKER FOR THE ARIZONA CARDINALS, WHO PLAYED IN THE 2015 AND 2017 PRO BOWL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8T22:16:09Z</dcterms:created>
  <dc:creator>Jennifer Budzinski</dc:creator>
  <dc:description/>
  <dc:language>en-US</dc:language>
  <cp:lastModifiedBy>Erich Friedman</cp:lastModifiedBy>
  <dcterms:modified xsi:type="dcterms:W3CDTF">2020-08-24T18:14:00Z</dcterms:modified>
  <cp:revision>375</cp:revision>
  <dc:subject/>
  <dc:title>Slide 1</dc:title>
</cp:coreProperties>
</file>