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343-C133-4DCC-9D58-9F213BFBA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E31-9EA6-4DB4-8694-3E971947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E13-D727-4A5C-95B5-D4FEE166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50F-B32A-41EE-9168-0F641240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D1B-2BE0-410E-AF98-AAA6BE67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5863-4C0F-41F1-A87F-92FAD36DC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B34F-96F9-475A-A0F7-C6C3EDF8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0ED7-E158-4514-A683-90EFC736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102-89EC-4492-9CAD-BFDECA5E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631F-40B2-41FD-84C8-9CCBCD6C0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727-DB7E-4FB6-9BB4-1B427A53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81AD-DEEE-46BA-BB09-3D2B83DB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B55-E677-48FF-8E0C-D0B369B6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55A9-552D-403F-90D6-07C1F9567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86C2-597B-4BBF-A5A0-054D0223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04B-1ABD-4EF5-8B83-844A1703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E36-3E0A-4D23-A7C2-178ACEC5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37C-49E0-460F-A770-65F56F48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20C-7A16-40CE-91E9-9E47BF1E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A94E-06F2-4D76-B3FA-560B778F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1F6C-59D4-4048-92ED-45A4D909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FB5C-4DD7-4124-A720-232C650B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B0A-8E29-4322-8E87-D98B77928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ICA  LEWIN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7472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DLER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GU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CHARACTERS  ON  THE  TV  SHOW  "FRIEND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22:16:09Z</dcterms:created>
  <dc:creator>Jennifer Budzinski</dc:creator>
  <dc:description/>
  <dc:language>en-US</dc:language>
  <cp:lastModifiedBy>Erich Friedman</cp:lastModifiedBy>
  <dcterms:modified xsi:type="dcterms:W3CDTF">2020-08-24T18:14:00Z</dcterms:modified>
  <cp:revision>375</cp:revision>
  <dc:subject/>
  <dc:title>Slide 1</dc:title>
</cp:coreProperties>
</file>