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0C19-07D5-4442-AB23-FCE60C4D4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B8B4-24BA-42C6-88F1-B31B69748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E1EA-2196-4429-A8B4-B06565CA8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2DE6-5145-41A9-9B5A-7227D3A9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A180-1DB1-4AF1-B36F-63C59055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8F22-E214-4D6D-A4AD-B2991CF06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1E7C-169F-472D-A48B-A09E316CB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37E2-9773-412C-A1AB-1D34F92C4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ACAD-4038-480A-874A-10CBF0760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8E2E-AAA2-4BC2-9709-23A8F328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D2A9-8B62-40B1-861E-2041104BA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2F15-B800-4A5A-8F00-9308EF5DC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40F4-A2DD-4106-8F25-22590990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B80C-F3FA-4EDB-9296-7352CA05C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E1E9-D3CF-4C7A-8950-586230384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3EEA-F965-4A9D-883E-D3918BA32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5704-75A6-4EFD-8CDC-B3A3A0316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69DE-2CF7-4205-BA47-922422AF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6CF4-23BF-4C5C-8BAA-432B6D0BF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3E88-EAF2-47AB-94DC-2C4E9D2E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6925-3338-46F2-B36F-16091223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85FF-A643-4BEF-8EDA-79185FDFC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975F-D94F-44E4-89AE-53782B357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TAGONIST OF PHILIP KERR'S SERIES OF 14 NOVELS ABOUT WWII AND THE COLD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ICA  LEWIN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N WHO HAD AN AFFAIR WITH BILL CLIN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  PE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PARTY PRESIDENTIAL CANDIDATE WHO GOT 19% OF THE VOTE IN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6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BI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THE "RAT PACK" WITH FRANK SINATRA, DEAN MARTIN, SAMMY DAVIS JR., AND PETER LAW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MAN WHO SHOT JOHN F.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S  JO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7472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ERCEDES BENZ" AND "ME AND BOBBY MCG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9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AD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THE MOST POPULAR NEWS SHOW ON MSN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N WHO HAD AN AFFAIR WITH BILL CLIN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DLER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ING SACKER FOR THE ARIZONA CARDINALS, WHO PLAYED IN THE 2015 AND 2017 PRO BOW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GU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TAGONIST OF PHILIP KERR'S SERIES OF 14 NOVELS ABOUT WWII AND THE COLD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NAMES  ARE  CHARACTERS  ON  THE  TV  SHOW  "FRIEND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PARTY PRESIDENTIAL CANDIDATE WHO GOT 19% OF THE VOTE IN 199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THE "RAT PACK" WITH FRANK SINATRA, DEAN MARTIN, SAMMY DAVIS JR., AND PETER LAW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MAN WHO SHOT JOHN F.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ERCEDES BENZ" AND "ME AND BOBBY MCG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OST OF THE MOST POPULAR NEWS SHOW ON MSN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ING SACKER FOR THE ARIZONA CARDINALS, WHO PLAYED IN THE 2015 AND 2017 PRO BOWL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8T22:16:09Z</dcterms:created>
  <dc:creator>Jennifer Budzinski</dc:creator>
  <dc:description/>
  <dc:language>en-US</dc:language>
  <cp:lastModifiedBy>Erich Friedman</cp:lastModifiedBy>
  <dcterms:modified xsi:type="dcterms:W3CDTF">2020-08-24T18:14:00Z</dcterms:modified>
  <cp:revision>375</cp:revision>
  <dc:subject/>
  <dc:title>Slide 1</dc:title>
</cp:coreProperties>
</file>