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973-2882-4A59-A2AF-0E809C93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894-3295-4D3F-814D-9830A3A6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7D17-6C34-4B72-B2C7-A5D48D2F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68C1-6D7D-4529-AFF3-09E2CDB2D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79A7-F994-4144-93D1-EC927F51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0628-36A3-45F8-BB1A-93273854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76CD-978D-4146-8EB6-678305030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37D6-8AC6-47E4-BA06-1B2A000FD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466D-CAB1-46B9-9874-C01F8D29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7F58-1EED-4730-853E-30C8B3075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D34B-F8A2-4443-ADC9-5422A647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829E-DC48-4F7C-99BE-74FE5EE1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5381-B698-4435-8797-FCB86EDD8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DB79-0682-4629-B148-75F24F2A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EC57-2C39-49A7-9D81-FFE4C2FB7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0C3F-949D-4246-96FA-A72385CD3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A24-4CF1-4AD7-BFC8-B4C397072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D2ED-5C07-4A4D-858D-3D37EA523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CF1C-D908-47CD-BEA2-19DF9117B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A21E-BBF4-4085-9417-1C53B5B9C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C7B-7721-42DF-A351-645C09B32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2CEC-C8C8-44CD-9FE8-F9F07DAA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C595-10AA-4ED7-8B77-6D3958975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ICKNAMES  ADOPTED BY USERS OF CITIZENS BAND RADIO TYPIC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6512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2696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PER SIZE, MEASURING 8.5"×11", DID THE REAGAN ADMINISTRATION MAKE THE NORM FOR FEDERAL 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47800" y="762120"/>
            <a:ext cx="7448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ARRY POTTER" BOOKS, WHAT ARE AMORTENTIA, FELIX FELICIS, AND SKELE-G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TATEMENT |x| + |y| ≥ |x+y| IS KNOWN AS "THE ____ INEQU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AR MANUFACTURER IN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INGULAR NOUN IN ENGLISH WHICH IS PLURALIZED BY APPENDING "R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762120"/>
            <a:ext cx="8839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HOLICS IN SPANISH-SPEAKING COUNTRIES CELEBRATE A GIRL'S TRANSITION TO WOMANHOOD WHEN SHE BECOMES HOW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RADIO)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52280" y="914400"/>
            <a:ext cx="51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WORD IN THE NAME OF THE COMPANY WITH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6910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PER SIZE, MEASURING 8.5"×11", DID THE REAGAN ADMINISTRATION MAKE THE NORM FOR FEDERAL 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7680" y="77796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76240" y="762120"/>
            <a:ext cx="73915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ICKNAMES  ADOPTED BY USERS OF CITIZENS BAND RADIO TYPIC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114480" y="48769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LOV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ARRY POTTER" BOOKS, WHAT ARE AMORTENTIA, FELIX FELICIS, AND SKELE-G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STATEMENT |x| + |y| ≥ |x+y| IS KNOWN AS "THE ____ INEQU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AR MANUFACTURER IN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INGULAR NOUN IN ENGLISH WHICH IS PLURALIZED BY APPENDING "R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THOLICS IN SPANISH-SPEAKING COUNTRIES CELEBRATE A GIRL'S TRANSITION TO WOMANHOOD WHEN SHE BECOMES HOW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5143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WORD IN THE NAME OF THE COMPANY WITH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6910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OBERT HEINLEIN NOVEL "STARSHIP TROOPERS" AND THE 3 FILMS BASED ON IT, WHAT ARE THE ALIEN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4:42Z</dcterms:modified>
  <cp:revision>377</cp:revision>
  <dc:subject/>
  <dc:title>Slide 1</dc:title>
</cp:coreProperties>
</file>