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211B-8F53-4D73-BC0A-173177E0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EADC-56D9-47C3-82CB-25976693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7596-B633-47C2-84B2-3417BCDD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5DC-7FC6-405A-96BF-EE7ECD85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ABD3-850D-4F64-B8CC-B255A463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A2F-63F7-4D05-A434-7F935D60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6C69-77A4-4EEC-AEF8-FD251803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19ED-F22C-47F5-8FC5-410B1FC4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F80-0239-4827-A62B-9062A34F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EFE8-826B-45C9-A040-510126FD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358-B566-4E3E-9FFA-98960ED3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2020-2421-406E-B36D-23CA6AB2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13C-A81B-4A2E-B372-921DB53D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CB04-1462-40E0-92FE-4012D92C5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B81E-3F7F-4CBF-9621-7DC5D7AB0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AC0-49F6-4946-A47D-727C571D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465-2B2A-4431-A80E-C8F385C9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FC6-47CF-49DC-A417-F302F1FA1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7D0-CC1D-44A9-9DC0-220DC8A7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D5DB-9995-4296-8A07-26EA101C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53B6-5882-40B9-8989-5965A21B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7E7-F3A5-4B55-B8BB-5F736095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038-7C8C-4137-96F7-2D911A70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ICKNAMES  ADOPTED BY USERS OF CITIZENS BAND RADIO TYPIC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6512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2696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PER SIZE, MEASURING 8.5"×11", DID THE REAGAN ADMINISTRATION MAKE THE NORM FOR FEDERAL 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47800" y="762120"/>
            <a:ext cx="7448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ARRY POTTER" BOOKS, WHAT ARE AMORTENTIA, FELIX FELICIS, AND SKELE-G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TATEMENT |x| + |y| ≥ |x+y| IS KNOWN AS "THE ____ INEQUAL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AR MANUFACTURER IN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INGULAR NOUN IN ENGLISH WHICH IS PLURALIZED BY APPENDING "R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76212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HOLICS IN SPANISH-SPEAKING COUNTRIES CELEBRATE A GIRL'S TRANSITION TO WOMANHOOD WHEN SHE BECOMES HOW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ADIO)  S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914400"/>
            <a:ext cx="51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WORD IN THE NAME OF THE COMPANY WITH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6910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PER SIZE, MEASURING 8.5"×11", DID THE REAGAN ADMINISTRATION MAKE THE NORM FOR FEDERAL 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7680" y="777960"/>
            <a:ext cx="864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WHAT ARE THE ALIEN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ICKNAMES  ADOPTED BY USERS OF CITIZENS BAND RADIO TYPIC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769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LO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ARRY POTTER" BOOKS, WHAT ARE AMORTENTIA, FELIX FELICIS, AND SKELE-G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76400" y="762120"/>
            <a:ext cx="699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TATEMENT |x| + |y| ≥ |x+y| IS KNOWN AS "THE ____ INEQUAL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AR MANUFACTURER IN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INGULAR NOUN IN ENGLISH WHICH IS PLURALIZED BY APPENDING "R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680" y="761760"/>
            <a:ext cx="897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HOLICS IN SPANISH-SPEAKING COUNTRIES CELEBRATE A GIRL'S TRANSITION TO WOMANHOOD WHEN SHE BECOMES HOW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5143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WORD IN THE NAME OF THE COMPANY WITH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6910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WHAT ARE THE ALIEN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24:42Z</dcterms:modified>
  <cp:revision>377</cp:revision>
  <dc:subject/>
  <dc:title>Slide 1</dc:title>
</cp:coreProperties>
</file>