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7C51-A340-491D-A2B8-4C4C74C21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8CAF-E436-4CD5-BEAB-7419A9CB0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1838-879B-45EE-9C03-D1853C22B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A743-D207-46B1-9A2F-8F9F8F62E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48D0-0939-4E44-918E-AFDFF144D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E09E-1C18-4997-8124-2EE1FE2C0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FE07-F5B0-4DEA-B39B-DEE1EDEE4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7ED8-38DB-4D04-8F37-9E488849B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0E7F5-13F3-40C8-B476-40B98E1AD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4574-0FE1-49C5-95E4-7AAC871B2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3DE5-A4FA-46B0-A2BE-0206C4E32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30E9-5010-4EA5-928D-7D2B754A8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96FC-35BE-42DA-A413-BCA88490B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0D71-7E39-4309-A48A-1DED2E25B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95ED-4146-4730-BF3C-335BAD2BF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ED59-4098-4440-8960-3F9F557A5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7729-3F94-4D72-B74D-F8DFDB46E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16A8-596B-43AE-B023-637AE2FA3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1B55-40FE-4550-A686-639959577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E912-4F79-401C-96CD-85C565679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E51C-8D54-4114-B2AC-C902DE355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107A-E4F5-4C7C-883C-B099FAAC2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A874-C7BF-41C0-ABC5-17FB0148E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ERICAL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URANI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FROM ONE TEAM ARE ALLOWED ON THE FIELD AT ONE TIME IN RUG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FROM ONE TEAM ARE ALLOWED ON THE FIELD AT ONE TIME IN SOC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7732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UMBER IN ENGLISH WHOSE LETTERS ARE IN ALPHABETICAL ORDER WHEN SPELLED 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AYS WERE THERE FROM HALLOWEEN 2019 TO VALENTINE'S DAY 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HROMOSOMES ARE IN EACH HUMAN CE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71640" y="771480"/>
            <a:ext cx="72007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NDLES COME IN A PACKAGE OF HANUKKAH CAND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GET "$" ON A KEYBOARD, WHAT NUMBER KEY DO YOU NEED TO HOLD DOWN WITH THE SHIFT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FROM ONE TEAM ARE ALLOWED ON THE FIELD AT ONE TIME IN RUGB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YLLABLES ARE THERE TOTAL IN A HAIK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6240" y="76212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URANI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480" y="48769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MBERED  ROUTES  NEAR  D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FROM ONE TEAM ARE ALLOWED ON THE FIELD AT ONE TIME IN SOC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UMBER IN ENGLISH WHOSE LETTERS ARE IN ALPHABETICAL ORDER WHEN SPELLED 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AYS WERE THERE FROM HALLOWEEN 2019 TO VALENTINE'S DAY 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HROMOSOMES ARE IN EACH HUMAN CEL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NDLES COME IN A PACKAGE OF HANUKKAH CAND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 GET "$" ON A KEYBOARD, WHAT NUMBER KEY DO YOU NEED TO HOLD DOWN WITH THE SHIFT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YLLABLES ARE THERE TOTAL IN A HAIK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01:27:25Z</dcterms:modified>
  <cp:revision>366</cp:revision>
  <dc:subject/>
  <dc:title>Slide 1</dc:title>
</cp:coreProperties>
</file>