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F420-B90B-466B-9B27-0647106CF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C863-D6CD-4826-B46A-7EF9F4B88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A3D6-83A7-4D62-B0FD-10E79E55A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0F8D-C98B-49D9-BA6B-3CC685A42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A70F-7D9F-43F7-94B0-906347F9F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35EF-B32B-422C-81E2-4D0226F5E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B2B6-7BDB-404F-9038-8D00A9F31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FFC2-C6C8-4371-982D-755E34BDA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A1F6-F5A8-4335-A087-DA5D8B767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DC42-ECF0-4703-8403-D2C554491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B8E8-5734-4DAE-9735-7B87964E7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65E4-FC7F-4442-8E57-25D6C7D49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0939-F14B-4814-88BC-091660A49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06B9-9104-4047-A9F8-01DA5B319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1B4D-8F52-4425-A489-514798EB5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5C5F-8EAE-4E72-9196-C77091642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C508-08B4-442F-B299-DE031045E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6637-7339-4074-BB52-F2D865714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7CCD-BEFC-40DC-BA88-2ADD06677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65BD-0D41-4DC5-8D9E-F03128F4C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7E6F-F622-40F3-9FE7-6C8F4C6DD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ED87-2CEB-4033-BB1B-CFD8FF906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62F0-1258-4998-A1F8-DF948FDB4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9903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ERICAL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URANI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14400" y="7621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YERS FROM ONE TEAM ARE ALLOWED ON THE FIELD AT ONE TIME IN RUG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71640" y="762120"/>
            <a:ext cx="7200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YERS FROM ONE TEAM ARE ALLOWED ON THE FIELD AT ONE TIME IN SOC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1680" y="7732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UMBER IN ENGLISH WHOSE LETTERS ARE IN ALPHABETICAL ORDER WHEN SPELLED 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AYS WERE THERE FROM HALLOWEEN 2019 TO VALENTINE'S DAY 20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HROMOSOMES ARE IN EACH HUMAN CEL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71640" y="771480"/>
            <a:ext cx="72007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NDLES COME IN A PACKAGE OF HANUKKAH CAND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GET "$" ON A KEYBOARD, WHAT NUMBER KEY DO YOU NEED TO HOLD DOWN WITH THE SHIFT 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YERS FROM ONE TEAM ARE ALLOWED ON THE FIELD AT ONE TIME IN RUGB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YLLABLES ARE THERE TOTAL IN A HAIK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76240" y="76212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URANI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4480" y="4876920"/>
            <a:ext cx="891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MBERED  ROUTES  NEAR  D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YERS FROM ONE TEAM ARE ALLOWED ON THE FIELD AT ONE TIME IN SOC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UMBER IN ENGLISH WHOSE LETTERS ARE IN ALPHABETICAL ORDER WHEN SPELLED 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4720" y="762120"/>
            <a:ext cx="8134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AYS WERE THERE FROM HALLOWEEN 2019 TO VALENTINE'S DAY 20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HROMOSOMES ARE IN EACH HUMAN CELL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NDLES COME IN A PACKAGE OF HANUKKAH CAND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GET "$" ON A KEYBOARD, WHAT NUMBER KEY DO YOU NEED TO HOLD DOWN WITH THE SHIFT 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YLLABLES ARE THERE TOTAL IN A HAIK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19T01:27:25Z</dcterms:modified>
  <cp:revision>366</cp:revision>
  <dc:subject/>
  <dc:title>Slide 1</dc:title>
</cp:coreProperties>
</file>