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E123-66CD-4080-824E-2E0CCFB6A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7E5C-7B96-4349-9598-E61BBBED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87C2-D8FF-4EAC-B074-FD1D7BE73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95EF-3D09-4782-9D7D-83415411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1653-3C45-4953-897A-0F53F60C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927A-2A6D-48FC-93AD-65B27340A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724C-4166-4683-B65C-BA94A81CA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AF8-8F38-465F-8045-344FE9F39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8B5A-58BE-4477-812B-25F55FF3C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BC83-ABC0-43AD-BC24-273DF2CA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D6A1-BB94-4AFA-98FC-AF79FAEFB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E0FD-1658-458C-9882-1077FB010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830F-42C5-4DE8-A057-FB46D250A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7F18-8C51-4B1F-A2BE-7F659D25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B94C-626C-49B8-BDDA-226CD513E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1F6B-9B52-469A-8CF4-C73A1163F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80A4-3CE0-465A-A2C6-40D2E86F0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704-F261-4103-91A1-E6F53BCE8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2F81-61E3-49AF-BB85-2AD04A4D4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6649-F847-4C49-B1C0-C33AF1387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A2AD-8CBC-4FFE-BD07-D7106E44B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BC378-CA7E-45A2-90B6-FDE76865E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9BC3-B735-4CA2-8498-B5E9FDD0E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   DID THE OHIO NATIONAL GUARD KILL 4 UNARMED STUDENTS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09600" y="762120"/>
            <a:ext cx="8524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GERMAN SHEPH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00320" y="762120"/>
            <a:ext cx="654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Y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ELEMENT I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ROPO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7 FRITZ LANG SILENT FILM IS CONSIDERED ONE OF THE PIONEERING SCIENCE FICTION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IS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IFE ON TV'S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BEST ACTOR IN A MUSICAL FOR "A FUNNY THING HAPPENED ON THE WAY TO THE FORUM" AND "THE PRODUC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E" IS THE MOST COMMON LETTER IN THE INTERIOR OF WORDS.  WHAT LETTER IS THE MOST COMMON TO START OR END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14280" y="762120"/>
            <a:ext cx="851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ROY ROGERS' GERMAN SHEPH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K 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47680" y="762120"/>
            <a:ext cx="8648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UCCESSFUL "COMBINATION" CANDY BAR, WITH A CHOCOLATE SHELL SURROUNDING A NON-CHOCOLATE FILL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  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   DID THE OHIO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343400"/>
            <a:ext cx="82677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WORDS  ASSOCIATED  WITH  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LOY IS 98% IRON AND 2% CARB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ELEMENT IN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27 FRITZ LANG SILENT FILM IS CONSIDERED ONE OF THE PIONEERING SCIENCE FICTIO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WIFE ON TV'S "FAMILY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BEST ACTOR IN A MUSICAL FOR "A FUNNY THING HAPPENED ON THE WAY TO THE FORUM" AND "THE PRODUC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TTER "E" IS THE MOST COMMON LETTER IN THE INTERIOR OF WORDS.  WHAT LETTER IS THE MOST COMMON TO START OR END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7680" y="762120"/>
            <a:ext cx="86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UCCESSFUL "COMBINATION" CANDY BAR, WITH A CHOCOLATE SHELL SURROUNDING A NON-CHOCOLATE FILL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9-19T01:28:50Z</dcterms:modified>
  <cp:revision>377</cp:revision>
  <dc:subject/>
  <dc:title>Slide 1</dc:title>
</cp:coreProperties>
</file>