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45D3-0986-4374-951F-EB4C1986C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A65F-ADDA-4A9E-9DCE-57430565E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272B-C383-41FF-9C48-5C8840ED2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E3C5-3CC2-42CD-A1A0-D34C5C9B5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C16F-7950-4761-90C7-A8E5F1351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1763-9063-45F8-8DF1-AD19B3F1A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7100-3158-46A3-8F83-D3DD88910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144A-B6B5-4806-B329-6606F1C32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DA0F-EECB-4A58-8400-B879FEA17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72D3-9F6B-4435-B4D7-34A522E0E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8FD9-24F5-4904-820F-EC70ACCD1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04D7-D081-435F-88E3-5941715B9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7618-40AB-46E2-8547-186ED0E05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BBB8-2490-4BF2-9885-5A11C6825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7034-1D03-4EE3-BDBE-06F3D3327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0B0C-5923-4D1A-ADCA-7C367BF62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1BCD-7E53-4C0C-A9D2-34046DBBD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34F1-2693-4A47-838F-56B96D45D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C557-5E9C-4FFE-9232-B9149B8B9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549B-EEF1-4EBB-A06F-A4C29BEB6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C2EF-8DC5-4469-99E2-E578907DA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E883-FBCF-4FAA-BE03-BA88D8B1A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FC4B-7175-4249-888F-F4E7F9E6D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76400" y="761760"/>
            <a:ext cx="6991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UNIVERSITY    DID THE OHIO NATIONAL GUARD KILL 4 UNARMED STUDENTS IN 197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09600" y="762120"/>
            <a:ext cx="8524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ROY ROGERS' GERMAN SHEPH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300320" y="762120"/>
            <a:ext cx="6543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LOY IS 98% IRON AND 2% CARB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YP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71640" y="76500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ELEMENT IN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OW OF THE PERIODIC T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TROPO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27 FRITZ LANG SILENT FILM IS CONSIDERED ONE OF THE PIONEERING SCIENCE FICTION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IS  GRIFF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66640" y="762120"/>
            <a:ext cx="8010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WIFE ON TV'S "FAMILY GU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HAN  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04920" y="762120"/>
            <a:ext cx="85341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ONY AWARDS FOR BEST ACTOR IN A MUSICAL FOR "A FUNNY THING HAPPENED ON THE WAY TO THE FORUM" AND "THE PRODUC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ETTER "E" IS THE MOST COMMON LETTER IN THE INTERIOR OF WORDS.  WHAT LETTER IS THE MOST COMMON TO START OR END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14280" y="762120"/>
            <a:ext cx="8515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ROY ROGERS' GERMAN SHEPH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RK  B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47680" y="762120"/>
            <a:ext cx="864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UCCESSFUL "COMBINATION" CANDY BAR, WITH A CHOCOLATE SHELL SURROUNDING A NON-CHOCOLATE FILL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T  ST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04840" y="762120"/>
            <a:ext cx="69343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UNIVERSITY    DID THE OHIO NATIONAL GUARD KILL 4 UNARMED STUDENTS IN 197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38120" y="4343400"/>
            <a:ext cx="82677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WORDS  ASSOCIATED  WITH  SUP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LOY IS 98% IRON AND 2% CARB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38240" y="762120"/>
            <a:ext cx="70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ELEMENT IN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OW OF THE PERIODIC T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0120" y="762120"/>
            <a:ext cx="7943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27 FRITZ LANG SILENT FILM IS CONSIDERED ONE OF THE PIONEERING SCIENCE FICTION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90400" y="762120"/>
            <a:ext cx="7963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WIFE ON TV'S "FAMILY GU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76120" y="761760"/>
            <a:ext cx="8591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ONY AWARDS FOR BEST ACTOR IN A MUSICAL FOR "A FUNNY THING HAPPENED ON THE WAY TO THE FORUM" AND "THE PRODUC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ETTER "E" IS THE MOST COMMON LETTER IN THE INTERIOR OF WORDS.  WHAT LETTER IS THE MOST COMMON TO START OR END WO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47680" y="762120"/>
            <a:ext cx="8648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UCCESSFUL "COMBINATION" CANDY BAR, WITH A CHOCOLATE SHELL SURROUNDING A NON-CHOCOLATE FILL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9-19T01:28:50Z</dcterms:modified>
  <cp:revision>377</cp:revision>
  <dc:subject/>
  <dc:title>Slide 1</dc:title>
</cp:coreProperties>
</file>