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A1B3-DA9F-4A36-ACB2-6FCA7594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B529-EF7F-448E-BCB0-B329E8C47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BD14-A5D6-4348-ACFC-69CBE4AB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6062-EFF3-4FC5-B36F-B881778D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82C9-6382-4A53-B01D-FF8F2003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014C-2144-4E2A-A6DA-FC626447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F5D-2FDF-4BCA-8F85-95DB4F7B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A185-DB5D-41D7-849D-353BC8BE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EDBC-34D9-4F71-B780-6B645B54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9260-C21E-4B55-A1DD-489F5094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9038-6354-4EC4-8EB9-C4BEBF08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19AA-5D7F-4A0C-947C-BE76F7681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196E-3EF8-43BB-B159-72F31F90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F29A-6087-40CB-821B-2AA426C0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1A27-8427-4690-A0E3-AAD2AE96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1423-DD29-4C47-8121-9721803B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37C2-F1E1-49A1-889D-CE9386BA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05B9-8EF0-47F2-8069-96856C94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95FA-A2DF-42D6-9EBC-B098D7110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733D-9D6C-4FBF-972D-93A76D1EF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B670-3ECD-4CE7-8D92-7CCA3E111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A74-D18B-4F9F-A12F-46816A89F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B51-CDA0-4DAA-BBD6-8AA068CA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0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ST OF THE WORLD CALLS THIS CRIME "MOTOR VEHICLE THEFT".  WHAT DOES THE U.S. CALL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5400" y="762120"/>
            <a:ext cx="769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NTAGONIST OF BOTH "FANTASTIC FOUR" FILMS, ONCE VOTED MARVEL'S GREATEST VILLAIN, WAS DOCTOR VICTOR VON 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63720" y="762120"/>
            <a:ext cx="721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ANTE'S "INFERNO", WHAT WAS THE FIRST CIRCLE OF HELL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PE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OTH A #2 INSTRUMENTAL BY THE SURFARIS AND      A 2008-2020 OBSTACLE COURSE TV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0160" y="762120"/>
            <a:ext cx="74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'S SONG "DON'T STOP BELIEVIN' " WAS USED IN THE FINAL SCENE OF "THE SOPRANO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B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9160" y="762120"/>
            <a:ext cx="7105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DEV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ERO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INOR PLANETS ARE LOCATED BOTH BETWEEN MARS AND JUPITER AND IN JUPITER'S OR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1400" y="762120"/>
            <a:ext cx="779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ICONOGRAPHY TO REPRESENT SACRED FIGURES IN RELIGIOUS 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NTAGONIST OF BOTH "FANTASTIC FOUR" FILMS, ONCE VOTED MARVEL'S GREATEST VILLAIN, WAS DOCTOR VICTOR VON ____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IDENT  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840" y="762120"/>
            <a:ext cx="8950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FRANCHISE WITH SUBTITLES "APOCALYPSE", "EXTINCTION", "AFTERLIFE", AND "RETRIBUTION" IS THE HIGHEST-GROSSING ZOMBIE SERIES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THEFT  A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87320" y="762120"/>
            <a:ext cx="756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ST OF THE WORLD CALLS THIS CRIME "MOTOR VEHICLE THEFT".  WHAT DOES THE U.S. CALL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160" y="48769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VIDEO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0120" y="761760"/>
            <a:ext cx="740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ANTE'S "INFERNO", WHAT WAS THE FIRST CIRCLE OF HELL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69840" y="762120"/>
            <a:ext cx="720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OTH A #2 INSTRUMENTAL BY THE SURFARIS AND      A 2008-2020 OBSTACLE COURSE TV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'S SONG "DON'T STOP BELIEVIN' " WAS USED IN THE FINAL SCENE OF "THE SOPRANO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25560" y="762120"/>
            <a:ext cx="72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DEV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INOR PLANETS ARE LOCATED BOTH BETWEEN MARS AND JUPITER AND IN JUPITER'S OR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ICONOGRAPHY TO REPRESENT SACRED FIGURES IN RELIGIOUS 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9440" y="762120"/>
            <a:ext cx="8925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FRANCHISE WITH SUBTITLES "APOCALYPSE", "EXTINCTION", "AFTERLIFE", AND "RETRIBUTION" IS THE HIGHEST-GROSSING ZOMBIE SERIES E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30:30Z</dcterms:modified>
  <cp:revision>481</cp:revision>
  <dc:subject/>
  <dc:title>Slide 1</dc:title>
</cp:coreProperties>
</file>