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B857-CBF4-47BD-BF44-7C4EDFB1A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B680-EAB6-4C1A-8EE9-D27AF5200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B548-264B-448C-A971-F2CBC4650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03AE-7536-45AC-8749-BC7E6420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0BF2-64A5-4B1E-8D6B-740BDCE2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8FF-1D5A-41C4-916C-715A8322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18FC-7F7B-44FB-BABD-C238AB6B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ABB0-9FE6-4391-AEDB-2A429825B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7FFA-1400-4EB8-8BEB-54CDD6613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6A01-FA06-4A9F-9529-B04A6854F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14AA-846B-4800-9BDE-E5B0F8316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E73A-2D85-4D20-B9ED-8713B0DA4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1187-7D1B-4BC3-9100-2D5BBCA1C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A851-94FD-4BB5-A292-2E4BE081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B8E-277F-4CFB-A509-599E87A50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0FF-2955-4D0B-BDC2-B1E0A3851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BEAD-060A-4F63-AFD5-E7BA64CF5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3D68-B4D6-47BA-9CF6-41CEEEB8C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A10-8188-4738-A480-2D9AFA81C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AECF-14BB-4651-B274-F4114013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7899-C81E-4356-B6FF-F42E04972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C977-9F6F-40B8-9897-10D55745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DDA4-014D-46A0-B43C-8F746D870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0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ST OF THE WORLD CALLS THIS CRIME "MOTOR VEHICLE THEFT".  WHAT DOES THE U.S. CALL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25400" y="762120"/>
            <a:ext cx="769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NTAGONIST OF BOTH "FANTASTIC FOUR" FILMS, ONCE VOTED MARVEL'S GREATEST VILLAIN, WAS DOCTOR VICTOR VON ____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63720" y="762120"/>
            <a:ext cx="721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ANTE'S "INFERNO", WHAT WAS THE FIRST CIRCLE OF HELL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PE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OTH A #2 INSTRUMENTAL BY THE SURFARIS AND      A 2008-2020 OBSTACLE COURSE TV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0160" y="762120"/>
            <a:ext cx="74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SONG "DON'T STOP BELIEVIN' " WAS USED IN THE FINAL SCENE OF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B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9160" y="762120"/>
            <a:ext cx="7105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ERO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INOR PLANETS ARE LOCATED BOTH BETWEEN MARS AND JUPITER AND IN JUPITER'S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79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ICONOGRAPHY TO REPRESENT SACRED FIGURES IN RELIGIOUS 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NTAGONIST OF BOTH "FANTASTIC FOUR" FILMS, ONCE VOTED MARVEL'S GREATEST VILLAIN, WAS DOCTOR VICTOR VON ____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IDENT  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840" y="762120"/>
            <a:ext cx="895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FRANCHISE WITH SUBTITLES "APOCALYPSE", "EXTINCTION", "AFTERLIFE", AND "RETRIBUTION" IS THE HIGHEST-GROSSING ZOMBIE SERIES EV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THEFT  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7320" y="762120"/>
            <a:ext cx="7569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ST OF THE WORLD CALLS THIS CRIME "MOTOR VEHICLE THEFT".  WHAT DOES THE U.S. CALL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160" y="4876920"/>
            <a:ext cx="9067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VIDEO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0120" y="761760"/>
            <a:ext cx="7403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ANTE'S "INFERNO", WHAT WAS THE FIRST CIRCLE OF HELL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69840" y="762120"/>
            <a:ext cx="720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OTH A #2 INSTRUMENTAL BY THE SURFARIS AND      A 2008-2020 OBSTACLE COURSE TV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'S SONG "DON'T STOP BELIEVIN' " WAS USED IN THE FINAL SCENE OF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25560" y="762120"/>
            <a:ext cx="72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INOR PLANETS ARE LOCATED BOTH BETWEEN MARS AND JUPITER AND IN JUPITER'S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ICONOGRAPHY TO REPRESENT SACRED FIGURES IN RELIGIOUS 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ILM FRANCHISE WITH SUBTITLES "APOCALYPSE", "EXTINCTION", "AFTERLIFE", AND "RETRIBUTION" IS THE HIGHEST-GROSSING ZOMBIE SERIES E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30:30Z</dcterms:modified>
  <cp:revision>481</cp:revision>
  <dc:subject/>
  <dc:title>Slide 1</dc:title>
</cp:coreProperties>
</file>