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961-3D0C-4B48-ABA4-2604310D2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EA5F-6F7E-4074-AA71-E48976242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9409-034D-47BF-8BD3-97531F79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6874-5CC8-4088-811C-7C054540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85D1-DC56-4A66-969E-472E72C60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13B4-EAC7-4B86-9129-730B7E26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E0963-D88B-4990-BFEB-DC441F971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119A-CF20-4726-9765-75AFADACE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89EC-2A11-4E09-B777-EA510C9C4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6175-2187-46D4-A4C5-8AF3E4CF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ACA9-F5F2-4B5A-B7AE-C2A13597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C031-B618-4487-9E2D-BA2F375E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4DAD-FF59-4881-8A43-8CE04310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A034-EB0B-4F06-9E13-9D37A7613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59F0-F541-4F21-994A-BE1F2433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55C7-49E5-4566-9A33-CAFF60F28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DF80-756D-4CA2-819C-1B5301167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674-0C4A-401B-B08D-945AA40A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3197-C65C-4BD8-BAAB-B9524BC1F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23E-A0EB-465A-B06A-02B39A6DD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8EAF-6D6F-4D61-B6B6-2D1A539B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C043-82A8-4C33-85E4-704C3940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3CAF-1570-4F5F-8045-429C1892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827F-16D9-4C99-9965-2DD468BE5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SPRING ORIGINATES IN THE OCALA FOREST AND EMPTIES INTO LAKE GEO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82160" y="761760"/>
            <a:ext cx="877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HREE LITTLE PIGS", WHAT MATERIAL WAS THE FIRST HOUSE MADE FROM THAT THE BIG BAD WOLF BLOWS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12680" y="762120"/>
            <a:ext cx="891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427040" y="2114640"/>
            <a:ext cx="628992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87400" y="762120"/>
            <a:ext cx="736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ATHER TERM FOR ATMOSPHERIC CONDENS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RMON CHURCH, WHAT IS THE LOWEST FORM OF PRIEST, BELOW APOSTLE, SEVENTY, PATRIARCH, AND HIGH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85720" y="77148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UTHWESTERN-MOST TIP OF SCOTLAND WAS MADE FAMOUS BY THE WINGS SONG "____ OF KINT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281240" y="762120"/>
            <a:ext cx="658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LVE REDUCES AIR IN A FUEL MIX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  OF THE RELIEF PITCHER RICHARD MICHAEL GOSS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000080" y="762120"/>
            <a:ext cx="714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LIES BETWEEN THE SEA OF AZOV AND THE SEA OF MARMA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61840" y="762120"/>
            <a:ext cx="742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SPRING ORIGINATES IN THE OCALA FOREST AND EMPTIES INTO LAKE GEO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22120" y="762120"/>
            <a:ext cx="869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THREE LITTLE PIGS", WHAT MATERIAL WAS THE FIRST HOUSE MADE FROM THAT THE BIG BAD WOLF BLOW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65400" y="4876920"/>
            <a:ext cx="661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BER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1254240" y="2133720"/>
            <a:ext cx="663552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0800" y="761760"/>
            <a:ext cx="750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ATHER TERM FOR ATMOSPHERIC CONDENS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36480" y="762120"/>
            <a:ext cx="786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RMON CHURCH, WHAT IS THE LOWEST FORM OF PRIEST, BELOW APOSTLE, SEVENTY, PATRIARCH, AND HIGH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UTHWESTERN-MOST TIP OF SCOTLAND WAS MADE FAMOUS BY THE WINGS SONG "____ OF KINTY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54080" y="762120"/>
            <a:ext cx="7035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LVE REDUCES AIR IN A FUEL MIX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    OF THE RELIEF PITCHER RICHARD MICHAEL GOSS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LIES BETWEEN THE SEA OF AZOV AND THE SEA OF MARMA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13:32:52Z</dcterms:modified>
  <cp:revision>441</cp:revision>
  <dc:subject/>
  <dc:title>Slide 1</dc:title>
</cp:coreProperties>
</file>