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8631-7C15-4526-9710-CAEB5662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F53-FBF0-4E24-B99F-DABA0F7C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852-DB17-4E22-BF8D-4BD4C5EB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D94-8C27-44B0-8251-9041D7F10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148-55B7-45BD-9B76-1DA742E62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47E-F5A1-4A88-A173-42860AA6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A21-7067-4F52-85D6-A18E5CD88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B88-58D4-4400-85C3-E2D71700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8E71-76ED-42CC-9A42-61524498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014-C291-4D59-9A7A-B5A00201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4941-22B7-45F7-B14A-3E887D37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A11-F5DB-49E9-BBD9-E9DACE9D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513-4771-41AD-8ED4-D9356F77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3DA-85BF-4A36-AEF0-496FE6B3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79C7-A526-447F-982E-DB453D3A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EC3-7EE7-45CD-AECE-F557268E4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14C-D7E1-450D-8C86-8A53767F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AF4E-D0D5-40B2-B1AD-263CD9A2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E2C-5707-4005-8731-8439C137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7324-8CF0-43D9-9D7D-4FF8FAC6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2BDA-DD98-4532-95A1-0E75E274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F41-7D94-4DD8-82DD-7C2620C5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632-B9A8-482F-BE53-F31E93A84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8EEE-CB6D-4463-A52C-6BA8EC0A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SPRING ORIGINATES IN THE OCALA FOREST AND EMPTIES INTO LAKE GEO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82160" y="761760"/>
            <a:ext cx="877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HREE LITTLE PIGS", WHAT MATERIAL WAS THE FIRST HOUSE MADE FROM THAT THE BIG BAD WOLF BLOWS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2680" y="762120"/>
            <a:ext cx="891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427040" y="2114640"/>
            <a:ext cx="628992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7400" y="762120"/>
            <a:ext cx="736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ATHER TERM FOR ATMOSPHERIC CONDENS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RMON CHURCH, WHAT IS THE LOWEST FORM OF PRIEST, BELOW APOSTLE, SEVENTY, PATRIARCH, AND HIGH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85720" y="77148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UTHWESTERN-MOST TIP OF SCOTLAND WAS MADE FAMOUS BY THE WINGS SONG "____ OF KINT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81240" y="762120"/>
            <a:ext cx="658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LVE REDUCES AIR IN A FUEL MIX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  OF THE RELIEF PITCHER RICHARD MICHAEL GOSS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00080" y="762120"/>
            <a:ext cx="714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LIES BETWEEN THE SEA OF AZOV AND THE SEA OF MARMA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61840" y="762120"/>
            <a:ext cx="742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SPRING ORIGINATES IN THE OCALA FOREST AND EMPTIES INTO LAKE GEO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22120" y="762120"/>
            <a:ext cx="869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HREE LITTLE PIGS", WHAT MATERIAL WAS THE FIRST HOUSE MADE FROM THAT THE BIG BAD WOLF BLOW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65400" y="4876920"/>
            <a:ext cx="661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4240" y="2133720"/>
            <a:ext cx="663552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0800" y="761760"/>
            <a:ext cx="75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ATHER TERM FOR ATMOSPHERIC CONDENS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36480" y="762120"/>
            <a:ext cx="786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RMON CHURCH, WHAT IS THE LOWEST FORM OF PRIEST, BELOW APOSTLE, SEVENTY, PATRIARCH, AND HIGH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UTHWESTERN-MOST TIP OF SCOTLAND WAS MADE FAMOUS BY THE WINGS SONG "____ OF KINTY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54080" y="762120"/>
            <a:ext cx="7035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LVE REDUCES AIR IN A FUEL MIX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  OF THE RELIEF PITCHER RICHARD MICHAEL GOSS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LIES BETWEEN THE SEA OF AZOV AND THE SEA OF MARMA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13:32:52Z</dcterms:modified>
  <cp:revision>441</cp:revision>
  <dc:subject/>
  <dc:title>Slide 1</dc:title>
</cp:coreProperties>
</file>