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81F7-5330-40A3-ABB5-99A228C1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C02C-A347-4206-A2FA-413328364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CFEE-755F-4ACC-AF68-4CE092A2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A601-85D7-49AF-B20E-0951F292D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38FB-3F4B-4772-AB0D-8652E0D7C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867A-6F0C-46E6-807F-0322373E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7BF-37E7-4F65-B01C-109B46038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CCEA-B4CF-45FE-85D6-4E7814DB6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307A-977B-447C-BAC8-646FEC072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A0BA-90B4-46F0-9BF5-3080CC1A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042-2E1F-4D06-9053-2E14FB85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6616-C1CA-4B9A-86D0-A69B1A9FE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48C7-9949-48BD-9B61-3E0889A5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A664-42D3-4ED2-83AE-BD7A2FD23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8A75-C62F-40D1-83C2-5D09980A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DF84-1E7A-416C-B466-B019B0FEE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B8C3-FD4F-4B2C-85CC-10ED0E18C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465-CB21-4817-8250-EEB6959B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DBE-FC5C-439F-B7E1-1A98067B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94E8-5F52-4FE7-845B-7525A9EF0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2FDE-D716-4D74-83B5-FC4C5788B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C930-1B9C-4794-9062-99506F42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4126-A4D8-4DD0-B20E-DD204FF4A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-GROSSING FILM OF ALL TIME FOR 10 YEARS UNTIL "AVENGERS: ENDGAME" DETHRONED IT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JA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2680" y="762120"/>
            <a:ext cx="891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SEQUEL TO THE 60'S FILMS "BEACH PARTY", "MUSCLE BEACH PARTY" AND "BIKINI BEACH" HAD TAG LINE "ALL THE BEACH PARTY FUN... IN" WHAT ARTICLE OF CLOTH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49120" y="762120"/>
            <a:ext cx="8645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HARISHI MAHESH YOGI ACTED AS WHAT TO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GGERNA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RVEL COMICS CHARACTER PLAYED BY RYAN REYNOLDS IN THE "DEADPOOL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HM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9840" y="771480"/>
            <a:ext cx="72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NE, SOFT, LUXURIOUS, EXPENSIVE WOOL GOTTEN FROM GO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H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38040" y="762120"/>
            <a:ext cx="846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RONG MATERIAL USED IN MILITARY UNIFORMS NOW CAN ALSO MEAN THE COLOR OF THOSE UNIFORMS OR OTHER PANTS  THAT COULD BE THAT COL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HP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CALL THE FUNNY-LOOKING TROUSERS WORN FOR HORSEBACK RI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57040" y="762120"/>
            <a:ext cx="8629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UPTON SINCLAIR'S MOST FAMOUS BOOK,       ABOUT THE HARSH LIVES OF IMMIGRANTS, IS 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NEXT SEQUEL TO THE 60'S FILMS "BEACH PARTY", "MUSCLE BEACH PARTY" AND "BIKINI BEACH" HAD TAG LINE "ALL THE BEACH PARTY FUN... IN" WHAT ARTICLE OF CLOTH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9600" y="762120"/>
            <a:ext cx="798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 GROUP SANG THE #1 HITS "SMELLS LIKE TEEN SPIRIT", "HEART-SHAPED BOX",      AND "ABOUT A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9160" y="762120"/>
            <a:ext cx="764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IGHEST-GROSSING FILM OF ALL TIME FOR 10 YEARS UNTIL "AVENGERS: ENDGAME" DETHRONED IT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65400" y="4343400"/>
            <a:ext cx="661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WORDS  THAT  HAVE  ORIGINS  IN 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71440" y="761760"/>
            <a:ext cx="860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HARISHI MAHESH YOGI ACTED AS WHAT TO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6680" y="762120"/>
            <a:ext cx="827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RVEL COMICS CHARACTER PLAYED BY RYAN REYNOLDS IN THE "DEADPOOL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8800" y="762120"/>
            <a:ext cx="72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NE, SOFT, LUXURIOUS, EXPENSIVE WOOL GOTTEN FROM GO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RONG MATERIAL USED IN MILITARY UNIFORMS NOW CAN ALSO MEAN THE COLOR OF THOSE UNIFORMS OR OTHER PANTS  THAT COULD BE THAT COL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CALL THE FUNNY-LOOKING TROUSERS WORN FOR HORSEBACK RI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OF UPTON SINCLAIR'S MOST FAMOUS BOOK,       ABOUT THE HARSH LIVES OF IMMIGRANTS, IS 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MUSIC GROUP SANG THE #1 HITS "SMELLS LIKE TEEN SPIRIT", "HEART-SHAPED BOX",    AND "ABOUT A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13:38:18Z</dcterms:modified>
  <cp:revision>435</cp:revision>
  <dc:subject/>
  <dc:title>Slide 1</dc:title>
</cp:coreProperties>
</file>