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8F82-73AF-4419-9134-4C1E037F6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68E5-4EE0-4355-91E4-8C49F2681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53C7-E999-4381-9245-F36708334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E1B0-0729-489B-9190-13140DE68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7A47-B985-4482-80F0-C7C250C43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7599-1EF5-4E89-BF01-1436ED399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B9FD-7D0E-487C-8EBF-28A2C055B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F7C5-99B3-4443-B04E-8694FEF8D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CF23-FCF0-4428-84FD-BA4767A81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BFF9-D718-4549-B42E-A81EF6E3E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869B-843E-42DE-B002-85C167BEC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F1AB-5D3D-401E-9DB4-B4014CF91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28A9-36C8-457E-B38F-E1E712E1A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536B-C841-4106-AAD3-EC27D13DC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B940-D8C5-4117-A2C7-DE28E005C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22FF-EBBA-44D3-AC47-35280F922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921A-4789-41B8-B6A6-1A62DDD66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C98E-C92A-4664-95B9-497DC323A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B3DD-52F7-4FD2-A2CB-C89D1BC00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6137-600F-4521-BD26-8CAC17549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0A56-C488-476E-BE4C-A63BE5228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BF25-2A73-4C74-A09E-7A2331BD1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0800-739C-4714-90A5-FCC9AE5B8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99072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DEBORAH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24040" y="761760"/>
            <a:ext cx="749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HIGHEST-GROSSING FILM OF ALL TIME FOR 10 YEARS UNTIL "AVENGERS: ENDGAME" DETHRONED IT IN 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JA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2680" y="762120"/>
            <a:ext cx="8917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NEXT SEQUEL TO THE 60'S FILMS "BEACH PARTY", "MUSCLE BEACH PARTY" AND "BIKINI BEACH" HAD TAG LINE "ALL THE BEACH PARTY FUN... IN" WHAT ARTICLE OF CLOTH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49120" y="762120"/>
            <a:ext cx="8645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HARISHI MAHESH YOGI ACTED AS WHAT TO THE BEA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GGERNA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ARVEL COMICS CHARACTER PLAYED BY RYAN REYNOLDS IN THE "DEADPOOL"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HM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69840" y="771480"/>
            <a:ext cx="720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INE, SOFT, LUXURIOUS, EXPENSIVE WOOL GOTTEN FROM GOA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HA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38040" y="762120"/>
            <a:ext cx="8467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TRONG MATERIAL USED IN MILITARY UNIFORMS NOW CAN ALSO MEAN THE COLOR OF THOSE UNIFORMS OR OTHER PANTS  THAT COULD BE THAT COL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DHP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33240" y="762120"/>
            <a:ext cx="7877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CALL THE FUNNY-LOOKING TROUSERS WORN FOR HORSEBACK RI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000080" y="4876920"/>
            <a:ext cx="7143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57040" y="762120"/>
            <a:ext cx="8629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ITLE OF UPTON SINCLAIR'S MOST FAMOUS BOOK,       ABOUT THE HARSH LIVES OF IMMIGRANTS, IS "THE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5400" y="762120"/>
            <a:ext cx="8953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NEXT SEQUEL TO THE 60'S FILMS "BEACH PARTY", "MUSCLE BEACH PARTY" AND "BIKINI BEACH" HAD TAG LINE "ALL THE BEACH PARTY FUN... IN" WHAT ARTICLE OF CLOTH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R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9600" y="762120"/>
            <a:ext cx="7983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MUSIC GROUP SANG THE #1 HITS "SMELLS LIKE TEEN SPIRIT", "HEART-SHAPED BOX",      AND "ABOUT A GIR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VA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49160" y="762120"/>
            <a:ext cx="7645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HIGHEST-GROSSING FILM OF ALL TIME FOR 10 YEARS UNTIL "AVENGERS: ENDGAME" DETHRONED IT IN 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65400" y="4343400"/>
            <a:ext cx="661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ISH  WORDS  THAT  HAVE  ORIGINS  IN  IN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71440" y="761760"/>
            <a:ext cx="8601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HARISHI MAHESH YOGI ACTED AS WHAT TO THE BEA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36680" y="762120"/>
            <a:ext cx="827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ARVEL COMICS CHARACTER PLAYED BY RYAN REYNOLDS IN THE "DEADPOOL"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28800" y="762120"/>
            <a:ext cx="7286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INE, SOFT, LUXURIOUS, EXPENSIVE WOOL GOTTEN FROM GOA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30120" y="762120"/>
            <a:ext cx="8483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TRONG MATERIAL USED IN MILITARY UNIFORMS NOW CAN ALSO MEAN THE COLOR OF THOSE UNIFORMS OR OTHER PANTS  THAT COULD BE THAT COLO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57280" y="761760"/>
            <a:ext cx="802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CALL THE FUNNY-LOOKING TROUSERS WORN FOR HORSEBACK RI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ITLE OF UPTON SINCLAIR'S MOST FAMOUS BOOK,       ABOUT THE HARSH LIVES OF IMMIGRANTS, IS "THE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MUSIC GROUP SANG THE #1 HITS "SMELLS LIKE TEEN SPIRIT", "HEART-SHAPED BOX",    AND "ABOUT A GIR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19T13:38:18Z</dcterms:modified>
  <cp:revision>435</cp:revision>
  <dc:subject/>
  <dc:title>Slide 1</dc:title>
</cp:coreProperties>
</file>