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1269-8EDB-43A6-98A7-0D3C4912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4274-FCA9-4D26-A73C-8855F63C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68B-37EC-47B4-BCDD-5673B502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470-29CC-4BC0-BD58-F748964E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EB6-34C2-439B-BAA2-DBC6079C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0AE-87AE-4FC2-A854-EA96184E5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9C95-2EDD-42B6-877D-261949230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651-6864-41E3-AF64-408029FD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BCE4-AA0E-465F-95D9-CF0EF983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0A28-DA99-4CB5-B40A-754D6973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251-D7F2-4313-9671-F49663D6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B086-1890-49A2-A460-B74EA655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4D7-75BF-4EC9-83CF-BF104AA3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2EA-B135-4C67-8F7A-52208985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910-6D0E-4F6E-AA8A-253A3283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005-DDCA-4588-B61F-C1BB11E04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810-B25B-4A95-A722-13135618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4228-4362-4E68-A658-44761BE8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908-3589-4CAC-80A1-1AC79803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FE4C-96FD-42E1-A639-C16C8A7A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C7B4-2C6D-49E6-A1B0-62373C7D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D39-C8C2-4BB8-9E1C-20F9BC95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32B-07F0-4B76-9587-903BDB4B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0" y="990360"/>
            <a:ext cx="666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G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71720" y="762120"/>
            <a:ext cx="700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ADWAY MUSICAL WAS SUBTITLED "THE AMERICAN TRIBAL LOVE–ROCK MUSIC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23800" y="762120"/>
            <a:ext cx="809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IOLOGY, 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HOCKEY, POKER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12880" y="762120"/>
            <a:ext cx="751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957400" y="2629080"/>
            <a:ext cx="3229200" cy="22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IS DANIEL KEYES NOVEL: "____ FOR ALGERN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USED SPICE IN THE U.S., AFTER PE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3400" y="762120"/>
            <a:ext cx="747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VOLUME, OFTEN APPLIED TO WOOD, IS EQUAL TO 128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1240" y="762120"/>
            <a:ext cx="712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ADWAY MUSICAL WAS SUBTITLED "THE AMERICAN TRIBAL LOVE-ROCK MUSIC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80920" y="762120"/>
            <a:ext cx="738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NAME OF A 2005-2010 GAME SHOW: "____ OR N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-38160" y="495288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ADUATE)  RECORD  (EXAMIN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1560" y="762120"/>
            <a:ext cx="685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G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04880" y="4952880"/>
            <a:ext cx="773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CAN  BE  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IOLOGY, 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7080" y="762120"/>
            <a:ext cx="70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HOCKEY, POKER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7560" y="762120"/>
            <a:ext cx="750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57400" y="2629080"/>
            <a:ext cx="3229200" cy="22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IS DANIEL KEYES NOVEL: "____ FOR ALGERN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USED SPICE IN THE U.S., AFTER PE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VOLUME, OFTEN APPLIED TO WOOD, IS EQUAL TO 128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NAME OF A 2005-2010 GAME SHOW: "____ OR N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26T18:55:39Z</dcterms:modified>
  <cp:revision>458</cp:revision>
  <dc:subject/>
  <dc:title>Slide 1</dc:title>
</cp:coreProperties>
</file>