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CFD0-C701-41D1-ADCA-D8774A1E1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D4E9-5B2D-4F3B-A279-36589D574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D4BC-D9C5-405B-8A9B-FE2544DE5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583F-BFFE-43BF-A392-05A7F7890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839E-6B3B-418E-A2B2-9074FB29A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39D3-9615-4738-8F2E-E36867BC6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3AF9-F2EF-46A5-AAB4-C4BE2A76C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EF2F-32BD-49FF-871C-9B1404292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0C63-021B-47F3-BED2-313C08A4D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B52B-0E89-44AD-A086-FD2854B84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DFA2-5129-4C2A-A1C2-37287FE2B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3C27-F79D-476F-92E8-18D7242FE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417B-C93B-40F2-AB5B-80B492637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C4CF-6212-4510-B733-5DF845B39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D51E-AC46-406C-A897-B09A27141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E970-B7E4-4D38-96DD-643A184F6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D723-00F7-4ED2-9794-962616DB8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6FE2-4014-4B4F-BD20-1322630F6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DF91-EC4B-4173-9BC6-5B5CB4EE3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8464-2101-4C34-A53B-2B7437379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08CF-CD88-4F05-B461-E0C2DA5EF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2566-5716-4CA0-918E-28D5DF961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A06D-4F7B-4F06-B109-BF8EF31CE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0" y="990360"/>
            <a:ext cx="6667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95560" y="761760"/>
            <a:ext cx="6752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R" STAND FOR IN "G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071720" y="762120"/>
            <a:ext cx="700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OADWAY MUSICAL WAS SUBTITLED "THE AMERICAN TRIBAL LOVE–ROCK MUSIC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23800" y="762120"/>
            <a:ext cx="8096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IOLOGY, WHAT TAXONOMIC RANK IS BETWEEN PHYLUM AND 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26676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123920" y="762120"/>
            <a:ext cx="6896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S COMPLETELY DIFFERENT THINGS IN HOCKEY, POKER, AND CH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12880" y="762120"/>
            <a:ext cx="7518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NTAL CAR COMPANY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957400" y="2629080"/>
            <a:ext cx="3229200" cy="225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19000" y="762120"/>
            <a:ext cx="7506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E TITLE OF THIS DANIEL KEYES NOVEL: "____ FOR ALGERN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ST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MOST USED SPICE IN THE U.S., AFTER PEP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33400" y="762120"/>
            <a:ext cx="7477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VOLUME, OFTEN APPLIED TO WOOD, IS EQUAL TO 128 FT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11240" y="762120"/>
            <a:ext cx="7120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OADWAY MUSICAL WAS SUBTITLED "THE AMERICAN TRIBAL LOVE-ROCK MUSIC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-76320" y="4952880"/>
            <a:ext cx="9296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80920" y="762120"/>
            <a:ext cx="7382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E NAME OF A 2005-2010 GAME SHOW: "____ OR NO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-38160" y="4952880"/>
            <a:ext cx="922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GRADUATE)  RECORD  (EXAMIN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141560" y="762120"/>
            <a:ext cx="6859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R" STAND FOR IN "G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704880" y="4952880"/>
            <a:ext cx="773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THAT  CAN  BE  C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343080" y="762120"/>
            <a:ext cx="845820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47840" y="761760"/>
            <a:ext cx="824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IOLOGY, WHAT TAXONOMIC RANK IS BETWEEN PHYLUM AND O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27080" y="762120"/>
            <a:ext cx="7089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S COMPLETELY DIFFERENT THINGS IN HOCKEY, POKER, AND CH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17560" y="762120"/>
            <a:ext cx="7507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NTAL CAR COMPANY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957400" y="2629080"/>
            <a:ext cx="3229200" cy="225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E TITLE OF THIS DANIEL KEYES NOVEL: "____ FOR ALGERN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04760" y="761760"/>
            <a:ext cx="7134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MOST USED SPICE IN THE U.S., AFTER PEPP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49440" y="761760"/>
            <a:ext cx="7843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VOLUME, OFTEN APPLIED TO WOOD, IS EQUAL TO 128 FT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55720" y="762120"/>
            <a:ext cx="7432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E NAME OF A 2005-2010 GAME SHOW: "____ OR NO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0-12-26T18:55:39Z</dcterms:modified>
  <cp:revision>458</cp:revision>
  <dc:subject/>
  <dc:title>Slide 1</dc:title>
</cp:coreProperties>
</file>