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221F-4F4F-4C66-9D7B-151699E2F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891E-D260-492E-B7BC-D9DC4F792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B224-DA82-4D0F-8300-FFBE39AE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0713-9E16-4197-930E-A9A2329F6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A7220-4BF5-4CB0-A046-1AC9A2D51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C043-0201-4886-9851-22CE879AE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3722-F527-4E6F-9FF1-C314DC02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6D6-782E-4E72-A7EF-E43ECFE48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A331-626A-44D3-8AED-50AA2BA9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8C65-17B6-4010-B5CF-E109A847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6C84-90F0-430B-950D-9465B443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87E3-FF58-46E7-9340-D4BA63E3C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7FE2-9364-417A-AE2F-41DA8B278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3D6F-E330-48BF-89C2-99449503D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D1A-4F97-45F5-9153-F4F263FB5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1C8F-3F30-44DB-820B-4775810AB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434E-57B6-464D-BAC0-DF22ABB26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3CBF-1C3D-465C-89A7-CE43F1EB0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1313-0D53-408F-99A4-B5D3269A1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9F83-832A-48BE-B4C1-0C49A4E13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F77B-05B4-4BCF-BA2E-50D8757F4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ABBA-A0E8-4DA7-91C4-BE9546DCE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309-388F-4F86-BBB3-2CFEA6C3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38400" y="990360"/>
            <a:ext cx="666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BETH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95560" y="761760"/>
            <a:ext cx="6752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411200" y="762120"/>
            <a:ext cx="6319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U.S. CITY HOSTED THE 1893 WORLD'S F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09720" y="762120"/>
            <a:ext cx="7324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MILITARY UNIT IS COMPRISED OF MULTIPLE SQUADS, SECTIONS, OR PATRO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ON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CLAUDE DEBUSSY'S PIANO MOVEMENT "CLAIR DE L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12880" y="762120"/>
            <a:ext cx="751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BAND AFTER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IP DID JASON SAIL IN HIS QUEST FOR THE GOLDEN FLEE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INDIRA)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28800" y="762120"/>
            <a:ext cx="728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INDIA'S FIRST FEMALE PRIME MIN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Y  (MCFL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1720" y="762120"/>
            <a:ext cx="808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MICHAEL J. FOX'S CHARACTER IN THE "BACK TO THE FUTURE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82760" y="762120"/>
            <a:ext cx="637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DWESTERN U.S. CITY HOSTED THE 1893 WORLD'S F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-76320" y="4952880"/>
            <a:ext cx="9296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  (TEST  DUMM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BAND FAMOUS FOR THEIR SONG "MMM MMM MMM MM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-38160" y="4952880"/>
            <a:ext cx="922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41560" y="762120"/>
            <a:ext cx="6859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ITY IN MOROC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04880" y="4419720"/>
            <a:ext cx="773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ILMS  THAT  WON  BEST  PICTURE  OS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3080" y="762120"/>
            <a:ext cx="845820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MILITARY UNIT IS COMPRISED OF MULTIPLE SQUADS, SECTIONS, OR PATRO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74840" y="762120"/>
            <a:ext cx="819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ENGLISH TRANSLATION OF CLAUDE DEBUSSY'S PIANO MOVEMENT "CLAIR DE LU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36120" y="762120"/>
            <a:ext cx="7869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AUL MCCARTNEY'S BAND AFTER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95320" y="761760"/>
            <a:ext cx="7353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HIP DID JASON SAIL IN HIS QUEST FOR THE GOLDEN FLEE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INDIA'S FIRST FEMALE PRIME MIN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5880" y="761760"/>
            <a:ext cx="811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MICHAEL J. FOX'S CHARACTER IN THE "BACK TO THE FUTURE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5720" y="762120"/>
            <a:ext cx="743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NAME OF THE BAND FAMOUS FOR THEIR SONG "MMM MMM MMM MM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9-19T13:46:46Z</dcterms:modified>
  <cp:revision>461</cp:revision>
  <dc:subject/>
  <dc:title>Slide 1</dc:title>
</cp:coreProperties>
</file>