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754-5150-47A5-AD35-DD6C17FB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B241-AA59-44C6-9C6A-48F1BBD1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C534-B7DE-4667-92B0-99817EDC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B0A-AF5D-4046-B185-9A1D5CE3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13C1-5A68-467D-8640-871309ED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5E3-2FF1-4593-9C4D-7106870F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6BD4-E4D0-4D8A-B2D6-7FD49C97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D725-A1BD-4813-99BF-57DC9F2B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4DE-4C6D-4182-B781-4341B7B2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12A-2F89-40E4-8488-CAC1CB7D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0923-4CA7-4370-964C-1F980EA4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39B-EB69-4AAF-862E-4799E453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FE98-FE45-40AE-B98D-A9E119274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4D8B-0D67-4000-8671-36C5698D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7AB-4B8F-476D-9D4F-751E7FD9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89A-1B05-4B79-8FE7-DB19474C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30A-C74A-4D2D-85C9-56BECA39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E7A-2F8E-4F86-9B77-51D7796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E00-5BF8-40C7-80D8-E9D29E59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E64-F639-4260-912F-258F5EF8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8ACE-8C97-4442-9ADF-2890358A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C02-0180-4295-99C4-9EF6BFE9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CBFD-5707-446E-9F59-2CA17750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0" y="990360"/>
            <a:ext cx="666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BET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11200" y="762120"/>
            <a:ext cx="6319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U.S. CITY HOSTED THE 1893 WORLD'S F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09720" y="762120"/>
            <a:ext cx="732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MILITARY UNIT IS COMPRISED OF MULTIPLE SQUADS, SECTIONS, OR PA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CLAUDE DEBUSSY'S PIANO MOVEMENT "CLAIR DE L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2880" y="762120"/>
            <a:ext cx="751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BAND AFTE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IP DID JASON SAIL IN HIS QUEST FOR THE GOLDEN FLEE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DIRA)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28800" y="762120"/>
            <a:ext cx="728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INDIA'S FIRST FEMALE PRIME MIN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Y  (MCF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1720" y="762120"/>
            <a:ext cx="80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MICHAEL J. FOX'S CHARACTER IN THE "BACK TO THE FUTURE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82760" y="762120"/>
            <a:ext cx="637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U.S. CITY HOSTED THE 1893 WORLD'S F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  (TEST  DUMM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BAND FAMOUS FOR THEIR SONG "MMM MMM MMM MM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-38160" y="495288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41560" y="762120"/>
            <a:ext cx="685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4880" y="4419720"/>
            <a:ext cx="773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THAT  WON  BEST  PICTURE  OS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MILITARY UNIT IS COMPRISED OF MULTIPLE SQUADS, SECTIONS, OR PATR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4840" y="762120"/>
            <a:ext cx="819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CLAUDE DEBUSSY'S PIANO MOVEMENT "CLAIR DE L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36120" y="762120"/>
            <a:ext cx="7869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BAND AFTER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IP DID JASON SAIL IN HIS QUEST FOR THE GOLDEN FLEE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INDIA'S FIRST FEMALE PRIME MIN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MICHAEL J. FOX'S CHARACTER IN THE "BACK TO THE FUTURE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BAND FAMOUS FOR THEIR SONG "MMM MMM MMM MM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9-19T13:46:46Z</dcterms:modified>
  <cp:revision>461</cp:revision>
  <dc:subject/>
  <dc:title>Slide 1</dc:title>
</cp:coreProperties>
</file>