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0A93-503E-4970-99A5-B8EA5C6FF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9D2C-9726-4FA0-8918-1128B5CDA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AF6E-E488-4B80-A101-842AEBAC8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B3AD-1512-4A89-8F2E-3B0A20BDC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4D2B-1686-447A-A73A-9C0697254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A278-A257-49FE-A9BA-91F431B82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7187-CAFA-4B5C-8CE8-5BD07AB79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05C5-00D3-42B3-9A4F-4A9D2DA0C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CDD4-6E2C-4D90-8D3D-748C168CE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BF68-A069-451D-B2B3-98665DE2A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279D-02C1-44C9-B331-776AD92BD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3CE8-CC21-4FA6-B49F-511470279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26E9-B34C-48CE-A0FF-2CE551E5A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C9D1-7836-44D2-A543-B69E4AED5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129D-5D2B-4C89-9330-342B0ECCA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294E-5774-4280-BC89-466571E5A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22AB-9703-4666-9266-76F6A294C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A6BE-DCBC-45A5-ADCC-9F17621CE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7CC8-AA30-409F-8A90-C99ED20D9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75D8-5AE3-433B-B92E-D7415AB6F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9333-8090-4E30-8239-F46704071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D2AA-4BCF-4EF9-B662-E0C08D9B2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518A-BA95-4EA3-8FD2-CF2E03480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B244-34DD-40E7-A9C1-F11A6AFB1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2000" y="762120"/>
            <a:ext cx="8637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LAB EQUIPMENT IS NAMED FOR WHAT ITS SPOUT LOOKS LI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843120" y="761760"/>
            <a:ext cx="7457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DELAND'S KEY LIME SHO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IR)  WALTER  (SCOT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4720" y="762120"/>
            <a:ext cx="8134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UTHOR OF "IVANHO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IF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966960" y="762120"/>
            <a:ext cx="7208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 "THE BIG RED DOG" OF CHILDREN'S LITER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DOR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68160" y="762120"/>
            <a:ext cx="7805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YORK HOTEL MERGED WITH THE FEUDING ASTORIA HOTEL IN 193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O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25320" y="774720"/>
            <a:ext cx="7893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IRVING LIBBY, THE CHIEF OF STAFF OF VICE PRESIDENT DICK CHEN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NZ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363600" y="762120"/>
            <a:ext cx="8415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UNTER S. THOMPSON, IN WRITING FO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, POPULARIZED "____ JOURNALIS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950760" y="762120"/>
            <a:ext cx="7242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MADE "THE HOUSE OF THE RISING SUN" INTO A #1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LUTHER)  RIZZ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811080" y="762120"/>
            <a:ext cx="7521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THE LAZY SERGEANT ON "M*A*S*H" IN CHARGE OF THE MOTOR P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90520" y="762120"/>
            <a:ext cx="8562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LAB EQUIPMENT IS NAMED FOR WHAT ITS SPOUT LOOKS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RMIT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836640" y="762120"/>
            <a:ext cx="7470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DELAND'S KEY LIME SHO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19040" y="4876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MUPP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UTHOR OF "IVANHO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09720" y="761760"/>
            <a:ext cx="732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 "THE BIG RED DOG" OF CHILDREN'S LITERA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71400" y="762120"/>
            <a:ext cx="7801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YORK HOTEL MERGED WITH THE FEUDING ASTORIA HOTEL IN 193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76360" y="762120"/>
            <a:ext cx="7991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IRVING LIBBY, THE CHIEF OF STAFF OF VICE PRESIDENT DICK CHEN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36680" y="762120"/>
            <a:ext cx="8269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UNTER S. THOMPSON, IN WRITING FO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, POPULARIZED "____ JOURNALIS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25560" y="761760"/>
            <a:ext cx="7292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MADE "THE HOUSE OF THE RISING SUN" INTO A #1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25560" y="761760"/>
            <a:ext cx="7292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THE LAZY SERGEANT ON "M*A*S*H" IN CHARGE OF THE MOTOR PO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9-20T09:26:52Z</dcterms:modified>
  <cp:revision>509</cp:revision>
  <dc:subject/>
  <dc:title>Slide 1</dc:title>
</cp:coreProperties>
</file>