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63FC-1793-4E98-A935-BAD8E744B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DE4A-A623-442A-B544-FFD8BB385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52E4-E24A-42B5-80E1-A04187811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6FE3-EF15-4F78-8657-BF6479CC8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E813-B980-4E48-AAA9-C3D6C3D03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3E0E-1920-4493-8E35-76103064D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2433-0988-4D59-BB07-CE1281C78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4057-5C36-4ABC-927C-4F434158F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A2F7-78BE-497F-90F7-3CA749B15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6375-021A-4898-973F-37B1769D3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FCAA-996F-404F-A26E-1DC0AABB1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5AB6-1705-428A-9744-4BFDC77D9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8E21-7B51-4281-B274-F3597DB0A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DF2B-5F75-489A-92E6-F77E691E9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6D4D-D4B2-4C1A-A8E1-5DECF6703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8DE5-5D1B-437F-8347-DE5657818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41A2-51A7-4260-96A6-2509F17C4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642B-B99A-4751-8675-CC8699819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FC56-482A-4406-9119-3D931C494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5E52-FDD6-454C-B500-1E65D5883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0E4C-F1E8-4D97-AB42-62AA75825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FD9A-25E0-4DD3-B870-D720189A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E032-9627-4BD4-BA5E-A364A6392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4B47-3D2D-4A4C-BB63-395D4AF46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2000" y="762120"/>
            <a:ext cx="8637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AB EQUIPMENT IS NAMED FOR WHAT ITS SPOUT LOOKS LI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DELAND'S KEY LIME SH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IR)  WALTER  (SCOT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4720" y="762120"/>
            <a:ext cx="8134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UTHOR OF "IVANHO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F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66960" y="762120"/>
            <a:ext cx="720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"THE BIG RED DOG" OF CHILDREN'S LITER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DO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68160" y="762120"/>
            <a:ext cx="780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YORK HOTEL MERGED WITH THE FEUDING ASTORIA HOTEL IN 193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O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25320" y="774720"/>
            <a:ext cx="789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IRVING LIBBY, THE CHIEF OF STAFF OF VICE PRESIDENT DICK CHE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63600" y="762120"/>
            <a:ext cx="841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NTER S. THOMPSON, IN WRITING FO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, POPULARIZED "____ JOURNALIS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950760" y="762120"/>
            <a:ext cx="724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MADE "THE HOUSE OF THE RISING SUN" INTO A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UTHER)  RIZ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811080" y="762120"/>
            <a:ext cx="752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LAZY SERGEANT ON "M*A*S*H" IN CHARGE OF THE MOTOR P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90520" y="762120"/>
            <a:ext cx="8562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AB EQUIPMENT IS NAMED FOR WHAT ITS SPOUT LOOKS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MIT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36640" y="762120"/>
            <a:ext cx="747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DELAND'S KEY LIME SH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UPP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UTHOR OF "IVANHO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"THE BIG RED DOG" OF CHILDREN'S LITER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71400" y="762120"/>
            <a:ext cx="780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YORK HOTEL MERGED WITH THE FEUDING ASTORIA HOTEL IN 193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6360" y="762120"/>
            <a:ext cx="7991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IRVING LIBBY, THE CHIEF OF STAFF OF VICE PRESIDENT DICK CHE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6680" y="762120"/>
            <a:ext cx="826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NTER S. THOMPSON, IN WRITING FO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, POPULARIZED "____ JOURNALIS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5560" y="761760"/>
            <a:ext cx="729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MADE "THE HOUSE OF THE RISING SUN" INTO A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25560" y="761760"/>
            <a:ext cx="7292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LAZY SERGEANT ON "M*A*S*H" IN CHARGE OF THE MOTOR P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20T09:26:52Z</dcterms:modified>
  <cp:revision>509</cp:revision>
  <dc:subject/>
  <dc:title>Slide 1</dc:title>
</cp:coreProperties>
</file>