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8548-392F-4066-B187-541D0591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4AF8-2972-4CF7-A358-7F911F8AF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62D9-46AB-4BD1-8F48-D8A62DBB8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B07C-306D-49A5-BDD5-FAE787F59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08D7-9BBB-4C2B-B794-5375B03E0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FCBB-F1EC-4F45-82D5-A4460069A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1346-D6FC-4941-8C50-21C50F6A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5A01-F345-4738-90F9-CCA455B48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A448-7C94-4F62-AD8F-1E986C92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D650-AE9E-4DC9-9E89-B43FA32BA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9580-1464-4DD1-9983-18A3E74F9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A724-50FE-472F-B98D-DEE335D4B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C17D-61FD-44F1-9F9F-D0CD8F7D5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A2DC-8C81-42C6-97FF-0AFF794C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CF5D-12C9-45F5-B01E-DEF335301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84C1-D39A-496A-A60A-AF48854B8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0734-6A79-4CD9-9F35-A573F33CE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36B5-63F5-4756-AE31-2F7BC4256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3E9C-008D-4F5B-A9BB-CFA88BEB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3B3A-85A3-4D49-BA77-D010D4393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40DA-A36C-490D-9C5B-D9096E38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06C8-9F71-4B79-A213-D9E5B34D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BE7C-ACC3-43EA-B855-8518B1DA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NATIONAL AN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37960" y="762120"/>
            <a:ext cx="8668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ATIRICAL ONLINE NEWSPAPER ONCE HAD THE HEADLINE "ROTATION OF EARTH THROWS ENTIRE NORTH AMERICAN CONTINENT INTO DARKNES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Z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68580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COMPOUND HAS FORMULA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EDIAN JIMMY DURANTE WAS KNOWN AS THE "SCHNOZZOLA", BASED ON THE YIDDISH TERM FOR WHAT BODY P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00240" y="762120"/>
            <a:ext cx="6743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WAS THE FILM "CREED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CONTAINS ROUGHLY EQUAL PARTS COPPER AND ZI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INDIE FILM ABOUT      A TOBACCO STORE STARRED WILLIAM HURT, HARVEY KEITEL, STOCKARD CHANNING, AND FOREST WHIT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OREIGN WORDS "SERVIETTE", "SERVET", "SALVETE", AND "SERWETKA" ALL MEAN WHAT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80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ATIRICAL ONLINE NEWSPAPER ONCE HAD THE HEADLINE "ROTATION OF EARTH THROWS ENTIRE NORTH AMERICAN CONTINENT INTO DARKNES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6560" y="762120"/>
            <a:ext cx="8210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 VICTORIA STARTED THE CUSTOM OF THE CENTER OF ATTENTION WEARING WHITE TO WHAT OCC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RANCIS  SCOTT) 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81160" y="762120"/>
            <a:ext cx="6781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NATIONAL AN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RIN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COMPOUND HAS FORMULA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EDIAN JIMMY DURANTE WAS KNOWN AS THE "SCHNOZZOLA", BASED ON THE YIDDISH TERM FOR WHAT BODY P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WAS THE FILM "CREED"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CONTAINS ROUGHLY EQUAL PARTS COPPER AND ZI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INDIE FILM ABOUT      A TOBACCO STORE STARRED WILLIAM HURT, HARVEY KEITEL, STOCKARD CHANNING, AND FOREST WHIT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OREIGN WORDS "SERVIETTE", "SERVET", "SALVETE", AND "SERWETKA" ALL MEAN WHAT I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 VICTORIA STARTED THE CUSTOM OF THE CENTER OF ATTENTION WEARING WHITE TO WHAT OCCA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09-20T09:28:49Z</dcterms:modified>
  <cp:revision>364</cp:revision>
  <dc:subject/>
  <dc:title>Slide 1</dc:title>
</cp:coreProperties>
</file>