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0114-F276-4429-B4ED-AD82D4E9F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3040-C32D-45C7-BABC-EFCDC4E7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10C1-87FF-40C3-8107-80A5804DA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35E1-1EB1-421C-8D00-9F17A3659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E5C0-0A7A-48B6-BBC7-389B08605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F9FB-5C99-4D7A-A950-F0FD4482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67D1-2CF9-4EBA-BCBE-F9876FAD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9FE8-E9BA-4878-8D22-D28DB13EC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487-BB8E-426A-8C8A-236729168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644B-A7F6-4E09-A66F-03E25D6D3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B396-F098-4582-BE14-2C406A81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85C0-4B0F-41C9-BDC7-648BB7892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8F5C-FB46-4DAC-B9DB-D07A3D991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063F-4A2D-443C-81AC-B96AE8F89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6022-65F9-4A8E-8F25-46612F85B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2CE4-CAD9-4E91-960A-8A1A087D9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6DDD-906C-4E82-ABBD-22CA79191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FF45-1169-4546-8DC2-5A0AAA6A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C94E-FBCB-457B-B30D-55511161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DE61-B0AE-48B6-AFC0-2650DD8E5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EEDC-8F54-4B36-927F-6F7F8299E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93B7-43DA-4EA7-BDAF-B892A088C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BAB3-0988-4BF5-9D37-40ED083F4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NATIONAL AN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37960" y="762120"/>
            <a:ext cx="8668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ATIRICAL ONLINE NEWSPAPER ONCE HAD THE HEADLINE "ROTATION OF EARTH THROWS ENTIRE NORTH AMERICAN CONTINENT INTO DARKNES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Z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68580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COMPOUND HAS FORMULA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EDIAN JIMMY DURANTE WAS KNOWN AS THE "SCHNOZZOLA", BASED ON THE YIDDISH TERM FOR WHAT BODY P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00240" y="762120"/>
            <a:ext cx="6743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WAS THE FILM "CREED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CONTAINS ROUGHLY EQUAL PARTS COPPER AND ZI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INDIE FILM ABOUT      A TOBACCO STORE STARRED WILLIAM HURT, HARVEY KEITEL, STOCKARD CHANNING, AND FOREST WHIT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REIGN WORDS "SERVIETTE", "SERVET", "SALVETE", AND "SERWETKA" ALL MEAN WHAT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80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ATIRICAL ONLINE NEWSPAPER ONCE HAD THE HEADLINE "ROTATION OF EARTH THROWS ENTIRE NORTH AMERICAN CONTINENT INTO DARKNES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6560" y="762120"/>
            <a:ext cx="82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 VICTORIA STARTED THE CUSTOM OF THE CENTER OF ATTENTION WEARING WHITE TO WHAT OCC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RANCIS  SCOTT) 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81160" y="762120"/>
            <a:ext cx="6781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NATIONAL AN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RIN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COMPOUND HAS FORMULA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EDIAN JIMMY DURANTE WAS KNOWN AS THE "SCHNOZZOLA", BASED ON THE YIDDISH TERM FOR WHAT BODY P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WAS THE FILM "CREED"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CONTAINS ROUGHLY EQUAL PARTS COPPER AND ZI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INDIE FILM ABOUT      A TOBACCO STORE STARRED WILLIAM HURT, HARVEY KEITEL, STOCKARD CHANNING, AND FOREST WHIT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OREIGN WORDS "SERVIETTE", "SERVET", "SALVETE", AND "SERWETKA" ALL MEAN WHAT I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 VICTORIA STARTED THE CUSTOM OF THE CENTER OF ATTENTION WEARING WHITE TO WHAT OCCA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09-20T09:28:49Z</dcterms:modified>
  <cp:revision>364</cp:revision>
  <dc:subject/>
  <dc:title>Slide 1</dc:title>
</cp:coreProperties>
</file>