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B6704-FD9B-43BC-AFAB-5D94FD5A4C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2F66F-B6B5-46BE-A2B2-6733F4BE3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6D901-4C24-4751-9DC7-5C029E1B7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75F2D-6D03-4592-B613-FCA23DC36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018C8-F412-43E7-B132-05C926F08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1FE5A-A893-41EC-B926-E738809CF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8606C-0DE1-411A-A0F0-20E67D4DC5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61D44-E882-4426-8AF5-47C9EA559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C6A35-A4FC-4CE0-BE84-51B69D7FB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08819-4E8F-455B-8292-DA675BB6EF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272FE-FCEC-4291-A6A5-CC4111489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98103-7502-4F7C-88CC-95E3A0A35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D1521-9E98-4499-9142-C3346C3CE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456A2-09DD-44EF-8F7D-A57A56190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B29FB-9922-45F3-A2A3-8E57B2AC8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16580-646F-454F-BA44-0C14AA4C1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E7EDD-89CA-4FAA-B666-7489D96E64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6E30E-0A7D-4B19-840D-4EE33089E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125FD-B93F-419F-AB15-51A6C3E1B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C2F28-508A-4AEA-8823-79B5C6355F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24641-580D-4491-BBAC-BD727F42F8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09971-0318-4115-AD6E-C9128718D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2AA96-D721-4D3A-BC51-4E527EF33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52600" y="761760"/>
            <a:ext cx="8038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SATURDAY NIGHT LIVE" CHARACTER PLAYED BY CHEVY CHASE WAS DEVELOPED IN RESPONSE TO THE FILM "JAW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RO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33520" y="762120"/>
            <a:ext cx="80769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URA OF GAS THAT SURROUNDS THE SUN THAT CAN ONLY BE SEEN DURING AN ECLIPSE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D  STRI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219320" y="762120"/>
            <a:ext cx="67053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THE AMERICAN FLAG, WHAT ARE THERE EXACTLY SEVEN O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L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34308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A STREETCAR NAMED DESIRE", WHAT DOES STANLEY KOWALSKI YELL TO HIS WIF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8304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ERRA  NEVA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MOUNTAIN RANGE OVERLAPS WITH YOSEMITE, SEQUOIA, AND KINGS CAVERN NATIONAL PAR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UIN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FERENCE BOOK OF WORLD RECORDS WAS FIRST PUBLISHED IN 195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UE  M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23960" y="749160"/>
            <a:ext cx="76960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ECOND FULL MOON IN A MONTH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MUEL  AD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00280" y="762120"/>
            <a:ext cx="75438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UNDING FATHER OF THE U.S. WAS GOVERNOR OF MASSACHUSETTS AND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OUSIN OF OUR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RESID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URA OF GAS THAT SURROUNDS THE SUN THAT CAN ONLY BE SEEN DURING AN ECLIPSE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R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76240" y="762120"/>
            <a:ext cx="73915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INSTRUMENT IS IRELAND'S NATIONAL SYMBO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NDSHA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09480" y="762120"/>
            <a:ext cx="7925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SATURDAY NIGHT LIVE" CHARACTER PLAYED BY CHEVY CHASE WAS DEVELOPED IN RESPONSE TO THE FILM "JAW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BE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295280" y="761760"/>
            <a:ext cx="6553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THE AMERICAN FLAG, WHAT ARE THERE EXACTLY SEVEN OF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61800" y="762120"/>
            <a:ext cx="8420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A STREETCAR NAMED DESIRE", WHAT DOES STANLEY KOWALSKI YELL TO HIS WIF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MOUNTAIN RANGE OVERLAPS WITH YOSEMITE, SEQUOIA, AND KINGS CAVERN NATIONAL PARK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FERENCE BOOK  OF WORLD RECORDS WAS FIRST PUBLISHED IN 195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ECOND FULL MOON IN A MONTH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UNDING FATHER OF THE U.S. WAS GOVERNOR OF MASSACHUSETTS AND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OUSIN OF OUR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RESID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INSTRUMENT IS IRELAND'S NATIONAL SYMBO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3T18:32:21Z</dcterms:created>
  <dc:creator>Jennifer Budzinski</dc:creator>
  <dc:description/>
  <dc:language>en-US</dc:language>
  <cp:lastModifiedBy>Erich Friedman</cp:lastModifiedBy>
  <dcterms:modified xsi:type="dcterms:W3CDTF">2020-08-23T17:58:43Z</dcterms:modified>
  <cp:revision>332</cp:revision>
  <dc:subject/>
  <dc:title>Slide 1</dc:title>
</cp:coreProperties>
</file>