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11DB-3EBE-4934-88E7-3779A30F5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74BA-DACE-4D08-A9D4-08EFE4695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AB5A-665B-4A06-BC72-17C2441AA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D563-EE9B-485D-B722-C7414622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5398-3E6C-491A-BC0D-18850448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09E-026C-4910-AF10-62826A16E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50BC-E163-4ABC-8CD9-355810B8E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20A-0DB0-4145-9C49-0FB9930AC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EEDA-F5CC-4545-BED5-14206E57E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3267-71FE-4980-8DF0-B67D6735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9061-8E32-43C6-8F33-D69544F1B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E97-2F29-4C11-88DD-114FF2C5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042-A423-4273-B3E0-9973AC1C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09F-83DF-40A2-B535-2F6148E5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D246-F55F-4D8D-A08E-B7A7B5E80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1917-45B2-47DF-B8DF-91B255A6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EC54-A71C-4655-A987-2A1EFCFE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7035-10F2-4253-B53A-9F914E3F2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C630-6B10-4853-B83F-D62BE36AC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8FA7-59C6-470B-8057-E09B6016A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006-7F9A-4D5B-A2BE-4DB0D700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D27C-FBFF-485D-921E-2735DDE4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0883-97EC-4F5D-BBC9-F22660E7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NEV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N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OF WORLD RECORDS WAS FIRST PUBLISHED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49160"/>
            <a:ext cx="76960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URA OF GAS THAT SURROUNDS THE SUN THAT CAN ONLY BE SEEN DURING AN ECLIPS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SH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ATURDAY NIGHT LIVE" CHARACTER PLAYED BY CHEVY CHASE WAS DEVELOPED IN RESPONSE TO THE FILM "JAW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AMERICAN FLAG, WHAT ARE THERE EXACTLY SEVEN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 STREETCAR NAMED DESIRE", WHAT DOES STANLEY KOWALSKI YELL TO HI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OUNTAIN RANGE OVERLAPS WITH YOSEMITE, SEQUOIA, AND KINGS CAVERN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FERENCE BOOK  OF WORLD RECORDS WAS FIRST PUBLISHED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FULL MOON IN A MONT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 OF THE U.S. WAS GOVERNOR OF MASSACHUSETTS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OUSIN OF OUR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IRELAND'S NATIONAL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18:32:21Z</dcterms:created>
  <dc:creator>Jennifer Budzinski</dc:creator>
  <dc:description/>
  <dc:language>en-US</dc:language>
  <cp:lastModifiedBy>Erich Friedman</cp:lastModifiedBy>
  <dcterms:modified xsi:type="dcterms:W3CDTF">2020-08-23T17:58:43Z</dcterms:modified>
  <cp:revision>332</cp:revision>
  <dc:subject/>
  <dc:title>Slide 1</dc:title>
</cp:coreProperties>
</file>