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572B-1E2D-4B61-8BC1-25088CC2A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53C0-7364-40CE-923D-0E5941115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B39-8AB0-470E-87BB-B6C3F625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1486-1037-44BA-9908-20EB961D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358-E8DB-4D3E-ABAF-BB515B4CB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A6CF-610F-44D4-8D46-0E64C0C9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D72-4170-4FB2-83BC-189C85F2D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3864-CD9C-4F13-852C-2BF29B7C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01F-4EDE-43E8-9CA7-6BB8E2B41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5204-9881-49DE-B316-A176C316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51C-3DC9-4E4D-B371-023A34C6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8011-2743-425F-8B20-D6D6F8E9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F4FC-9405-4D66-9C00-9A25BCFE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57ED-22FD-48CE-A3DA-FF7D3E92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1B4-4FE3-4CB5-AD27-499C6BB1C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DC5-E743-4250-96E0-8AAA9F3FB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2C4C-BA4F-438D-8422-CEC58605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DE96-9ADB-418F-8E59-3137D296C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37BA-951C-4955-A0CA-D4DC3474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4042-A7CD-428E-8CF4-BC12A1B9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2BE0-E10C-44D1-A49D-D1B588223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A21D-91E7-4490-B6D8-D8C38688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31CB-316E-45C8-A6D8-0193EDE6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ATURDAY NIGHT LIVE" CHARACTER PLAYED BY CHEVY CHASE WAS DEVELOPED IN RESPONSE TO THE FILM "JA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URA OF GAS THAT SURROUNDS THE SUN THAT CAN ONLY BE SEEN DURING AN ECLIPS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AMERICAN FLAG, WHAT ARE THERE EXACTLY SEVE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 STREETCAR NAMED DESIRE", WHAT DOES STANLEY KOWALSKI YELL TO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  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UNTAIN RANGE OVERLAPS WITH YOSEMITE, SEQUOIA, AND KINGS CAVERN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FERENCE BOOK OF WORLD RECORDS WAS FIRST PUBLISHED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4916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FULL MOON IN A MONT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THE U.S. WAS GOVERNOR OF MASSACHUSETTS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SIN OF OU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URA OF GAS THAT SURROUNDS THE SUN THAT CAN ONLY BE SEEN DURING AN ECLIPS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IRELAND'S NATIONAL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H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ATURDAY NIGHT LIVE" CHARACTER PLAYED BY CHEVY CHASE WAS DEVELOPED IN RESPONSE TO THE FILM "JA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AMERICAN FLAG, WHAT ARE THERE EXACTLY SEVEN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 STREETCAR NAMED DESIRE", WHAT DOES STANLEY KOWALSKI YELL TO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UNTAIN RANGE OVERLAPS WITH YOSEMITE, SEQUOIA, AND KINGS CAVERN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FERENCE BOOK  OF WORLD RECORDS WAS FIRST PUBLISHED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FULL MOON IN A MONT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THE U.S. WAS GOVERNOR OF MASSACHUSETTS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SIN OF OU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IRELAND'S NATIONAL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8:32:21Z</dcterms:created>
  <dc:creator>Jennifer Budzinski</dc:creator>
  <dc:description/>
  <dc:language>en-US</dc:language>
  <cp:lastModifiedBy>Erich Friedman</cp:lastModifiedBy>
  <dcterms:modified xsi:type="dcterms:W3CDTF">2020-08-23T17:58:43Z</dcterms:modified>
  <cp:revision>332</cp:revision>
  <dc:subject/>
  <dc:title>Slide 1</dc:title>
</cp:coreProperties>
</file>