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5409-FD0B-4F90-8BBD-4F8B92963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7D1C-2679-407B-AA7E-1B5CE3FF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51A-70DB-4F00-9807-6E385DFC3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3E9-4910-4CEC-82F9-CA08B1E9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5F4-8F25-4083-85E0-8200069F2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C2DB-73B7-467E-B6EE-B3A727C6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679E-1EB0-471B-8313-64824E0C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909-EE7F-4882-91D9-775E4DC3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DF12-8078-413D-BACA-42167F846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8863-93AF-42AE-80AF-24372B03C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8813-0E0E-4ED6-AD2F-8C6E28E58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86F0-6116-450B-A782-82B37D8A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20DF-FE7E-43D5-875E-BC643AAD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16C9-EAB9-4603-89E0-6DE75FAB7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A6FD-437E-41D2-BF37-973B43EC9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286D-AF2D-423B-A526-39B44535E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A31-1618-4957-AB53-82B6835A5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CE45-729D-4736-82D9-6DAC96EAA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AAC8-3E3E-4DBA-93DE-16362FB8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5AE-116A-4865-B89C-F420903D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52AB-467E-41B9-9B2A-E7750519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0F00-1875-4F59-A10B-0E550820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AE1-85E1-4794-9A62-CC11A85F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IT SONG BY KENDRICK LAMAR WON BEST BEST RAP SONG AND BEST VIDEO OF THE YEA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T IS NATIVE TO THE SOUTH CENTRAL U.S., AND IS PRONOUNCED DIFFERENTLY IN DIFFEREN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FTEN CALLED A YAM, EVEN THOUGH THEY ARE DIFFERENT SPEC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ARD GAME HAS PIECES CALLED BISHOPS, KNIGHTS, AND R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LE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EST ACTOR FOR  "SAVE THE TIGER" AND BEST SUPPORTING ACTOR FOR "MISTER ROBE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COMING-OF-AGE FILM STARRED MATTHEW MCCONAUGHEY, REESE WITHERSPOON, AND SAM SHEP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D-LIKE SQUASH IS ASSOCIATED WITH A POPULAR U.S.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HAS ITS LARGEST HUB IN DA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T IS NATIVE TO THE SOUTH CENTRAL U.S., AND IS PRONOUNCED DIFFERENTLY IN DIFFERENT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032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DID THE BEATLES FOUND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IT SONG BY KENDRICK LAMAR WON BEST BEST RAP SONG AND BEST VIDEO OF THE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FTEN CALLED A YAM, EVEN THOUGH THEY ARE DIFFERENT SPECI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ARD GAME HAS PIECES CALLED BISHOPS, KNIGHTS, AND R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EST ACTOR FOR  "SAVE THE TIGER" AND BEST SUPPORTING ACTOR FOR "MISTER ROBER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COMING-OF-AGE FILM STARRED MATTHEW MCCONAUGHEY, REESE WITHERSPOON, AND SAM SHEP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D-LIKE SQUASH IS ASSOCIATED WITH A POPULAR U.S.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HAS ITS LARGEST HUB IN DA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DID THE BEATLES FOUND IN 196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2:39:12Z</dcterms:created>
  <dc:creator>Jennifer Budzinski</dc:creator>
  <dc:description/>
  <dc:language>en-US</dc:language>
  <cp:lastModifiedBy>Erich Friedman</cp:lastModifiedBy>
  <dcterms:modified xsi:type="dcterms:W3CDTF">2020-08-24T22:41:16Z</dcterms:modified>
  <cp:revision>353</cp:revision>
  <dc:subject/>
  <dc:title>Slide 1</dc:title>
</cp:coreProperties>
</file>