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7963-7627-4920-BF86-E9ABD7368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519D-8F0F-4AF4-9115-EA05A74CF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4F50-163A-4B90-8462-235ECFD09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10FA-8477-426D-859D-5A6A4EC8F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4354-01C7-44CA-B182-626ACDEE5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42BC-B7EA-436E-890D-8AA229F32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8AC2-2B75-4504-8D6F-867DCD745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0786-EDDA-4C58-8DB8-F236737C7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DC70-D5C5-405F-8842-C5EE86971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B87C-3F60-404C-9997-62B1968E8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637D-4416-4953-AEE4-219319FD1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9C7D-0DE6-4DAF-80BC-7A173DE31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EA00-4E9C-43F2-8377-EF0CC7412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6CA1-D4F3-48EA-A094-5277BACA4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DDA6-5E01-4BEB-B77A-47D8D7774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21F9-83E3-4BDE-86C9-A4D99E492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0DED-353F-41F5-BCEE-61A732766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D083-3CD4-4085-8986-5310C71D4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27EA-E423-4031-A8B9-BEBD8C542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2CEA-D672-4A7F-AD99-BDC41BC3C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781B-D733-4076-9B41-07A15187C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C96A-69EB-46B7-B5E9-9FCE0CA3D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54BB-82EC-46CE-AC7D-1B7F22585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7 HIT SONG BY KENDRICK LAMAR WON BEST BEST RAP SONG AND BEST VIDEO OF THE YEAR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C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229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T IS NATIVE TO THE SOUTH CENTRAL U.S., AND IS PRONOUNCED DIFFERENTLY IN DIFFERENT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8808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EET  POTA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OFTEN CALLED A YAM, EVEN THOUGH THEY ARE DIFFERENT SPECI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ARD GAME HAS PIECES CALLED BISHOPS, KNIGHTS, AND ROO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ACK)  LEM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BEST ACTOR FOR  "SAVE THE TIGER" AND BEST SUPPORTING ACTOR FOR "MISTER ROBERT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2 COMING-OF-AGE FILM STARRED MATTHEW MCCONAUGHEY, REESE WITHERSPOON, AND SAM SHEP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MPK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62120"/>
            <a:ext cx="769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OURD-LIKE SQUASH IS ASSOCIATED WITH A POPULAR U.S. HOLI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RIC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IRLINE HAS ITS LARGEST HUB IN DALL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T IS NATIVE TO THE SOUTH CENTRAL U.S., AND IS PRONOUNCED DIFFERENTLY IN DIFFERENT ST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85800" y="760320"/>
            <a:ext cx="77724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CORD LABEL DID THE BEATLES FOUND IN 196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M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7 HIT SONG BY KENDRICK LAMAR WON BEST BEST RAP SONG AND BEST VIDEO OF THE YEA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04920" y="4876920"/>
            <a:ext cx="8534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P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OFTEN CALLED A YAM, EVEN THOUGH THEY ARE DIFFERENT SPECIE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ARD GAME HAS PIECES CALLED BISHOPS, KNIGHTS, AND ROO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BEST ACTOR FOR  "SAVE THE TIGER" AND BEST SUPPORTING ACTOR FOR "MISTER ROBERT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2396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2 COMING-OF-AGE FILM STARRED MATTHEW MCCONAUGHEY, REESE WITHERSPOON, AND SAM SHEPA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OURD-LIKE SQUASH IS ASSOCIATED WITH A POPULAR U.S. HOLID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IRLINE HAS ITS LARGEST HUB IN DALL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CORD LABEL DID THE BEATLES FOUND IN 196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5T12:39:12Z</dcterms:created>
  <dc:creator>Jennifer Budzinski</dc:creator>
  <dc:description/>
  <dc:language>en-US</dc:language>
  <cp:lastModifiedBy>Erich Friedman</cp:lastModifiedBy>
  <dcterms:modified xsi:type="dcterms:W3CDTF">2020-08-24T22:41:16Z</dcterms:modified>
  <cp:revision>353</cp:revision>
  <dc:subject/>
  <dc:title>Slide 1</dc:title>
</cp:coreProperties>
</file>