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72C5-BD94-4716-BFBC-2DDCC7537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67C2-BA45-4F24-A457-5C27A1276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02BC-78ED-4F8F-92AE-C97449EAB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169B-131F-414B-B2CB-8AC999F8B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30F1-C5AA-41A9-8576-CF066A5B6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13D2-B2F6-406F-9B4F-147EE9463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63BC-C598-4C32-A3AE-A34FC8E7C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7410-BC88-4EFF-9DA9-B8450E13B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B517-40FB-44F4-B8A0-0C79C2A5A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EB0C-61E7-43C3-AD1C-87D3D8DC4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6A32-5822-4005-8769-5ABA554A3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7831-7EF6-4926-89FD-C0399A2C3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C93C-4EF1-4915-91A5-9DAB04E4F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0A67-36A4-4883-B12D-B52D138F4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5E69-C8EA-40F8-ADF5-FED6A44AC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3A17-C693-4BE9-B54D-FA4CFE9CA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DA85-E3E6-4E65-8FFB-4E2F4302B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2114-C70C-4493-914D-9B8501BF5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63C4-B456-4D45-BE0C-6E6E8813A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6E43-F208-494A-A609-DC5E1A88A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C15E-6F4B-495F-904D-21C6E2A06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3F74-6F9F-440F-8FCE-A8579D9CD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0FD7-5861-441E-865B-6F58DF73F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HIT SONG BY KENDRICK LAMAR WON BEST BEST RAP SONG AND BEST VIDEO OF THE YEA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T IS NATIVE TO THE SOUTH CENTRAL U.S., AND IS PRONOUNCED DIFFERENTLY IN DIFFERENT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FTEN CALLED A YAM, EVEN THOUGH THEY ARE DIFFERENT SPEC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ARD GAME HAS PIECES CALLED BISHOPS, KNIGHTS, AND R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K)  LE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EST ACTOR FOR  "SAVE THE TIGER" AND BEST SUPPORTING ACTOR FOR "MISTER ROBER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COMING-OF-AGE FILM STARRED MATTHEW MCCONAUGHEY, REESE WITHERSPOON, AND SAM SHEP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MP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URD-LIKE SQUASH IS ASSOCIATED WITH A POPULAR U.S.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IRLINE HAS ITS LARGEST HUB IN DAL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T IS NATIVE TO THE SOUTH CENTRAL U.S., AND IS PRONOUNCED DIFFERENTLY IN DIFFERENT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032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LABEL DID THE BEATLES FOUND IN 19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HIT SONG BY KENDRICK LAMAR WON BEST BEST RAP SONG AND BEST VIDEO OF THE YE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FTEN CALLED A YAM, EVEN THOUGH THEY ARE DIFFERENT SPECI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ARD GAME HAS PIECES CALLED BISHOPS, KNIGHTS, AND R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EST ACTOR FOR  "SAVE THE TIGER" AND BEST SUPPORTING ACTOR FOR "MISTER ROBER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COMING-OF-AGE FILM STARRED MATTHEW MCCONAUGHEY, REESE WITHERSPOON, AND SAM SHEP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URD-LIKE SQUASH IS ASSOCIATED WITH A POPULAR U.S. HOL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IRLINE HAS ITS LARGEST HUB IN DALL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LABEL DID THE BEATLES FOUND IN 196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2:39:12Z</dcterms:created>
  <dc:creator>Jennifer Budzinski</dc:creator>
  <dc:description/>
  <dc:language>en-US</dc:language>
  <cp:lastModifiedBy>Erich Friedman</cp:lastModifiedBy>
  <dcterms:modified xsi:type="dcterms:W3CDTF">2020-08-24T22:41:16Z</dcterms:modified>
  <cp:revision>353</cp:revision>
  <dc:subject/>
  <dc:title>Slide 1</dc:title>
</cp:coreProperties>
</file>