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4ADF-8B05-4CB6-A4C1-4716BED23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1E31-9A95-420D-8210-0B66714C4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CDE1-B5DE-444E-9B3A-6CD839B8E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D0D6-F1E7-4A0E-99C4-7DFFF16C8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591A-BA14-4FC7-88C1-5498E954D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6058E-1E0C-4D33-9742-7E0AFC0E0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96F2-14E0-4F7B-9DB4-9EFC7597E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72E0-2A41-431C-87C4-C3C463649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14B6-B15A-4A20-814F-1829B09E5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D2A0-B117-431C-96EE-4B4405E9F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A11F-80E8-4F8B-82CB-F9644390C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FB39-D853-487C-92D6-82BCC753C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BE25-A5FB-45AA-B65E-46B871259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B46C-3826-4D4A-A7E1-49E4493EB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91AD-59D5-4C8E-A5DD-1594AA9BF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A6DD-4349-48E4-81B6-D999D4C8C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0FE8-8853-4ABE-BF77-AC8652FA8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EA8F-BAB6-4DF5-8FBF-69E77AFCE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113A-5D49-480D-99E9-79F88782C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AD3B-856C-42E3-B500-4CCEB8FFD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3531-0F33-413B-A942-D6DA95D69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2C8A-1CCA-45C6-839A-05DF0A338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72EC-036F-4BF6-AAF1-DE629A3DA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52600" y="761760"/>
            <a:ext cx="8038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CONSISTED OF JACK BRUCE, ERIC CLAPTON, AND GINGER BAK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41240" y="762120"/>
            <a:ext cx="7661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      "BABY I'M – A WANT YO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EN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33280" y="762120"/>
            <a:ext cx="8675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OUS U.S. STATE CAPI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EE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33200" y="762120"/>
            <a:ext cx="8877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73 FILM IS WOODY ALLEN FROZEN AND DEFROSTED 200 YEARS LATER IN AN INEPTLY LED POLICE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977760" y="4875120"/>
            <a:ext cx="7188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57200" y="7603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ORD "SHE" APPEARS IN THE TITLE OF 7 BEATLES SONGS.  WHAT OTHER 3-LETTER WORD BEGINNING WITH "S" APPEARS IN THE TITLE OF 4 BEATLES SONG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 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95320" y="762120"/>
            <a:ext cx="7353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NVER IS CALLED THE "MILE HIGH CITY" BECAUSE IT OFFICIALLY SITS AT 5,280 FEET ABOV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DARK  K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66640" y="762120"/>
            <a:ext cx="8010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VIE, THE TOP-GROSSING FILM OF 2008, INTRODUCED THE ILL-    FATED POLITICAL SLOGAN                 "I BELIEVE IN HARVEY DE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SUS  CHR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52480" y="762120"/>
            <a:ext cx="7439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CENTRAL FIGURE IN THE WORLD'S LARGEST RELIG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40880" y="762120"/>
            <a:ext cx="7659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      "BABY I'M – A WANT YO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T  AIR  BALL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19160" y="762120"/>
            <a:ext cx="8905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SUCCESSFUL HUMAN-CARRYING FLIGHT TECHNOLOGY, BUILT BY THE MONTGOLFIER BROTH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92200" y="762120"/>
            <a:ext cx="7958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CONSISTED OF JACK BRUCE, ERIC CLAPTON, AND GINGER BAK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523880" y="4876920"/>
            <a:ext cx="6120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THAT  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09520" y="761760"/>
            <a:ext cx="8724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OUS U.S. STATE CAPIT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23840" y="762120"/>
            <a:ext cx="8896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73 FILM IS WOODY ALLEN FROZEN AND DEFROSTED 200 YEARS LATER IN AN INEPTLY LED POLICE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8280" y="762120"/>
            <a:ext cx="8224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WORD "SHE" APPEARS IN THE TITLE OF 7 BEATLES SONGS.  WHAT OTHER 3-LETTER WORD BEGINNING WITH "S" APPEARS IN THE TITLE OF 4 BEATLES SONG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58960" y="762120"/>
            <a:ext cx="7424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NVER IS CALLED THE "MILE HIGH CITY" BECAUSE IT OFFICIALLY SITS AT 5,280 FEET ABOV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90680" y="761760"/>
            <a:ext cx="8161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VIE, THE TOP-GROSSING FILM OF 2008, INTRODUCED THE ILL-    FATED POLITICAL SLOGAN                 "I BELIEVE IN HARVEY DEN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57080" y="761760"/>
            <a:ext cx="7629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CENTRAL FIGURE IN THE WORLD'S LARGEST RELIG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38240" y="762120"/>
            <a:ext cx="8866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SUCCESSFUL HUMAN-CARRYING FLIGHT TECHNOLOGY, BUILT BY THE MONTGOLFIER BROTH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9-20T09:31:24Z</dcterms:modified>
  <cp:revision>420</cp:revision>
  <dc:subject/>
  <dc:title>Slide 1</dc:title>
</cp:coreProperties>
</file>