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F40-BDB1-4033-ACE8-B18221B3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73C-4E0E-42B2-9459-5B0537F9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1F53-121A-4CAA-AAEC-35089A7E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F716-885D-4164-AC03-FF215C744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506C-7977-42A3-961C-F85933BDF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8A03-7B2F-4C14-A154-250E04EE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B95C-2440-495B-ADBB-8CC3FF8C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F957-DE02-4F29-8303-C0A05E9F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150-C99B-43BA-B4E2-A46A1D43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49C-9C7C-4845-887E-BE6FB8FDF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B43-23DD-4E9C-8B80-E6BB2F882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7A9-72BF-4D85-BF0F-E213997D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AA0-E55D-497D-A51D-419EF1B9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F188-CF74-4C32-931C-D3F44F78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7BA3-A31B-4590-9F84-87E7A45D2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FF10-E5A5-4507-AB66-BA9E8AA3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234-FFB4-4F08-B98C-90C3D9B7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733D-AD74-4C06-9194-C0E4DE7F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CDEF-F562-493F-852C-8F142ADE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7B7A-4C20-47D5-BDE1-04EEE9471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4CF5-ED9A-4928-A3CE-55D581E3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D8B-8A43-4B10-AACB-E4E69078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6B0-E5B4-484A-95BC-BB02D124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CONSISTED OF JACK BRUCE, ERIC CLAPTON, AND GINGER B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1240" y="762120"/>
            <a:ext cx="766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      "BABY I'M – 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U.S. STATE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200" y="762120"/>
            <a:ext cx="887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3 FILM IS WOODY ALLEN FROZEN AND DEFROSTED 200 YEARS LATER IN AN INEPTLY LED POLIC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"SHE" APPEARS IN THE TITLE OF 7 BEATLES SONGS.  WHAT OTHER 3-LETTER WORD BEGINNING WITH "S" APPEARS IN THE TITLE OF 4 BEATLES SO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VER IS CALLED THE "MILE HIGH CITY" BECAUSE IT OFFICIALLY SITS AT 5,280 FEET ABOV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RK  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6640" y="762120"/>
            <a:ext cx="801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, THE TOP-GROSSING FILM OF 2008, INTRODUCED THE ILL-    FATED POLITICAL SLOGAN                 "I BELIEVE IN HARVEY D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NTRAL FIGURE IN THE WORLD'S LARGEST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4088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      "BABY I'M – 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AIR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9160" y="762120"/>
            <a:ext cx="890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UCCESSFUL HUMAN-CARRYING FLIGHT TECHNOLOGY, BUILT BY THE MONTGOLFIER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92200" y="762120"/>
            <a:ext cx="795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CONSISTED OF JACK BRUCE, ERIC CLAPTON, AND GINGER B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876920"/>
            <a:ext cx="6120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U.S. STATE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3 FILM IS WOODY ALLEN FROZEN AND DEFROSTED 200 YEARS LATER IN AN INEPTLY LED POLIC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8280" y="762120"/>
            <a:ext cx="8224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"SHE" APPEARS IN THE TITLE OF 7 BEATLES SONGS.  WHAT OTHER 3-LETTER WORD BEGINNING WITH "S" APPEARS IN THE TITLE OF 4 BEATLES SONG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8960" y="762120"/>
            <a:ext cx="7424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VER IS CALLED THE "MILE HIGH CITY" BECAUSE IT OFFICIALLY SITS AT 5,280 FEET ABOV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, THE TOP-GROSSING FILM OF 2008, INTRODUCED THE ILL-    FATED POLITICAL SLOGAN                 "I BELIEVE IN HARVEY D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NTRAL FIGURE IN THE WORLD'S LARGEST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8240" y="762120"/>
            <a:ext cx="886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UCCESSFUL HUMAN-CARRYING FLIGHT TECHNOLOGY, BUILT BY THE MONTGOLFIE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0T09:31:24Z</dcterms:modified>
  <cp:revision>420</cp:revision>
  <dc:subject/>
  <dc:title>Slide 1</dc:title>
</cp:coreProperties>
</file>