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CFA8-B8DD-40AA-8B9E-CB3F1E3C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2891-59F6-443F-9D10-5C462B791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7EF0-0634-4554-B7BF-6984A8A5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2284-A69B-450C-BE5F-8F0936F1C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1FFC-91CD-4FC0-9BE7-016D3BC79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1D35-7016-4125-98B0-F3FF78DF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FCEB-9793-4AB4-B5A3-22835875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68CA-9400-4A20-8DFA-32BF73A92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2437-CE2E-4AD3-8A8A-93717CFF1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9A99-AE05-4CCC-95A4-8C256841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9B9-123F-44F4-9A86-CA4EA448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3862-322B-4591-B1F5-27140524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4EF-0E65-4BC2-8DD3-60232C45E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843-ED95-43CF-BBCA-970307CC8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C5D2-AF9E-4E70-ACBF-7A67E4CA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82B-EB4B-4036-999F-B61D57919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6CE2-AF23-4875-B35A-62C7E6A55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19A-F362-47D9-9A04-F53C06C9A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8D8A-310D-4684-B738-9AF2B8189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6AAC-8D93-4AF8-B6B3-2EDFEDBB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E52-5E7C-47E0-BD04-90B066EE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267B-9218-4408-B974-F2590524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0D0E-41A8-48C3-82C2-75C712BE4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BASED IN MINNEAPO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23760" y="762120"/>
            <a:ext cx="7296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IRD PICTURED ON NATIONAL FLA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0060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UN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MALE ATHLETIC TEAMS OF THE UNIVERSITY OF TENNESS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WH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TV SERIES THAT RAN FOR 7 ½ YEARS STARRED ERIC FLEMING AND CLINT EAST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006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OSTON NBA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95320" y="762120"/>
            <a:ext cx="7353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HINGTON TEAM HAS LOST TO THE HARLEM GLOBETROTTERS OVER 16,000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00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G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YX SONG HAS A CHORUS THAT BEGINS "THE JIG IS UP!  THE NEWS IS OUT! THEY'VE FINALLY FOUND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BIRD PICTURED ON NATIONAL FLA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0060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52360" y="762120"/>
            <a:ext cx="68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A GLASS WITH A FLAT BOTTOM, STRAIGHT SIDES, AND NO HAND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0060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BERWOL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762120"/>
            <a:ext cx="7162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TEAM IS BASED IN MINNEAPO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14400" y="4343400"/>
            <a:ext cx="7315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  SERVICE  NICKNAMES  FOR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MALE ATHLETIC TEAMS OF THE UNIVERSITY OF TENNESS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ERN TV SERIES THAT RAN FOR 7 ½ YEARS STARRED ERIC FLEMING AND CLINT EAST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OSTON NBA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390680" y="762120"/>
            <a:ext cx="6362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HINGTON TEAM HAS LOST TO THE HARLEM GLOBETROTTERS OVER 16,000 TIM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YX SONG HAS A CHORUS THAT BEGINS "THE JIG IS UP!  THE NEWS IS OUT! THEY'VE FINALLY FOUND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A GLASS WITH A FLAT BOTTOM, STRAIGHT SIDES, AND NO HAND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3-28T18:39:24Z</dcterms:modified>
  <cp:revision>364</cp:revision>
  <dc:subject/>
  <dc:title>Slide 1</dc:title>
</cp:coreProperties>
</file>