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976D-3015-443A-94C3-BA56CD2A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C3D-CCD4-4262-99CB-64CAB42A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414-DC80-44A8-9374-338E440D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697-4F1A-4304-AD94-C587FCB6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A90-38AF-483B-9044-1370139C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E427-67CD-4666-8855-69F73A09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410-43BD-4284-9157-C9A3DCEA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7A36-E8ED-48A1-8360-FEEEA5E3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A069-1447-4519-B72F-3D78D7E8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D2C-DB95-4E60-A81D-F5C85E73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7BB-BB03-4A89-BC91-84A95D23C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281-0B8B-4862-867B-7C25166B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5624-99DB-449A-913B-274C2E623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52D-C68D-4C31-8DFE-630BD4A8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35AB-96AE-487A-B74F-4E138E89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4F4F-AAA6-44C8-8ED0-40B8F2EF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2BED-64B3-4BEB-8B36-DB40F2F6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2AE3-F6D6-4CEE-992D-E5D2562F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779-159B-4255-A140-4EFE1603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6412-ED8B-4DF4-B7BE-038794A8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34DA-6779-4CEB-98AA-78A81166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57F-DA6F-49AF-8812-DA11140C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C75-A19B-4D9F-A096-2DDE762F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BASED IN MINNE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762120"/>
            <a:ext cx="7296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IRD PICTURED ON NATIONAL FL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UN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MALE ATHLETIC TEAMS OF THE UNIVERSITY OF TENNES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W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TV SERIES THAT RAN FOR 7 ½ YEARS STARRED ERIC FLEMING AND CLINT EAST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OSTON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95320" y="762120"/>
            <a:ext cx="7353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HINGTON TEAM HAS LOST TO THE HARLEM GLOBETROTTERS OVER 16,000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00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YX SONG HAS A CHORUS THAT BEGINS "THE JIG IS UP!  THE NEWS IS OUT! THEY'VE FINALLY FOUN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IRD PICTURED ON NATIONAL FL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52360" y="762120"/>
            <a:ext cx="68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A GLASS WITH A FLAT BOTTOM, STRAIGHT SIDES, AND NO HAND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BERW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BASED IN MINNE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14400" y="43434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SERVICE  NICKNAMES  FOR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MALE ATHLETIC TEAMS OF THE UNIVERSITY OF TENNESS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TV SERIES THAT RAN FOR 7 ½ YEARS STARRED ERIC FLEMING AND CLINT EAST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OSTON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90680" y="762120"/>
            <a:ext cx="6362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HINGTON TEAM HAS LOST TO THE HARLEM GLOBETROTTERS OVER 16,000 TIM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YX SONG HAS A CHORUS THAT BEGINS "THE JIG IS UP!  THE NEWS IS OUT! THEY'VE FINALLY FOUN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A GLASS WITH A FLAT BOTTOM, STRAIGHT SIDES, AND NO HAND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3-28T18:39:24Z</dcterms:modified>
  <cp:revision>364</cp:revision>
  <dc:subject/>
  <dc:title>Slide 1</dc:title>
</cp:coreProperties>
</file>