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209C-B863-4675-BD98-A19D45AF5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9384-7601-4313-BF06-A67B96708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468B-810C-4CCC-936F-C43AA12DC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BE1F-DE5B-453D-BB16-E2CD9C686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294C-DE05-4A1A-B47A-C5715AD84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F3D6-A69B-4FA9-8BC8-2E75B16C6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8629-FD51-4BC5-B4FF-41D6856A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4B00-E794-4CD3-9453-55FDD825D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0579-DDE9-475D-BD3E-61349FDD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70D7-A724-4888-A013-BFEB7FA4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4753-07D3-4DBD-9AA4-3E0BBAF78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B63C-AA53-45A6-9AAC-41E5DA416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368B-2A90-4824-8CF2-C9BDB6ED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24FF-D956-4E70-8DB5-EFBBCC6E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67A5-F6E3-4608-8A6E-612F8A973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1644-BB63-4440-81C0-8A605675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89B4-5220-4C7D-8ADE-F2847B21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8833-679F-40CF-ACF7-F58009B9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7FDC-8068-4DDE-B4DE-6AC6C9B2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E311-FAF2-4C40-9DF8-C0C20C6B4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112C-49DB-4935-B899-68122E57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CA93-D8C3-4AD7-908D-80961E58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39A1-B8CF-4E50-8844-F4C710A7D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IAN-AMERICAN HOLOCAUST SURVIVOR WON THE NOBEL PEACE PRIZE IN 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8360" y="762120"/>
            <a:ext cx="76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WON 4 PULITZER PRIZES, FOR "NEW HAMPSHIRE", "COLLECTED POEMS", "A FURTHER RANGE"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"A WITNESS T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N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5920" y="762120"/>
            <a:ext cx="837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AN FOR PRESIDENT IN 2000, 2004, AND 2008, GETTING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ALL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F.  BUCKL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38280" y="771480"/>
            <a:ext cx="786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ATIONAL REVIE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HOSTED MORE THAN 1400 EPISODES OF THE TV SHOW "FIRING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1604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WHO CHAIRED THE TRUTH AND RECONCILIATION COMMISSION AFTER APART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  JERE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KNOWN MALE PORN STAR IS CURRENTLY IN JAIL AWAITING TRIAL FOR MULTIPLE COUNTS  OF SEXUAL ASSAU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JENNINGS  B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6400" y="762120"/>
            <a:ext cx="75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MOCRATIC NOMINEE FOR PRESIDENT IN 1896, 1900, AND 1908, LOSING ALL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440" y="762120"/>
            <a:ext cx="609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OO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1720" y="758880"/>
            <a:ext cx="75405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BE THE WORLD'S FOREMOST EXPERT ON CHIMPANZE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3240" y="762120"/>
            <a:ext cx="7877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IAN-AMERICAN HOLOCAUST SURVIVOR WON THE NOBEL PEACE PRIZE IN 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POKE  AT  STE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WON 4 PULITZER PRIZES, FOR "NEW HAMPSHIRE", "COLLECTED POEMS", "A FURTHER RANGE"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"A WITNESS T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3880" y="762120"/>
            <a:ext cx="843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AN FOR PRESIDENT IN 2000, 2004, AND 2008, GETTING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ALL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7400" y="762120"/>
            <a:ext cx="790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ATIONAL REVIE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HOSTED MORE THAN 1400 EPISODES OF THE TV SHOW "FIRING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WHO CHAIRED THE TRUTH AND RECONCILIATION COMMISSION AFTER APARTHE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2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L-KNOWN MALE PORN STAR IS CURRENTLY IN JAIL AWAITING TRIAL FOR MULTIPLE COUNTS  OF SEXUAL ASSAU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6560" y="761760"/>
            <a:ext cx="7488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MOCRATIC NOMINEE FOR PRESIDENT IN 1896, 1900, AND 1908, LOSING ALL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O BE THE WORLD'S FOREMOST EXPERT ON CHIMPANZE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0:44:43Z</dcterms:modified>
  <cp:revision>405</cp:revision>
  <dc:subject/>
  <dc:title>Slide 1</dc:title>
</cp:coreProperties>
</file>