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43EF-6FCA-4CBE-92B8-12F4DB6CE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FF86-2F6E-496F-ABA6-2252F17D0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5237-B205-42B1-91DD-088CED587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5118-B0EB-4994-AD71-28174CB6E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B55E-62F8-4160-8619-0A47DFC80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3120-1F13-41A2-BC17-BDA20F86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B561-C20D-48F8-A041-66A944A8A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9DC7-4808-4E4B-A991-EBD6DA3A9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0ED0-B28C-46BB-95A8-7010F33C0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9858-950A-4EC6-8562-A8A285E76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AD7-AD44-43DD-9872-9A6278DD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2803-89BC-48DD-BBE4-19F787983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4A1B-027F-4905-96B1-42F6D8D89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681C-0696-4EF0-B40E-BFC4330E3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A748-5F36-452A-9E8F-D89D778F1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C5A6-33ED-425D-8B32-5E3458924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4359-2A27-4816-B121-CA2475C01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DEC8-74C6-43DA-85E1-DCA6E0F6D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6A09-33B2-403E-94CD-7D75F4211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227C-204E-45DB-A850-72A7EBE6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3DDA-5779-4641-BDFE-CC5899C71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E29A-772C-4A67-985D-49BB04BA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33F2-AA68-4C62-8F3C-0FB04DC05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IAN-AMERICAN HOLOCAUST SURVIVOR WON THE NOBEL PEACE PRIZE IN 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38360" y="762120"/>
            <a:ext cx="766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BORN IN A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FR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POET WON 4 PULITZER PRIZES, FOR "NEW HAMPSHIRE", "COLLECTED POEMS", "A FURTHER RANGE"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"A WITNESS T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N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5920" y="762120"/>
            <a:ext cx="837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AN FOR PRESIDENT IN 2000, 2004, AND 2008, GETTING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ALL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F.  BUCKL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38280" y="771480"/>
            <a:ext cx="786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ATIONAL REVIE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HOSTED MORE THAN 1400 EPISODES OF THE TV SHOW "FIRING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MOND  T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3080" y="71604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RCHBISHOP OF CAPE TOWN, WHO CHAIRED THE TRUTH AND RECONCILIATION COMMISSION AFTER APART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  JERE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L-KNOWN MALE PORN STAR IS CURRENTLY IN JAIL AWAITING TRIAL FOR MULTIPLE COUNTS  OF SEXUAL ASSAU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JENNINGS  B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6400" y="762120"/>
            <a:ext cx="75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MOCRATIC NOMINEE FOR PRESIDENT IN 1896, 1900, AND 1908, LOSING ALL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440" y="762120"/>
            <a:ext cx="609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BORN IN A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GOO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1720" y="758880"/>
            <a:ext cx="75405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O BE THE WORLD'S FOREMOST EXPERT ON CHIMPANZE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E  WIE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33240" y="762120"/>
            <a:ext cx="7877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IAN-AMERICAN HOLOCAUST SURVIVOR WON THE NOBEL PEACE PRIZE IN 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POKE  AT  STE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POET WON 4 PULITZER PRIZES, FOR "NEW HAMPSHIRE", "COLLECTED POEMS", "A FURTHER RANGE"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"A WITNESS T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53880" y="762120"/>
            <a:ext cx="843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AN FOR PRESIDENT IN 2000, 2004, AND 2008, GETTING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ALL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7400" y="762120"/>
            <a:ext cx="790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ATIONAL REVIE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HOSTED MORE THAN 1400 EPISODES OF THE TV SHOW "FIRING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RCHBISHOP OF CAPE TOWN, WHO CHAIRED THE TRUTH AND RECONCILIATION COMMISSION AFTER APARTHE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2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L-KNOWN MALE PORN STAR IS CURRENTLY IN JAIL AWAITING TRIAL FOR MULTIPLE COUNTS  OF SEXUAL ASSAU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6560" y="761760"/>
            <a:ext cx="7488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MOCRATIC NOMINEE FOR PRESIDENT IN 1896, 1900, AND 1908, LOSING ALL 3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3280" y="762120"/>
            <a:ext cx="7597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O BE THE WORLD'S FOREMOST EXPERT ON CHIMPANZE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1T10:44:43Z</dcterms:modified>
  <cp:revision>405</cp:revision>
  <dc:subject/>
  <dc:title>Slide 1</dc:title>
</cp:coreProperties>
</file>