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E62-60B9-462D-8FDB-733E1AC4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B20-FA3E-4334-9D92-90DF9179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018-03F9-4FB5-8AB0-74603EA54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5CA4-81D6-4252-B112-942C4095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D08-EE3D-41B6-95CD-D716F14ED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8D2-A346-4CDA-93C6-F3A6C1D4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2DE1-12FB-4320-98AF-4BA787B3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4F2C-3B1B-43DD-8724-FF8869F2D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4285-59A6-495D-8E67-E8BA11BA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5A43-3609-45A2-B07E-D0521BF8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26C-DB3D-456E-B136-8C7380FB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375B-64E8-42D5-B343-BF2E9FE9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B4F0-2047-487C-B907-482D8815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178C-987C-4FD9-BBEC-5E7A2CBB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DDD-EFDD-4BA9-9308-80EA58F5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07D-A857-4142-B7DC-A92FBBF2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454-469A-4AAE-9B89-DCCEF4A5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63FD-9180-49A7-8CA0-F12C1540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9396-5897-48F6-81F6-30F0171F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2F1-CD1A-4536-AE3C-F65C32601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7FC2-F134-49CC-94B7-329A55E84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9D3B-7698-4B7B-B57E-0C06DA28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5C6-E937-49E3-BB79-B5A716DF9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76320" y="761760"/>
            <a:ext cx="929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5 SMITH &amp; WESSON REVOLVER USED .357-INCH CARTRIDGES, THOUGH THE DETECTIVE OF THE SAME NAME USED A COLT .45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VE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OLD COIN, WORTH ONE POUND STERLING, WAS NAMED FOR ITS ORIGINAL IMAGE OF HENRY VII SITTING ON A THR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I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AZON WEB SERIES STARS BILLY BOB THORNTON, WILLIAM HURT,  MARIA BELLO, AND OLIVIA THIRL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OF MUFFLER SHOPS ENCOURAGED CAR OWNERS, IN TV ADS, TO TRUST THEIR "TO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I  (MOO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WAS PAID AN UNPRECEDENTED $12.5 MILLION IN 1996 FOR HER ROLE IN "STRIPTE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PLAYS THE REMARKABLY HIGH D FLAT,      4 OCTAVES ABOVE MIDDLE C, IN MAHLER'S "RESURRECTION SYMPHO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HA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RADITION, WHICH OF THE 3 WISE MEN'S NAMES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HUSEL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520" y="762120"/>
            <a:ext cx="877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,850-YEAR-OLD BRISTLECONE PINE IN EASTERN CALIFORNIA IS NAMED FOR THE AGED GRANDFATHER OF NOAH IN THE BOOK OF GENE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2760" y="762120"/>
            <a:ext cx="8535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OLD COIN, WORTH ONE POUND STERLING, WAS NAMED FOR ITS ORIGINAL IMAGE OF HENRY VII SITTING ON A THR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" y="762120"/>
            <a:ext cx="9132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5 SMITH &amp; WESSON REVOLVER USED .357-INCH CARTRIDGES, THOUGH THE DETECTIVE OF THE SAME NAME USED A COLT .45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ZES  OF  WINE  BO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AZON WEB SERIES STARS BILLY BOB THORNTON, WILLIAM HURT, MARIA BELLO, AND OLIVIA THIRL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OF MUFFLER SHOPS ENCOURAGED CAR OWNERS, IN TV ADS, TO TRUST THEIR "TO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WAS PAID AN UNPRECEDENTED $12.5 MILLION IN 1996 FOR HER ROLE IN "STRIPTE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762120"/>
            <a:ext cx="8515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PLAYS THE REMARKABLY HIGH D FLAT,      4 OCTAVES ABOVE MIDDLE C, IN MAHLER'S "RESURRECTION SYMPHO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RADITION, WHICH OF THE 3 WISE MEN'S NAMES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,850-YEAR-OLD BRISTLECONE PINE IN EASTERN CALIFORNIA IS NAMED FOR THE AGED GRANDFATHER OF NOAH IN THE BOOK OF GENE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4-06T01:30:15Z</dcterms:modified>
  <cp:revision>409</cp:revision>
  <dc:subject/>
  <dc:title>Slide 1</dc:title>
</cp:coreProperties>
</file>