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0852-243E-4F44-9348-7C7B7FF6A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58CE-4C76-4532-A82C-43A6B7D70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79C9-5CBB-48E9-BF34-342CFE24D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F32B-F7B8-476E-BA1F-12D5F0710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FD41-CA71-42DE-94A0-AF26CD6E4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5256-2DAE-48E7-8E02-97D49708B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B343-BCBE-432E-A14F-5AC41AD23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CC74-7A4E-47A5-AEDC-363ADD3BF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62E0-39C6-41B3-A805-E5FB7A97B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CA6C4-2173-43F5-8263-55142CCAE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F057-D0D9-4EE2-AF30-81153C4D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E819-5CAE-40A5-B72E-54D8F7BD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AB28-17EA-4527-8BD3-678398960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E61B-DE03-4349-AF05-3654E8E2F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1966-0D3B-4758-8FD1-B541889B4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AC6B1-63D0-4BFC-A8B4-0CA93F1F7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4485C-9624-46F6-8A9A-64C2298AE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5E4F-A6B6-4E4E-A964-2777DA3C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76CCE-3B94-48B6-9609-D55468FF4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934C-C44D-4C06-A7EA-FCBDD4EE9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4FD3-30DF-4E0D-983F-033F2BF02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89CE-7346-4515-8843-448470AE8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EC32-D4DC-4FBD-9CAE-D4B052838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76320" y="761760"/>
            <a:ext cx="929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5 SMITH &amp; WESSON REVOLVER USED .357-INCH CARTRIDGES, THOUGH THE DETECTIVE OF THE SAME NAME USED A COLT .45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VERE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GOLD COIN, WORTH ONE POUND STERLING, WAS NAMED FOR ITS ORIGINAL IMAGE OF HENRY VII SITTING ON A THR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I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AZON WEB SERIES STARS BILLY BOB THORNTON, WILLIAM HURT,  MARIA BELLO, AND OLIVIA THIRL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78040" y="762120"/>
            <a:ext cx="738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IN OF MUFFLER SHOPS ENCOURAGED CAR OWNERS, IN TV ADS, TO TRUST THEIR "TOU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MI  (MOO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2800" y="766800"/>
            <a:ext cx="7718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WAS PAID AN UNPRECEDENTED $12.5 MILLION IN 1996 FOR HER ROLE IN "STRIPTEA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PLAYS THE REMARKABLY HIGH D FLAT,      4 OCTAVES ABOVE MIDDLE C, IN MAHLER'S "RESURRECTION SYMPHO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THAZ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RADITION, WHICH OF THE 3 WISE MEN'S NAMES COMES FIR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HUSEL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520" y="762120"/>
            <a:ext cx="877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,850-YEAR-OLD BRISTLECONE PINE IN EASTERN CALIFORNIA IS NAMED FOR THE AGED GRANDFATHER OF NOAH IN THE BOOK OF GENE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2760" y="762120"/>
            <a:ext cx="8535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GOLD COIN, WORTH ONE POUND STERLING, WAS NAMED FOR ITS ORIGINAL IMAGE OF HENRY VII SITTING ON A THR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0640" y="762120"/>
            <a:ext cx="7902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160" y="762120"/>
            <a:ext cx="9132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35 SMITH &amp; WESSON REVOLVER USED .357-INCH CARTRIDGES, THOUGH THE DETECTIVE OF THE SAME NAME USED A COLT .45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ZES  OF  WINE  BO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MAZON WEB SERIES STARS BILLY BOB THORNTON, WILLIAM HURT, MARIA BELLO, AND OLIVIA THIRL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IN OF MUFFLER SHOPS ENCOURAGED CAR OWNERS, IN TV ADS, TO TRUST THEIR "TOU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ACTRESS WHO WAS PAID AN UNPRECEDENTED $12.5 MILLION IN 1996 FOR HER ROLE IN "STRIPTEA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3640" y="762120"/>
            <a:ext cx="8515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STRUMENT PLAYS THE REMARKABLY HIGH D FLAT,      4 OCTAVES ABOVE MIDDLE C, IN MAHLER'S "RESURRECTION SYMPHO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8040" y="761760"/>
            <a:ext cx="738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TRADITION, WHICH OF THE 3 WISE MEN'S NAMES COMES FIR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,850-YEAR-OLD BRISTLECONE PINE IN EASTERN CALIFORNIA IS NAMED FOR THE AGED GRANDFATHER OF NOAH IN THE BOOK OF GENES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4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4-06T01:30:15Z</dcterms:modified>
  <cp:revision>409</cp:revision>
  <dc:subject/>
  <dc:title>Slide 1</dc:title>
</cp:coreProperties>
</file>