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9BF7-8A91-48E6-BFA8-F5C683A3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4B3-C4F0-42EC-B756-75EA8089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6C7D-6D2B-4B5A-8DB6-DFF787A2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8862-9F02-4C2C-809F-3C4D6B2A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28D-0B51-4ABE-86C0-172487EF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F2BB-06AC-4FB1-A426-C20551B9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CA6-41C4-4814-BA39-9E35D037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BACA-8D4E-413A-BAA2-D41C8BC9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2E7-1561-47AD-AA22-FEE7FFC0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862-D5ED-4192-B2C0-903A9CA7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8BE8-15A1-4070-A589-29E7AC8E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5F5E-5FB6-42C3-A385-C7D6C55F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5970-1AFD-4B08-89DC-4836B23B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683-14D6-49E4-815A-CD30C945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934-3EC7-451E-AB3A-29B14CD2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1C3-B062-4F51-8BCC-C12FB881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44DA-D892-460E-AA09-E075AB71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974-BCE7-4423-8467-0CF4432A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FD0-85BA-4880-BF33-9CBA9B3E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456-4D58-4CFE-A794-D8007A69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D85-5011-4A84-A3F1-8045B183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BE5-B2FC-46C6-AD66-B4F7EF0D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6EE4-1FF9-4109-86CE-FD284BEB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MCENROE WAS EJECTED FROM THE 1990 AUSTRALIAN OPEN FOR THROWING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RI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TLES SONG DOES THE TITLE CHARACTER KEEP HER FACE IN A JAR BY THE D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DY  D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TV SHOW BEGAN WITH BUFFALO BOB ASKING THE PEANUT GALLERY "SAY KIDS, WHAT TIME IS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RMAC OF AN AIRPORT AND THE PART OF A STAGE THAT THRUSTS TOWARDS THE AUDIENCE ARE NAMED FOR WHAT ARTICL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HAS  A "SWALLOW-TAILED" AND "SCISSOR-TAILED" VAR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WEAPON IN THE GAME OF CLUE NOT MADE OF METAL, UNTIL POISON WAS ADDE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VICE HOLDS 6-8 SHUFFLED DECKS OF CARDS AT A BLACKJACK TABLE, TO MINIMIZE SHUFFLING TIME AND INCREASE THE HOUSE OD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–YO  (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YPHENATED FIRST NAME OF THE CHINESE-AMERICAN CELLIST WHO HAS WON 19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TLES SONG DOES THE TITLE CHARACTER KEEP HER FACE IN A JAR BY THE D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OES JIMMY PAGE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  R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MCENROE WAS EJECTED FROM THE 1990 AUSTRALIAN OPEN FOR THROWING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HAVE 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TV SHOW BEGAN WITH BUFFALO BOB ASKING THE PEANUT GALLERY "SAY KIDS, WHAT TIME IS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RMAC OF AN AIRPORT AND THE PART OF A STAGE THAT THRUSTS TOWARDS THE AUDIENCE ARE NAMED FOR WHAT ARTICL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HAS  A "SWALLOW-TAILED" AND "SCISSOR-TAILED" VARI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WEAPON IN THE GAME OF CLUE NOT MADE OF METAL, UNTIL POISON WAS ADDE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VICE HOLDS 6-8 SHUFFLED DECKS OF CARDS AT A BLACKJACK TABLE, TO MINIMIZE SHUFFLING TIME AND INCREASE THE HOUSE OD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YPHENATED FIRST NAME OF THE CHINESE-AMERICAN CELLIST WHO HAS WON 19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OES JIMMY PAGE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4-11T14:12:56Z</dcterms:modified>
  <cp:revision>413</cp:revision>
  <dc:subject/>
  <dc:title>Slide 1</dc:title>
</cp:coreProperties>
</file>