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4C08-C270-450D-B228-0D6C1F69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C86-A22E-4F8A-9502-585D5823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34C5-83D4-4F2C-BA15-2ADEED6C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5CAF-EC08-44B2-962E-5E9C04E1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F0E3-B494-47B8-A11B-8FFAA75B9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057F-975D-45FF-8E08-7AA0FD8A7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1280-AFFD-41DB-BC8D-DF861F83A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740D-2876-4853-86CF-4EE02178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9A1D-381A-4C90-A61D-BB3AE5D1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B390-1CF2-40F3-982C-DD3ABB203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91F6-6E88-4B1F-9DAA-FAE2374E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E691-828F-447C-86E6-62FF5ADF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1374-2024-4C00-B507-41747B1BF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169C-09CF-4082-83A9-D4F3BD990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2F0A-D959-4D64-9755-6415CD2F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127F-C879-4DED-BDBE-E8EB931AB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FBB6-CFE0-4006-AB5A-DAB94CED8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FDDE-62CF-4C72-BFA0-AA36FEE1D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45C3-058D-404E-B1F3-C1292CA0D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381E-340E-41E2-8405-7941DBAE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731A-D1A6-422B-9536-1EC8AFE78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8DDA-96B9-4628-A9B0-D1480B1CB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389-6AC9-474D-A3E2-EEB0616D0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MCENROE WAS EJECTED FROM THE 1990 AUSTRALIAN OPEN FOR THROWING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RI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TLES SONG DOES THE TITLE CHARACTER KEEP HER FACE IN A JAR BY THE D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DY  D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TV SHOW BEGAN WITH BUFFALO BOB ASKING THE PEANUT GALLERY "SAY KIDS, WHAT TIME IS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RMAC OF AN AIRPORT AND THE PART OF A STAGE THAT THRUSTS TOWARDS THE AUDIENCE ARE NAMED FOR WHAT ARTICL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HAS  A "SWALLOW-TAILED" AND "SCISSOR-TAILED" VARI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WEAPON IN THE GAME OF CLUE NOT MADE OF METAL, UNTIL POISON WAS ADDE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VICE HOLDS 6-8 SHUFFLED DECKS OF CARDS AT A BLACKJACK TABLE, TO MINIMIZE SHUFFLING TIME AND INCREASE THE HOUSE OD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–YO  (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YPHENATED FIRST NAME OF THE CHINESE-AMERICAN CELLIST WHO HAS WON 19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TLES SONG DOES THE TITLE CHARACTER KEEP HER FACE IN A JAR BY THE D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OES JIMMY PAGE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IS  R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MCENROE WAS EJECTED FROM THE 1990 AUSTRALIAN OPEN FOR THROWING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HAVE  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'S TV SHOW BEGAN WITH BUFFALO BOB ASKING THE PEANUT GALLERY "SAY KIDS, WHAT TIME IS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RMAC OF AN AIRPORT AND THE PART OF A STAGE THAT THRUSTS TOWARDS THE AUDIENCE ARE NAMED FOR WHAT ARTICLE OF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894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HAS  A "SWALLOW-TAILED" AND "SCISSOR-TAILED" VARI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WEAPON IN THE GAME OF CLUE NOT MADE OF METAL, UNTIL POISON WAS ADDE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VICE HOLDS 6-8 SHUFFLED DECKS OF CARDS AT A BLACKJACK TABLE, TO MINIMIZE SHUFFLING TIME AND INCREASE THE HOUSE OD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YPHENATED FIRST NAME OF THE CHINESE-AMERICAN CELLIST WHO HAS WON 19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OES JIMMY PAGE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4-11T14:12:56Z</dcterms:modified>
  <cp:revision>413</cp:revision>
  <dc:subject/>
  <dc:title>Slide 1</dc:title>
</cp:coreProperties>
</file>