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A18C-D740-4675-886B-7EECF5F78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77E0-2FAC-44E2-83AF-2DF4F11FD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31E1-143E-4CB8-9274-DA8260A91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D7E0-8EF0-4209-8428-65CB938E1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EF3F-F94F-4D32-A5DC-011EDDBF0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840B-657A-4BE8-9C05-E95CC9990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C92B-5BEE-4D5E-935C-0903197D3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D9EB-5D8D-4936-9922-8495F9250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C918-2463-4532-9F18-52A47A226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AC25-D5F1-4093-BA63-8F5B57628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6986-4686-4F8A-B657-05C417052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F92E-EF19-408C-84B2-2188086B4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36B2-7F54-439E-A9C6-F352CD857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4EA2-D3ED-4B85-8BC8-788885087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C360-24DB-4904-A2F9-3F727D652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6863-F772-4B06-A4E4-62C976737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EAF6-0FAB-4D23-8C90-BCCE9FC09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EA10-7143-4C1C-9A71-1E1980694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86F2-B979-46A7-B7E9-7A1149169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4670-3385-4A50-8E99-4F89DE120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FB97-7F97-48BD-9112-B5C428111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706D-FB78-4E64-A057-6C19C12B2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01A2-F9EA-44F0-97B4-CEFD326E2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7960" y="761760"/>
            <a:ext cx="8128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WHAT ARE THE FIRST 4 LETTERS OF THE NAME OF THE TITAN WHO STOLE FIRE FROM THE GODS TO GIVE TO MANKI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81120" y="762120"/>
            <a:ext cx="7781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WHAT IS THE TECHNICAL TERM FOR AIR OR FLUID RESIST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  (THE  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BE  WITH  YO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528920" y="762120"/>
            <a:ext cx="6084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NTH IS "STAR WARS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I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92120" y="762120"/>
            <a:ext cx="635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.G. LEE IS WHAT KIND OF BUSIN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12800" y="766800"/>
            <a:ext cx="7718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ICKNAME OF JERRY LEE LEWIS WAS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57160" y="762120"/>
            <a:ext cx="7429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WOODY ALLEN QUOTE: "____ IS LIKE A PLATE OF MEAT AND POTATOES.  COMEDY IS RATHER THE DESSE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ENTRAL)  AFRICAN  (REPUBLI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UNTRY WHOSE ACRONYM IS "CAR", WHAT DOES THE "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&amp;  BEAU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82520" y="762120"/>
            <a:ext cx="8778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PARATELY, WHAT ARE THE FIRST AND LAST WORDS IN THE TITLE OF THE FILM FOR WHICH KEVIN SPACEY WON HIS OSCAR FOR BEST A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8040" y="762120"/>
            <a:ext cx="7926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WHAT IS THE TECHNICAL TERM FOR AIR OR FLUID RESIST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20640" y="762120"/>
            <a:ext cx="790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THE CROSSES ON THE STATE FLAGS OF ALABAMA AND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M(ETHEU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09600" y="762120"/>
            <a:ext cx="8523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WHAT ARE THE FIRST 4 LETTERS OF THE NAME OF THE TITAN WHO STOLE FIRE FROM THE GODS TO GIVE TO MANKI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QUEE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NTH IS "STAR WARS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486080" y="76212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.G. LEE IS WHAT KIND OF BUSIN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38360" y="762120"/>
            <a:ext cx="7665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ICKNAME OF JERRY LEE LEWIS WAS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WOODY ALLEN QUOTE: "____ IS LIKE A PLATE OF MEAT AND POTATOES.  COMEDY IS RATHER THE DESSE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78040" y="761760"/>
            <a:ext cx="7387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UNTRY WHOSE ACRONYM IS "CAR", WHAT DOES THE "A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85760" y="761760"/>
            <a:ext cx="8772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PARATELY, WHAT ARE THE FIRST AND LAST WORDS IN THE TITLE OF THE FILM FOR WHICH KEVIN SPACEY WON HIS   OSCAR FOR BEST A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ARE THE CROSSES ON THE STATE FLAGS OF ALABAMA AND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21T10:49:29Z</dcterms:modified>
  <cp:revision>415</cp:revision>
  <dc:subject/>
  <dc:title>Slide 1</dc:title>
</cp:coreProperties>
</file>