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6C7E-5D77-4839-B701-C73FCE89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4B36-A1DA-4941-9DEE-BA46D322A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5D06-2AE7-4E05-AB21-05064EA57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C0E2-9B44-43D5-A88A-425ED0598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9EDD-188A-4C45-9475-4AB5EBB1F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4B8D-3B6F-47EC-B23C-9386CD0A8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669D-6FCD-491F-A299-08DE91EE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1129-FB49-4611-A9EE-A8E602393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AA66-64E4-4E8B-A2AF-7D49EBEFF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BEB9-7A4B-4F43-B52D-696B0A974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426E-5B3A-4413-A90D-EFA039C2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894A-3E6B-4D38-8023-68F8C892D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DE89-9382-4D7C-8C1A-20880A3AC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B5FB-6CEC-41B3-AABA-55CB3E82C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DC53-F9E8-4A9C-9FC9-032A85084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9A9E-CB93-402F-A73E-E79F6ABCE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6A17-066A-4D1F-A48A-918B616A0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03E1-535D-44B5-8EF6-54DCFE1F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14FB-2C79-4752-AFD1-FEF3CC5B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B8A1-A854-4AA0-AA37-AB9F7F1F0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FE0E-F994-435F-97AA-2022AE0C5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36BE-DE99-4623-80DD-4829AA99B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1BAC-E1E3-4866-9F76-2E9C4A8AA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7960" y="761760"/>
            <a:ext cx="812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ARE THE FIRST 4 LETTERS OF THE NAME OF THE TITAN WHO STOLE FIRE FROM THE GODS TO GIVE TO MANKI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1120" y="762120"/>
            <a:ext cx="7781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TECHNICAL TERM FOR AIR OR FLUID RESIST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  (THE  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E  WITH  YO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8920" y="762120"/>
            <a:ext cx="6084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IS "STAR WARS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I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92120" y="762120"/>
            <a:ext cx="635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.G. LEE IS WHAT KIND OF BUSI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2800" y="766800"/>
            <a:ext cx="771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ICKNAME OF JERRY LEE LEWIS WA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7160" y="762120"/>
            <a:ext cx="7429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WOODY ALLEN QUOTE: "____ IS LIKE A PLATE OF MEAT AND POTATOES.  COMEDY IS RATHER THE DESS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ENTRAL)  AFRICAN  (REPUBL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UNTRY WHOSE ACRONYM IS "CAR", WHAT DOES THE "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&amp; 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2520" y="762120"/>
            <a:ext cx="877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PARATELY, WHAT ARE THE FIRST AND LAST WORDS IN THE TITLE OF THE FILM FOR WHICH KEVIN SPACEY WON HIS OSCAR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8040" y="762120"/>
            <a:ext cx="792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TECHNICAL TERM FOR AIR OR FLUID RESIST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THE CROSSES ON THE STATE FLAGS OF ALABAMA AND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M(ETHE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09600" y="762120"/>
            <a:ext cx="852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ARE THE FIRST 4 LETTERS OF THE NAME OF THE TITAN WHO STOLE FIRE FROM THE GODS TO GIVE TO MANK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QUE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IS "STAR WARS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.G. LEE IS WHAT KIND OF BUSI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38360" y="762120"/>
            <a:ext cx="7665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ICKNAME OF JERRY LEE LEWIS WA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WOODY ALLEN QUOTE: "____ IS LIKE A PLATE OF MEAT AND POTATOES.  COMEDY IS RATHER THE DESSE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8040" y="761760"/>
            <a:ext cx="7387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UNTRY WHOSE ACRONYM IS "CAR", WHAT DOES THE "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PARATELY, WHAT ARE THE FIRST AND LAST WORDS IN THE TITLE OF THE FILM FOR WHICH KEVIN SPACEY WON HIS   OSCAR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THE CROSSES ON THE STATE FLAGS OF ALABAMA AND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1T10:49:29Z</dcterms:modified>
  <cp:revision>415</cp:revision>
  <dc:subject/>
  <dc:title>Slide 1</dc:title>
</cp:coreProperties>
</file>