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DC9D-B18D-46D0-BC76-9139AB34E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6A7D-A364-49BA-B9E8-20AB6ED86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F4C4-A9DA-4170-BD57-F52A80E65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901C-B18C-4009-A80F-1BC3E2CF9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4373-D048-49B2-8A08-EB9F6566B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B284-9351-4E06-BC96-01C35A10F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EB3C-B73E-4C1F-A28D-BA2748B79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0E5E-E6A2-42F9-BA82-50A548918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BF6B-03BC-41FF-891D-E2825F503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64FB-9CE7-40C0-B63C-0669B0BD5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6A5C-AB2F-4EA2-8E2A-43FA848DA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C739-FEFE-456E-AC5D-91A3F7097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9640-7E6F-469B-BB9A-8B675EFB5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DD43-13B3-4F8C-BC4B-6AF295E21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DF76-70C9-46D1-A5B1-DE3A5F33A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2C6E-3207-4751-9F1F-93254A07A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FCE3-7C23-412A-AE01-420AD01D0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F6EE-9DB0-46B3-B6F2-73AF4FBCC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16D3-BDEA-4707-AFBA-D09614E0E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E388-B132-4AA8-BBB0-B40B70867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0883-5D0C-466D-9C2A-13D1F45F7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C55E-AF83-4EBF-806C-D69DA64B1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2252-2481-4593-B487-A2D351A04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4514-1DD8-4053-8A0F-EBEA9E6E1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LESTIAL OBJECT WILL MAKE ITS NEXT RETURN TO OUR SKIES IN JULY 206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HEAVY METAL GROUP, MORE POPULAR IN EUROPE THAN IN THE U.S., SANG "ROCK YOU LIKE A HURRIC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17560" y="762120"/>
            <a:ext cx="750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CHINESE ZODIAC, 2021 IS THE YEAR OF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77920" y="762120"/>
            <a:ext cx="8588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DID TATTOO SAY TWICE AT THE BEGINNING OF EVERY EPISODE OF "FANTASY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VATE  INVESTIG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57200" y="754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JOB OF THE FICTIONAL THOMAS MAGN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52480" y="771480"/>
            <a:ext cx="7439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Y WOULD CHARLIE BROWN ALWAYS GET STUCK IN A T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  PEN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50652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95% COPPER FOR MOST OF ITS HISTORY, BUT IS NOW ONLY 2.5% CO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ITTLE  MERM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52600" y="762120"/>
            <a:ext cx="8038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NS CHRISTIAN ANDERSEN STORY, UNLIKE THE DISNEY VERSION, ENDS WITH THE TITLE CHARACTER DISSOLVING INTO SEA-FO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X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68200" y="762120"/>
            <a:ext cx="8607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ECE OF MENSWEAR IS NAMED FOR THE HUDSON VALLEY VILLAGE WHERE, IN THE 1880'S, IT WAS FIRST WORN AT SWANKY DINNER PAR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EY'S  CO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762120"/>
            <a:ext cx="8142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LESTIAL OBJECT WILL MAKE ITS NEXT RETURN TO OUR SKIES IN JULY 206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RP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92040" y="762120"/>
            <a:ext cx="8359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HEAVY METAL GROUP, MORE POPULAR IN EUROPE THAN IN THE U.S., SANG "ROCK YOU LIKE A HURRIC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WITH  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6640" y="762120"/>
            <a:ext cx="7469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CHINESE ZODIAC, 2021 IS THE YEAR OF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14280" y="761760"/>
            <a:ext cx="851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DID TATTOO SAY TWICE AT THE BEGINNING OF EVERY EPISODE OF "FANTASY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JOB OF THE FICTIONAL THOMAS MAGN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13960" y="762120"/>
            <a:ext cx="7513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Y WOULD CHARLIE BROWN ALWAYS GET STUCK IN A TR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95% COPPER FOR MOST OF ITS HISTORY, BUT IS NOW ONLY 2.5% COP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30200" y="761760"/>
            <a:ext cx="828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NS CHRISTIAN ANDERSEN STORY, UNLIKE THE DISNEY VERSION, ENDS WITH THE TITLE CHARACTER DISSOLVING INTO SEA-FO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17080" y="761760"/>
            <a:ext cx="8697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ECE OF MENSWEAR IS NAMED FOR THE HUDSON VALLEY VILLAGE WHERE, IN  THE 1880'S, IT WAS FIRST WORN AT SWANKY DINNER PAR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21T15:57:43Z</dcterms:modified>
  <cp:revision>417</cp:revision>
  <dc:subject/>
  <dc:title>Slide 1</dc:title>
</cp:coreProperties>
</file>