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D9561-235A-44CB-B53B-1CB27D9A79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F9D6A-27AF-416E-AD8A-143B9258AD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7F6AB-2C60-4110-B1B1-65D06D17E0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0ACA2-0C0F-4F48-B786-748E5E6FF2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17854-9B0A-4BDA-A3A4-050AE32544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CD8DA-CA2F-473E-A892-33AD6B9A63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F940D-25B3-4390-BEE2-7D4182F5C4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79E61-86C5-472D-B247-33A62A3623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17840-AB44-4493-96CE-92B59CB159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29D78-CFC1-468B-A130-B82FF8D642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CC1C6-CF35-404E-9B75-B31B177A3A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D0C1E-6D52-4750-BD79-E2B20B79AF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48721-D81F-4B62-8AB7-F5D6CDBA89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75AEC-33BA-4B63-82F4-4E0B0527FB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A540E-15E8-4B60-8290-D7AA53F9A1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3BA79-5107-452D-83D3-43CE4D2108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D5611-8D60-4F7A-9A8A-304C94D020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DBB43-E410-48B4-AC77-350370DFAE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67306-6769-4A3F-9E09-65B5918635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5916A-6405-4370-9E73-F10398B9AC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3332C-66AC-4DC6-94AC-F9F85537DA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FEE1E-5F74-4EA3-9567-CFD56713C4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27DB8-D734-4A18-B126-9515A28644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59F25-E70A-4C5D-8857-E8EAE9CD00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799920" y="68580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ELCOME TO THURSDAY NIGHT TRIVIA AT THE ELUSIVE GRAP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554040" y="762120"/>
            <a:ext cx="80344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ELESTIAL OBJECT WILL MAKE ITS NEXT RETURN TO OUR SKIES IN JULY 2061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609480" y="761760"/>
            <a:ext cx="79250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ERMAN HEAVY METAL GROUP, MORE POPULAR IN EUROPE THAN IN THE U.S., SANG "ROCK YOU LIKE A HURRICAN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3"/>
          <p:cNvSpPr/>
          <p:nvPr/>
        </p:nvSpPr>
        <p:spPr>
          <a:xfrm>
            <a:off x="457200" y="4876920"/>
            <a:ext cx="8229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817560" y="762120"/>
            <a:ext cx="75088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CCORDING TO THE CHINESE ZODIAC, 2021 IS THE YEAR OF THE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LA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"/>
          <p:cNvSpPr/>
          <p:nvPr/>
        </p:nvSpPr>
        <p:spPr>
          <a:xfrm>
            <a:off x="277920" y="762120"/>
            <a:ext cx="85881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5-LETTER WORD DID TATTOO SAY TWICE AT THE BEGINNING OF EVERY EPISODE OF "FANTASY ISLAN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RIVATE  INVESTIGAT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457200" y="75420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JOB OF THE FICTIONAL THOMAS MAGNU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3"/>
          <p:cNvSpPr/>
          <p:nvPr/>
        </p:nvSpPr>
        <p:spPr>
          <a:xfrm>
            <a:off x="1523880" y="4886280"/>
            <a:ext cx="60962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I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852480" y="771480"/>
            <a:ext cx="7439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OY WOULD CHARLIE BROWN ALWAYS GET STUCK IN A TRE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U.S.  PENN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506520" y="762120"/>
            <a:ext cx="81532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95% COPPER FOR MOST OF ITS HISTORY, BUT IS NOW ONLY 2.5% COPP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LITTLE  MERMAI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"/>
          <p:cNvSpPr/>
          <p:nvPr/>
        </p:nvSpPr>
        <p:spPr>
          <a:xfrm>
            <a:off x="552600" y="762120"/>
            <a:ext cx="80388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HANS CHRISTIAN ANDERSEN STORY, UNLIKE THE DISNEY VERSION, ENDS WITH THE TITLE CHARACTER DISSOLVING INTO SEA-FOA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485720" y="1523880"/>
            <a:ext cx="6172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3"/>
          <p:cNvSpPr/>
          <p:nvPr/>
        </p:nvSpPr>
        <p:spPr>
          <a:xfrm>
            <a:off x="1238400" y="4876920"/>
            <a:ext cx="6667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UXE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268200" y="762120"/>
            <a:ext cx="8607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IECE OF MENSWEAR IS NAMED FOR THE HUDSON VALLEY VILLAGE WHERE, IN THE 1880'S, IT WAS FIRST WORN AT SWANKY DINNER PARTI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3"/>
          <p:cNvSpPr/>
          <p:nvPr/>
        </p:nvSpPr>
        <p:spPr>
          <a:xfrm>
            <a:off x="380880" y="487692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LLEY'S  COM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"/>
          <p:cNvSpPr/>
          <p:nvPr/>
        </p:nvSpPr>
        <p:spPr>
          <a:xfrm>
            <a:off x="500040" y="762120"/>
            <a:ext cx="81424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ELESTIAL OBJECT WILL MAKE ITS NEXT RETURN TO OUR SKIES IN JULY 2061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3"/>
          <p:cNvSpPr/>
          <p:nvPr/>
        </p:nvSpPr>
        <p:spPr>
          <a:xfrm>
            <a:off x="19044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246960" indent="-2469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CORP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"/>
          <p:cNvSpPr/>
          <p:nvPr/>
        </p:nvSpPr>
        <p:spPr>
          <a:xfrm>
            <a:off x="392040" y="762120"/>
            <a:ext cx="83599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ERMAN HEAVY METAL GROUP, MORE POPULAR IN EUROPE THAN IN THE U.S., SANG "ROCK YOU LIKE A HURRICAN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3"/>
          <p:cNvSpPr/>
          <p:nvPr/>
        </p:nvSpPr>
        <p:spPr>
          <a:xfrm>
            <a:off x="585720" y="4876920"/>
            <a:ext cx="7972560" cy="6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INGS  WITH  TAI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836640" y="762120"/>
            <a:ext cx="74692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CCORDING TO THE CHINESE ZODIAC, 2021 IS THE YEAR OF THE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314280" y="761760"/>
            <a:ext cx="85154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5-LETTER WORD DID TATTOO SAY TWICE AT THE BEGINNING OF EVERY EPISODE OF "FANTASY ISLAN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399960" y="762120"/>
            <a:ext cx="8344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JOB OF THE FICTIONAL THOMAS MAGNU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813960" y="762120"/>
            <a:ext cx="75135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OY WOULD CHARLIE BROWN ALWAYS GET STUCK IN A TRE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24000" y="762120"/>
            <a:ext cx="8496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95% COPPER FOR MOST OF ITS HISTORY, BUT IS NOW ONLY 2.5% COPP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30200" y="761760"/>
            <a:ext cx="8283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HANS CHRISTIAN ANDERSEN STORY, UNLIKE THE DISNEY VERSION, ENDS WITH THE TITLE CHARACTER DISSOLVING INTO SEA-FOA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217080" y="761760"/>
            <a:ext cx="8697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IECE OF MENSWEAR IS NAMED FOR THE HUDSON VALLEY VILLAGE WHERE, IN  THE 1880'S, IT WAS FIRST WORN AT SWANKY DINNER PARTI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28T16:34:55Z</dcterms:created>
  <dc:creator>Jennifer Budzinski</dc:creator>
  <dc:description/>
  <dc:language>en-US</dc:language>
  <cp:lastModifiedBy>Erich Friedman</cp:lastModifiedBy>
  <dcterms:modified xsi:type="dcterms:W3CDTF">2021-09-21T15:57:43Z</dcterms:modified>
  <cp:revision>417</cp:revision>
  <dc:subject/>
  <dc:title>Slide 1</dc:title>
</cp:coreProperties>
</file>