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8F57-6B13-4CCE-A5CE-C41F199B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8CE3-79F2-44C0-B34D-D3F34BDD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3AF9-22E6-4E7D-B95B-4B5D00AFE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1FB4-8B6F-4265-8630-F0294D7B6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F97-349E-4C1A-A425-D8651C6DD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3D50-84B4-4772-A90B-7C039FBE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865-5BD0-43A1-B01F-2C439C15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3E4C-99F9-4BD7-90E5-663BF0E4A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AF81-635B-4181-B800-4812EFCA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3277-52FF-4516-8D07-2B0F55CF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C37F-81D5-419E-9F44-D0E3E0822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B99B-562C-4C27-AA1C-3EF35B36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780-EDC3-4B88-A6FC-75106065B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65E5-53E3-4603-A368-166C2DAE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D7A3C-ABF8-46DA-88F6-67BDC717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EA79-51EB-4778-91F4-7B07D033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43CD-3F20-4D6C-9871-C03E0275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C08C-C6A8-4AEE-967F-93A8D81D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73C-DDA2-4584-804F-738EE4349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2E7B-4630-4DE5-B864-5FB01AA90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99F-DE17-44EC-8230-1251EC95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4953-25DE-4C6B-B249-C243074E7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992D-47BD-40B3-9EDA-70DA437A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SAN FRANCISCO'S MASS TRANSIT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. F. 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ONENT OF RADICAL BEHAVIORISM IS CONSIDERED BY MANY TO BE THE MOST INFLUENTIAL PSYCHOLOG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OHN MCCRAE'S FAMOUS WWI POEM, POPPIES GROW IN THE FIELDS OF WHAT PART OF BELG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AND MOST RECENTLY, "AL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A  KUD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HOEBE BUFFAY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E  SCH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AND CEO OF THE CINCINNATI REDS FROM 1984 TO 1999 WAS BANNED FROM BASEBALL AFTER MAKING ETHNIC SL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GIE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ON ACADEMY AWARDS FOR "THE PRIME OF MISS JEAN BRODIE" AND "CALIFORNIA SU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ONENT OF RADICAL BEHAVIORISM IS CONSIDERED BY MANY TO BE THE MOST INFLUENTIAL PSYCHOLOGIST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 "THE ODYS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6858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SAN FRANCISCO'S MASS TRANSIT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3434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ARACTERS  ON  "THE  SIMPSON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OHN MCCRAE'S FAMOUS WWI POEM, POPPIES GROW IN THE FIELDS OF WHAT PART OF BELG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83808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E FACTO LEADER OF THE THREE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 MADE THE DOCUMENTARIES "BASEBALL", "JAZZ", AND MOST RECENTLY, "AL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HOEBE BUFFAY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AND CEO OF THE CINCINNATI REDS FROM 1984 TO 1999 WAS BANNED FROM BASEBALL AFTER MAKING ETHNIC SL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ON ACADEMY AWARDS FOR "THE PRIME OF MISS JEAN BRODIE" AND "CALIFORNIA SU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ODYS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0:00:15Z</dcterms:created>
  <dc:creator>Jennifer Budzinski</dc:creator>
  <dc:description/>
  <dc:language>en-US</dc:language>
  <cp:lastModifiedBy>Erich Friedman</cp:lastModifiedBy>
  <dcterms:modified xsi:type="dcterms:W3CDTF">2021-09-21T16:00:23Z</dcterms:modified>
  <cp:revision>458</cp:revision>
  <dc:subject/>
  <dc:title>Slide 1</dc:title>
</cp:coreProperties>
</file>