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A886-1108-4875-AF45-6CB42440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281-3D3C-443A-8D4A-4194BD13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6A2-947E-4AB8-8097-F6352F1A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36F-7CB2-4691-8C67-6A8F3673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DA7-27E0-4C91-AB90-97B19A87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096-BAC6-4E03-9B66-7C2703F1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B6E4-7067-4320-884F-253E2B85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093-FE6D-4344-BAE7-7B2DEB9A5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7227-68A2-4424-BBEF-8B78D28C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20FA-D1FA-4319-A7D9-701D11F4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8976-9D7D-4470-B20B-EDD548A4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67BE-8A90-43A0-9706-17B1D22D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84A3-4B70-4253-B175-B0171F73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8D84-582A-4C3F-AD68-37DB69FA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7E78-27FC-4B18-A93F-A672CC84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486E-79BC-4DF5-9C31-6874D4B7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77A-21C7-42FE-AA5D-9E7D3EA7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6FD-3C0E-4D59-898D-3F876916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DAB-2A95-4DB8-AC95-365A9112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C65E-D39B-47A3-9EBB-FF47C73A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1B5E-7E42-478D-8F89-00FED3DA4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635A-CEA5-4993-A74B-1B66A4C2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62A-E3D2-4D9E-9065-D2DED121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SAN FRANCISCO'S MASS TRANSIT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. F. 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ONENT OF RADICAL BEHAVIORISM IS CONSIDERED BY MANY TO BE THE MOST INFLUENTIAL PSYCHOLOG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OHN MCCRAE'S FAMOUS WWI POEM, POPPIES GROW IN THE FIELDS OF WHAT PART OF BELG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AND MOST RECENTLY, "AL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SA  KUD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HOEBE BUFFAY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E  SCH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AND CEO OF THE CINCINNATI REDS FROM 1984 TO 1999 WAS BANNED FROM BASEBALL AFTER MAKING ETHNIC SL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GIE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ON ACADEMY AWARDS FOR "THE PRIME OF MISS JEAN BRODIE" AND "CALIFORNIA SU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ONENT OF RADICAL BEHAVIORISM IS CONSIDERED BY MANY TO BE THE MOST INFLUENTIAL PSYCHOLOG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 "THE ODYS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68580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SAN FRANCISCO'S MASS TRANSIT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3000" y="43434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ARACTERS  ON  "THE  SIMPSON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OHN MCCRAE'S FAMOUS WWI POEM, POPPIES GROW IN THE FIELDS OF WHAT PART OF BELG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83808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AND MOST RECENTLY, "AL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HOEBE BUFFAY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AND CEO OF THE CINCINNATI REDS FROM 1984 TO 1999 WAS BANNED FROM BASEBALL AFTER MAKING ETHNIC SL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ON ACADEMY AWARDS FOR "THE PRIME OF MISS JEAN BRODIE" AND "CALIFORNIA SU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0:00:15Z</dcterms:created>
  <dc:creator>Jennifer Budzinski</dc:creator>
  <dc:description/>
  <dc:language>en-US</dc:language>
  <cp:lastModifiedBy>Erich Friedman</cp:lastModifiedBy>
  <dcterms:modified xsi:type="dcterms:W3CDTF">2021-09-21T16:00:23Z</dcterms:modified>
  <cp:revision>458</cp:revision>
  <dc:subject/>
  <dc:title>Slide 1</dc:title>
</cp:coreProperties>
</file>