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393-8D60-4B6E-AFA4-8BB8BF0F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B61-1A4A-4D95-A49F-3195AFC5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C9AB-7D67-4077-AE91-B1019A01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490-8AF5-4B74-B662-ADDC70ED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66B-6B11-4D55-85FD-63C169B7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DBF0-64AF-49AA-A404-DF4D95B06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F5E-90B8-4D65-AC2D-C0EABB1F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EE3F-D569-40AE-A0AD-078B8811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677-A8C2-4E8D-BAAE-6A36A559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A242-5CEA-4DA5-B45F-09F476DC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7A8-930A-4DEE-A19A-3B532DD5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DBD2-0397-48DD-872E-609D8A86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47E-363C-40A7-BEC3-05C7C677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9E3E-9095-49CB-8C4C-369526B7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7423-0D03-4D0B-88EB-E513F590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D12-E9BC-45E3-8290-DFC51B7B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C084-8CA5-430D-AC99-82D5FD4C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9A7-350D-4EDB-BCB9-2967860D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02E-EA7C-4D72-998F-5C61695A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6B8-B393-4944-9E7B-5F512BA9B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19F-2731-47D4-8161-F500DE11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0EF-D503-43DE-8DDB-CE57D707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927-74D1-4066-8B3E-6FF0F4AB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XCOMMUNICATED BY POPE LEO X IN 1521 FOR REFUSING TO RENOUNCE HIS "NINETY-FIVE THE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(HEN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76480" y="762120"/>
            <a:ext cx="679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DRUMMER FOR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NEY  (DANGERFIE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60400" y="762120"/>
            <a:ext cx="742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OMEDIAN WHOSE CATCHPHRASE WAS "I DON'T GET NO RESP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(LOMBA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KNOWN FOR HER SCREWBALL COMEDIES OF THE 1930'S, AND WHO MARRIED CLARK G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(HAW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UCASIAN PROFESSOR OF MATHEMATICS AT CAMBRIDGE 1979-2009, DESPITE HAVING 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MALE FIRST NAME IN THE U.S. UNTIL THE 1920'S, WHEN "ROBERT" MOVED PAS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MBER OF "THE THREE STOOGES" CHANGED, ONLY MOE AND WHAT OTHER STOOGE REMAINED CONS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3880" y="762120"/>
            <a:ext cx="789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METALLIC SPHERICAL PROJECTILE THAT HAS DIAMETER 0.18 I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DRUMMER FOR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ONG OFF "THRILLER" WAS MICHAEL JACKSON'S BEST-SELLING SOLO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8120" y="762120"/>
            <a:ext cx="772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XCOMMUNICATED BY POPE LEO X IN 1521 FOR REFUSING TO RENOUNCE HIS "NINETY-FIVE THE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OMEDIAN WHOSE CATCHPHRASE WAS "I DON'T GET NO RESP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KNOWN FOR HER SCREWBALL COMEDIES OF THE 1930'S, AND WHO MARRIED CLARK G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UCASIAN PROFESSOR OF MATHEMATICS AT CAMBRIDGE 1979-2009, DESPITE HAVING 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MALE FIRST NAME IN THE U.S. UNTIL THE 1920'S, WHEN "ROBERT" MOVED PAST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MBER OF "THE THREE STOOGES" CHANGED, ONLY MOE AND WHAT OTHER STOOGE REMAINED CONS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METALLIC SPHERICAL PROJECTILE THAT HAS DIAMETER 0.18 I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ONG OFF "THRILLER" WAS MICHAEL JACKSON'S BEST-SELLING SOLO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6:03:06Z</dcterms:modified>
  <cp:revision>414</cp:revision>
  <dc:subject/>
  <dc:title>Slide 1</dc:title>
</cp:coreProperties>
</file>