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7638-CAD8-444E-9B39-DF4AA5E70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82D3-7990-4045-9931-77D9DCCFF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7AA8-0D65-47F2-A63A-C88416BB3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9164-C00E-45BB-A1FA-5766C6F63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1D0F-4B93-45F7-B492-827EE801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C970-2651-4FDC-8567-CECCDF3B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4D7-84A5-41E9-8DCA-64B323E04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4E3F-8BDE-4E9C-8503-80ECF46AB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5E2-2BED-4C38-84DC-0D5ED49B7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E73B-57A7-4E33-8308-97AE00BD1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F7DE-8684-466F-9849-1DDA3C797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4B10-6FA5-4B95-B25B-68F582C2E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378C-1CF8-4EC0-8E33-0FE4CFBDD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0C6A-B291-478B-AEA2-C5E7D5C36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78E1-2E54-47E8-92ED-405C265B3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F004-2BBA-4482-9AEA-4701264A5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3E77-9C00-49E0-8AE6-FB37261B6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62D1-7E3F-4D2A-892C-A9A23366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AF13-CE3C-4323-8F14-F5833FB15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1697-5C62-424E-A729-C7A26A6AC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AA50-EEB8-4404-AB13-4492BE640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92B-D6E9-4FFC-8006-87800598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F183-8A46-4B49-AA1C-A0BE7C58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XCOMMUNICATED BY POPE LEO X IN 1521 FOR REFUSING TO RENOUNCE HIS "NINETY-FIVE THE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(HEN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76480" y="762120"/>
            <a:ext cx="6791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DRUMMER FOR 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NEY  (DANGERFIE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60400" y="762120"/>
            <a:ext cx="742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OMEDIAN WHOSE CATCHPHRASE WAS "I DON'T GET NO RESP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E  (LOMBAR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KNOWN FOR HER SCREWBALL COMEDIES OF THE 1930'S, AND WHO MARRIED CLARK G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(HAWK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UCASIAN PROFESSOR OF MATHEMATICS AT CAMBRIDGE 1979-2009, DESPITE HAVING 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MALE FIRST NAME IN THE U.S. UNTIL THE 1920'S, WHEN "ROBERT" MOVED PAS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MBER OF "THE THREE STOOGES" CHANGED, ONLY MOE AND WHAT OTHER STOOGE REMAINED CONS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3880" y="762120"/>
            <a:ext cx="7894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METALLIC SPHERICAL PROJECTILE THAT HAS DIAMETER 0.18 I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2960" y="762120"/>
            <a:ext cx="731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DRUMMER FOR TH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ONG OFF "THRILLER" WAS MICHAEL JACKSON'S BEST-SELLING SOLO SI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8120" y="762120"/>
            <a:ext cx="7727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XCOMMUNICATED BY POPE LEO X IN 1521 FOR REFUSING TO RENOUNCE HIS "NINETY-FIVE THE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OPLE  WITH  LAST  NAM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COMEDIAN WHOSE CATCHPHRASE WAS "I DON'T GET NO RESPE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KNOWN FOR HER SCREWBALL COMEDIES OF THE 1930'S, AND WHO MARRIED CLARK G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UCASIAN PROFESSOR OF MATHEMATICS AT CAMBRIDGE 1979-2009, DESPITE HAVING 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COMMON MALE FIRST NAME IN THE U.S. UNTIL THE 1920'S, WHEN "ROBERT" MOVED PAST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EMBER OF "THE THREE STOOGES" CHANGED, ONLY MOE AND WHAT OTHER STOOGE REMAINED CONS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METALLIC SPHERICAL PROJECTILE THAT HAS DIAMETER 0.18 I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VE SONG OFF "THRILLER" WAS MICHAEL JACKSON'S BEST-SELLING SOLO SI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21T16:03:06Z</dcterms:modified>
  <cp:revision>414</cp:revision>
  <dc:subject/>
  <dc:title>Slide 1</dc:title>
</cp:coreProperties>
</file>