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D35A-8643-4D7E-8C93-39177E540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1389-7101-4EF1-8F08-43291C773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75F8-CF40-4706-BE81-E65C34058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32FA-AE6F-4DAC-9625-4876C1468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2979-E8C6-4072-AB41-D00515890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3729-F5B6-40D2-904E-6757A7154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8E7B-1F98-4362-A45B-A058763A5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B5D5-202C-44AB-B71D-FFDAC8726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7014-DFE1-4BB0-AC39-4BFF271E0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5C8A-5492-4CDD-B293-E6F94AA3D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A73E-213C-4DD4-B346-809B14803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FDF8-F54C-4E81-A915-C53E7AA75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74DE-B188-4779-BAC0-5208B17C3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B67E-03E1-4859-9F7E-7A2A4573B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761C-CDBA-4A2A-9ADB-DD9AD1818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9ED2-C691-43B6-882F-EFB3E9109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7B6C-06F1-438C-B656-7956A4137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229E-0264-4838-A632-A5C01DAD5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1779-1215-46CF-864D-756540127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956C-1DFE-449B-9698-71EE598CD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B412-54C1-4654-B23E-2B8B69B4F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6689-95D8-42F9-88D9-2F25AEC52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9578-BBE0-4C04-BC8F-2CA520C02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19080" y="761760"/>
            <a:ext cx="7305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FILM IS KNOWN FOR ITS 12-SECOND KISS BETWEEN KEVIN KLINE AND TOM SELLE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28760" y="762120"/>
            <a:ext cx="8286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UTER COMPANY DID STEVE JOBS FOUND IN 1985, AFTER HE WAS FORCED OUT OF APPLE, ONLY TO BE BOUGHT BY APPLE IN 199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11120" y="762120"/>
            <a:ext cx="8321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JIMI HENDRIX EXPERIENCE WAS RELEASED IN THE U.K. BY ADDING "LET ME LIGHT YOUR..." TO THE U.S.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08080" y="763560"/>
            <a:ext cx="872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 OF THE FIVE STUDIO ALBUMS BY THE POLICE HAD TITLES IN WHAT LANGU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19120" y="774720"/>
            <a:ext cx="810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NOBLE TRUTHS ARE THERE IN BUDDHIS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316080" y="762120"/>
            <a:ext cx="8511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ONLY DIFFERENCE BETWEEN THE CHINESE AND VIETNAMESE ZODIACS IS THAT THE CHINESE YEAR OF THE RABBIT IS THE VIETNAMESE YEAR OF THE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  (TO  THE  FUTUR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227160" y="762120"/>
            <a:ext cx="8688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1985 FILM ABOUT A TIME-TRAVELING DELOR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719280" y="762120"/>
            <a:ext cx="7704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U-SHAPED OR S-SHAPED PIPE IN A FLUSH TOILET IS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7360" y="762120"/>
            <a:ext cx="8186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UTER COMPANY DID STEVE JOBS FOUND IN 1985, AFTER HE WAS FORCED OUT OF APPLE, ONLY TO BE BOUGHT BY APPLE IN 199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90440" y="48769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  (CENTRAL  AFRICAN  REPUBLI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716040" y="762120"/>
            <a:ext cx="77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CRONYM FOR THE SHADED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257640" y="2736720"/>
            <a:ext cx="2628720" cy="212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&amp; 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950760" y="762120"/>
            <a:ext cx="7242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FILM IS KNOWN FOR ITS 12-SECOND KISS BETWEEN KEVIN KLINE AND TOM SELLE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DOO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28120" y="761760"/>
            <a:ext cx="8085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JIMI HENDRIX EXPERIENCE WAS RELEASED IN THE U.K. BY ADDING "LET ME LIGHT YOUR..." TO THE U.S.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66680" y="762120"/>
            <a:ext cx="880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 OF THE FIVE STUDIO ALBUMS BY THE POLICE HAD TITLES IN WHAT LANGU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1880" y="762120"/>
            <a:ext cx="8220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NOBLE TRUTHS ARE THERE IN BUDDHIS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64960" y="762120"/>
            <a:ext cx="8614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ONLY DIFFERENCE BETWEEN THE CHINESE AND VIETNAMESE ZODIACS IS THAT THE CHINESE YEAR OF THE RABBIT IS THE VIETNAMESE YEAR OF THE WH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2360" y="761760"/>
            <a:ext cx="8639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1985 FILM ABOUT A TIME-TRAVELING DELOR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4360" y="761760"/>
            <a:ext cx="7775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U-SHAPED OR S-SHAPED PIPE IN A FLUSH TOILET IS CALLED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4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CRONYM FOR THE SHADED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924280" y="2743200"/>
            <a:ext cx="3295440" cy="265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5-11T02:56:56Z</dcterms:modified>
  <cp:revision>510</cp:revision>
  <dc:subject/>
  <dc:title>Slide 1</dc:title>
</cp:coreProperties>
</file>