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484E-7A79-48FE-BA2E-19FEF38F9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F178-54AD-4782-AE75-2D7D4BAD8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F6D7-B720-4DFE-8698-D5BED2C9F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C773-CC5A-4D2A-9854-7617F3AD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6C45-705F-4277-BCD9-1E0E73794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8EA0-7403-4050-BF0C-5C2ACF659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42A2-F858-4D0F-ADF9-C2C20C51A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C708-2ADD-4DF0-ABA7-0E3C54D73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B227-DDEF-4F7F-99FC-D25666016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2DE8-127C-46FC-A0BA-36E4FEEE9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F81E-AC3C-4BA1-887C-A1F806B58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59FD-CF60-40C7-BC94-E8B8C9AC1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3D15-BD81-49CC-9506-C53940E5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088B-8839-4707-B038-826CD2D64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9195-A65A-40BA-8E37-32585A47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A882-2673-4C33-A3FB-4A16F4A01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08A2-F4F2-4B93-8553-E1C9076F9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E726-A646-4881-A7C3-4E8FE1246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69C0-A4D0-4D3D-90B6-3824A5C9A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C619-718E-453F-84C2-849D4AB54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381C-6AA6-45CD-AB33-86BC6C0F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0BA8-A7D7-48DE-9132-94123DEE9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BA3A-BD13-42A9-A60D-E8C8A91B0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19080" y="761760"/>
            <a:ext cx="7305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IS KNOWN FOR ITS 12-SECOND KISS BETWEEN KEVIN KLINE AND TOM SELLE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28760" y="762120"/>
            <a:ext cx="828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COMPANY DID STEVE JOBS FOUND IN 1985, AFTER HE WAS FORCED OUT OF APPLE, ONLY TO BE BOUGHT BY APPLE IN 19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11120" y="762120"/>
            <a:ext cx="832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JIMI HENDRIX EXPERIENCE WAS RELEASED IN THE U.K. BY ADDING "LET ME LIGHT YOUR..." TO THE U.S.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08080" y="763560"/>
            <a:ext cx="872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OF THE FIVE STUDIO ALBUMS BY THE POLICE HAD TITLES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19120" y="774720"/>
            <a:ext cx="810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OBLE TRUTHS ARE THERE IN BUDDH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16080" y="762120"/>
            <a:ext cx="8511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NLY DIFFERENCE BETWEEN THE CHINESE AND VIETNAMESE ZODIACS IS THAT THE CHINESE YEAR OF THE RABBIT IS THE VIETNAMESE YEAR OF THE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(TO  THE  FUTU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27160" y="762120"/>
            <a:ext cx="8688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1985 FILM ABOUT A TIME-TRAVELING DELOR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19280" y="762120"/>
            <a:ext cx="770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-SHAPED OR S-SHAPED PIPE IN A FLUSH TOILET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7360" y="762120"/>
            <a:ext cx="8186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COMPANY DID STEVE JOBS FOUND IN 1985, AFTER HE WAS FORCED OUT OF APPLE, ONLY TO BE BOUGHT BY APPLE IN 19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90440" y="4876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  (CENTRAL  AFRICAN  REPUBL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16040" y="762120"/>
            <a:ext cx="77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SHADED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257640" y="2736720"/>
            <a:ext cx="2628720" cy="212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&amp;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50760" y="762120"/>
            <a:ext cx="724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IS KNOWN FOR ITS 12-SECOND KISS BETWEEN KEVIN KLINE AND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DOO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28120" y="761760"/>
            <a:ext cx="8085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JIMI HENDRIX EXPERIENCE WAS RELEASED IN THE U.K. BY ADDING "LET ME LIGHT YOUR..." TO THE U.S.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66680" y="762120"/>
            <a:ext cx="880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OF THE FIVE STUDIO ALBUMS BY THE POLICE HAD TITLES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1880" y="762120"/>
            <a:ext cx="822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OBLE TRUTHS ARE THERE IN BUDDH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4960" y="762120"/>
            <a:ext cx="8614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ONLY DIFFERENCE BETWEEN THE CHINESE AND VIETNAMESE ZODIACS IS THAT THE CHINESE YEAR OF THE RABBIT IS THE VIETNAMESE YEAR OF THE 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1985 FILM ABOUT A TIME-TRAVELING DELOR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4360" y="761760"/>
            <a:ext cx="777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-SHAPED OR S-SHAPED PIPE IN A FLUSH TOILET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SHADED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924280" y="2743200"/>
            <a:ext cx="3295440" cy="26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5-11T02:56:56Z</dcterms:modified>
  <cp:revision>510</cp:revision>
  <dc:subject/>
  <dc:title>Slide 1</dc:title>
</cp:coreProperties>
</file>