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64D8-CBC6-45F1-9CD6-27F9BD8EC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5705-C3F0-43FA-A777-191A6A9C3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BBFD-B477-48A7-B9C7-DC89199B2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BC3E-4065-4C8B-84C7-5294E2511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AB5D-1CB4-4646-BDFA-A1742EB3A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A9C8-6E09-43C9-AFBB-6C5BCD01E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FD10-6596-4629-82AA-580BA162D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96D8-B0E4-431C-95FA-5488027F8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D3C8-896B-474C-9EAC-980E2917D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AC9F-B793-4B3A-8CC8-DEA58C45B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38E6-1E4A-4F29-8535-E6272B0F3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E262-6A35-4B1E-856E-8B62B7EA7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FB27-9267-436F-9584-C02F14D9E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1A93-2756-45D2-A367-1A6B1998B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365F-4B2D-489F-AC93-523CAAE24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34E4-1B1A-4C28-84E9-08A4A2AD7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3354-D5FB-4CDE-B0A9-527E5CC39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3927-9576-4F81-8759-65C7CBC56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ED60-FFB5-439D-A810-078ECA5E2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CC3E-C41A-4F6D-99C5-0E8B4FE55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EBAD-91F6-4B47-A704-03E3699CD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4C20-8417-4148-862D-8DE08E060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30B9-87C8-4ECF-8D8A-17C8D9980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AD FROM CHICAGO TO SANTA MONICA IS CALLED "THE MOTHER ROA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ST  OF  BU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4140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8 FILM STARS DANIEL RADCLIFFE AS A COCAINE SMUGG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8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A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LITARY COLLEGE OF SOUTH CAROLINA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  AND  A  HARD 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CYLLA AND CHARYBDIS FROM GREEK MYTHOLOGY ARE THE INSPIRATION FOR WHAT IDIOM REQUIRING A CHOICE BETWEEN EVIL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BY  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SUAL RESTAURANT CHAIN'S CURBSIDE CARRYOUT SERVICE IS CALLED "TUE-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D  HOR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52400"/>
            <a:ext cx="7238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STANGS IN THE U.S. AND BRUMBYS IN AUSTRALIA ARE EXAMPLE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33480" y="762120"/>
            <a:ext cx="7277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WHICH OF THE 4 SEASONS ARE SALES OF GIFT ITEMS THE HIGH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WN  SU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90520" y="762120"/>
            <a:ext cx="6782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GET WHEN YOU ADD MOLASSES TO SUCRO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8 FILM STARS DANIEL RADCLIFFE AS A COCAINE SMUGGL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6396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DE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FLOWER'S NAME COMES FROM THE FRENCH PHRASE FOR "LION'S TOO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UTE  6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AD FROM CHICAGO TO SANTA MONICA IS CALLED "THE MOTHER RO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LES  OF  SONGS  BY  THE  ROLLING  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LITARY COLLEGE OF SOUTH CAROLINA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CYLLA AND CHARYBDIS FROM GREEK MYTHOLOGY ARE THE INSPIRATION FOR WHAT IDIOM REQUIRING A CHOICE BETWEEN EVIL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SUAL RESTAURANT CHAIN'S CURBSIDE CARRYOUT SERVICE IS CALLED "TUE-GO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STANGS IN THE U.S. AND BRUMBYS IN AUSTRALIA ARE EXAMPLES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WHICH OF THE 4 SEASONS ARE SALES OF GIFT ITEMS THE HIGH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GET WHEN YOU ADD MOLASSES TO SUCRO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FLOWER'S NAME COMES FROM THE FRENCH PHRASE FOR "LION'S TOO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03:58:09Z</dcterms:created>
  <dc:creator>Jennifer Budzinski</dc:creator>
  <dc:description/>
  <dc:language>en-US</dc:language>
  <cp:lastModifiedBy>Erich Friedman</cp:lastModifiedBy>
  <dcterms:modified xsi:type="dcterms:W3CDTF">2020-08-24T22:43:46Z</dcterms:modified>
  <cp:revision>407</cp:revision>
  <dc:subject/>
  <dc:title>Slide 1</dc:title>
</cp:coreProperties>
</file>