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9940-E7F9-46CD-91B1-57840BE900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B952-4625-4579-949B-7B1B18E2D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5094-A482-4255-8514-90AE3633B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2BE3-2466-4ABE-841B-808CE06BB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834B-77D4-4755-A8DB-70CB88E7E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3A04-56B5-4410-BB21-16196F08A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BFD2-5063-4246-80F0-D583D57A4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0161-C9B3-46FD-98FB-3B37C94BB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0087-67A6-42EC-A2C7-2706427B1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D780-5138-4517-AAB5-96B622482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C9D3-B46C-475C-ABDA-8CB2927F1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D7F36-428A-4448-AD5D-17D156B0D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E99EE-2C8A-41A7-8580-6915E8CA2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6119-A6A8-4866-8C6E-7A6982206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37B7-D94E-4EC1-9ECB-971CF5524E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3A5C-22FF-4F39-8637-5206879B0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73D52-F1FC-4049-8644-224E2874D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673F-05C6-41E2-BC2B-832D374D3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1C9C-B6D6-488A-8AF9-8458D52B7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316B-1281-4513-BD8B-E90B15927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B167-904A-42FC-9F2C-E54B0BC62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BA69-8C66-4AB0-BF6B-6BFF1F09E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76054-DF4F-4694-8699-261B7B9E7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AD FROM CHICAGO TO SANTA MONICA IS CALLED "THE MOTHER ROA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ST  OF  BUR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4140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FILM STARS DANIEL RADCLIFFE AS A COCAINE SMUGGL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A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LITARY COLLEGE OF SOUTH CAROLINA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CK  AND  A  HARD  PL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YLLA AND CHARYBDIS FROM GREEK MYTHOLOGY ARE THE INSPIRATION FOR WHAT IDIOM REQUIRING A CHOICE BETWEEN EVIL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BY  TUES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SUAL RESTAURANT CHAIN'S CURBSIDE CARRYOUT SERVICE IS CALLED "TUE-G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LD  HOR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52560" y="752400"/>
            <a:ext cx="7238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STANGS IN THE U.S. AND BRUMBYS IN AUSTRALIA ARE EXAMPLES OF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33480" y="762120"/>
            <a:ext cx="7277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HICH OF THE 4 SEASONS ARE SALES OF GIFT ITEMS THE HIGH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WN  SU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190520" y="762120"/>
            <a:ext cx="6782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GET WHEN YOU ADD MOLASSES TO SUCRO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FILM STARS DANIEL RADCLIFFE AS A COCAINE SMUGGL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6396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NDEL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762120" y="762120"/>
            <a:ext cx="7619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FLOWER'S NAME COMES FROM THE FRENCH PHRASE FOR "LION'S TOO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UTE  6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09480" y="762120"/>
            <a:ext cx="7925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OAD FROM CHICAGO TO SANTA MONICA IS CALLED "THE MOTHER ROA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371600" y="4343400"/>
            <a:ext cx="6400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ITLES  OF  SONGS  BY  THE  ROLLING  ST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ILITARY COLLEGE OF SOUTH CAROLINA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CYLLA AND CHARYBDIS FROM GREEK MYTHOLOGY ARE THE INSPIRATION FOR WHAT IDIOM REQUIRING A CHOICE BETWEEN EVIL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SUAL RESTAURANT CHAIN'S CURBSIDE CARRYOUT SERVICE IS CALLED "TUE-GO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USTANGS IN THE U.S. AND BRUMBYS IN AUSTRALIA ARE EXAMPLES OF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RING WHICH OF THE 4 SEASONS ARE SALES OF GIFT ITEMS THE HIGH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YOU GET WHEN YOU ADD MOLASSES TO SUCRO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FLOWER'S NAME COMES FROM THE FRENCH PHRASE FOR "LION'S TOOT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1T03:58:09Z</dcterms:created>
  <dc:creator>Jennifer Budzinski</dc:creator>
  <dc:description/>
  <dc:language>en-US</dc:language>
  <cp:lastModifiedBy>Erich Friedman</cp:lastModifiedBy>
  <dcterms:modified xsi:type="dcterms:W3CDTF">2020-08-24T22:43:46Z</dcterms:modified>
  <cp:revision>407</cp:revision>
  <dc:subject/>
  <dc:title>Slide 1</dc:title>
</cp:coreProperties>
</file>