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B549-DE65-4FD8-9757-F275A98F6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E53F-CF09-42AA-8790-9DC27B0D9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74FB-112C-4468-90D5-1559D8C99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849F-CED8-4888-94E9-B26E9AB60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C9F4-2882-4156-ADEF-CDA3BCE0E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3938-D21B-4EEE-A625-D7AD7324E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442C-EDFC-40E3-9454-9D0C121E9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62A2-77C2-41EC-9CB6-054BA1918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E206-ABD6-4516-9C57-8AB69B10B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0B7D-E644-4A7A-8D4F-CE10F174C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C7C1-D6B6-4347-B905-922E4CFF6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3CC4-09F4-4728-9555-A4C5A1AD7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F128-5F56-4BE9-ADCE-729614DD6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914F-F664-4B92-836C-47C7C9154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EE90-B61E-49D0-A862-99610E0A6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388C-F35E-43A9-93C4-FD33E0019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16D3-F5EE-450C-B17A-D38D4C88D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6980-BD74-4CC3-AAA5-0E56D2CBD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1632-5A18-417D-8953-1B1A8BEB7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C398-472D-482F-B28C-6C26207E4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3C99-E0F2-491A-93C3-CFA083B4A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3D3F-CCB4-4701-9BC1-F8AC5B7EF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7900-8E8B-4DEF-B412-ACA036484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AD FROM CHICAGO TO SANTA MONICA IS CALLED "THE MOTHER RO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ST  OF 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4140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FILM STARS DANIEL RADCLIFFE AS A COCAINE SMUGG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A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LITARY COLLEGE OF SOUTH CAROLINA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  AND  A  HARD 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YLLA AND CHARYBDIS FROM GREEK MYTHOLOGY ARE THE INSPIRATION FOR WHAT IDIOM REQUIRING A CHOICE BETWEEN EVIL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Y  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SUAL RESTAURANT CHAIN'S CURBSIDE CARRYOUT SERVICE IS CALLED "TUE-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  HO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52400"/>
            <a:ext cx="7238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TANGS IN THE U.S. AND BRUMBYS IN AUSTRALIA ARE EXAMPL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33480" y="762120"/>
            <a:ext cx="7277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ICH OF THE 4 SEASONS ARE SALES OF GIFT ITEMS THE HIGH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  S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90520" y="762120"/>
            <a:ext cx="6782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GET WHEN YOU ADD MOLASSES TO SUCR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FILM STARS DANIEL RADCLIFFE AS A COCAINE SMUGGL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6396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DE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FLOWER'S NAME COMES FROM THE FRENCH PHRASE FOR "LION'S TOO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TE  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AD FROM CHICAGO TO SANTA MONICA IS CALLED "THE MOTHER RO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SONGS  BY  THE  ROLLING  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LITARY COLLEGE OF SOUTH CAROLINA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YLLA AND CHARYBDIS FROM GREEK MYTHOLOGY ARE THE INSPIRATION FOR WHAT IDIOM REQUIRING A CHOICE BETWEEN EVIL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SUAL RESTAURANT CHAIN'S CURBSIDE CARRYOUT SERVICE IS CALLED "TUE-GO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TANGS IN THE U.S. AND BRUMBYS IN AUSTRALIA ARE EXAMPLE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ICH OF THE 4 SEASONS ARE SALES OF GIFT ITEMS THE HIGH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GET WHEN YOU ADD MOLASSES TO SUCRO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FLOWER'S NAME COMES FROM THE FRENCH PHRASE FOR "LION'S TOO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03:58:09Z</dcterms:created>
  <dc:creator>Jennifer Budzinski</dc:creator>
  <dc:description/>
  <dc:language>en-US</dc:language>
  <cp:lastModifiedBy>Erich Friedman</cp:lastModifiedBy>
  <dcterms:modified xsi:type="dcterms:W3CDTF">2020-08-24T22:43:46Z</dcterms:modified>
  <cp:revision>407</cp:revision>
  <dc:subject/>
  <dc:title>Slide 1</dc:title>
</cp:coreProperties>
</file>