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2A6-ECF6-41A1-9039-D9E3E057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7F7E-18E3-462D-A023-155F3453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675-2BB7-40D6-B105-656ABA4D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5447-4450-486C-BEF3-9E1FA8766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2160-514E-4C8E-9D9D-BAF04B3B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BC9C-DBB7-498C-87D9-76A51B4B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C88-72B8-4104-B618-4A0C3D2C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1E79-713E-4F28-B463-5AF33BC0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E5A-AFBC-45D8-BA00-B9F88E83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A2A-32C4-4D0F-9549-F1E99F58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67EA-6B1B-4330-A935-88EEE3A0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1BD7-D92C-4407-A24A-DEFFD499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3870-38DA-4F14-A781-34D7E607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2774-6FF6-4F75-9D39-676EBB68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9ED-97FE-499F-B30F-6A48EC75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94F-9ECB-431E-96B4-9A6DECB2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F5C-3524-4B31-AA1E-8FEDEA47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927-EA30-470C-AB4A-2B184E1D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8CF-A67D-40BE-A8FA-C7B478E89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678-F5E7-4CE3-80CF-DE27D80C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CAE-53A3-4B33-A78E-7E7A966E1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64B-4EBD-480B-B98F-6650DA4B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113-4693-4193-9606-42D50EE1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0C46-4C4C-4258-A2A8-1891260A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1240" y="762120"/>
            <a:ext cx="712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HARVARD AND M.I.T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LAND MAMMAL THAT CAN SURVIVE ON SALT WATER IF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42840" y="762120"/>
            <a:ext cx="728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O" AND "GOSUB" WERE COMMANDS IN WHAT COMPUTER LANGUAGE DEVELOPED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8160" y="762120"/>
            <a:ext cx="7265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CHANGED IT TO "ONO" IN 1969, WHAT WWII-ERA FAVORITE WAS JOHN LENNO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53, OLIVER CROMWELL LED THE ARMED FORCE THAT OFFICIALLY DISSOLVED THE "RUMP" OF WHAT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HODE ISLAND CITY WAS THE LOCATION OF THE "SUMMER WHITE HOUSES" OF KENNEDY AND EISEN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20" y="762120"/>
            <a:ext cx="388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DDLE FIGURE IN THIS SISTINE CHAPEL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506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3880" y="762120"/>
            <a:ext cx="6096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ORE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AMES GARNER AS A LAWMAN, THOUGH HE PLAYED THE TITLE ROLE OF CARD SHARK IN THE 50'S TV SHOW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7944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68480" y="762120"/>
            <a:ext cx="7005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HARVARD AND M.I.T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23920" y="762120"/>
            <a:ext cx="869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LAND MAMMAL THAT CAN SURVIVE ON SALT WATER IF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CIGAR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O" AND "GOSUB" WERE COMMANDS IN WHAT COMPUTER LANGUAGE DEVELOPED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CHANGED IT TO "ONO" IN 1969, WHAT WWII-ERA FAVORITE WAS JOHN LENNO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30360" y="762120"/>
            <a:ext cx="78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53, OLIVER CROMWELL LED THE ARMED FORCE THAT OFFICIALLY DISSOLVED THE "RUMP" OF WHAT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HODE ISLAND CITY WAS THE LOCATION OF THE "SUMMER WHITE HOUSES" OF KENNEDY AND EISENH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960" y="762120"/>
            <a:ext cx="3819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DDLE FIGURE IN THIS SISTINE CHAPEL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50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1680" y="761760"/>
            <a:ext cx="620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ORE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1760" y="761760"/>
            <a:ext cx="887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AMES GARNER AS A LAWMAN, THOUGH HE PLAYED THE TITLE ROLE OF CARD SHARK IN THE 50'S TV SHOW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13T13:53:52Z</dcterms:modified>
  <cp:revision>395</cp:revision>
  <dc:subject/>
  <dc:title>Slide 1</dc:title>
</cp:coreProperties>
</file>