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F027-F5EF-48D9-BA4E-B5D6E576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C4A6-1562-49D3-87E7-5C55E68C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0707-EA86-49B9-8F69-D0B207F48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1E03B-C040-4B61-82D9-280AFA889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1D52-15F0-4A34-BA89-BB7D3350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6396-C395-4F5F-BB6C-D549C720E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BF22-B721-4E96-8D02-A016A62C9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9C3B-FE47-4D69-B19E-0C78281FA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8231-2A76-4505-B930-EDF54F98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2CA6-9720-4B06-8FC2-CD9E6677B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2F49-BBE7-458A-B6BF-1E2800FFD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DA6A-0B29-4DD6-BA6F-86F1F9D72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8254-C75B-4973-BFA9-3062EDF53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3F56-3E03-4ABB-A76B-22CB95AA4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5943-A9A9-45AC-87CA-1EA8C0700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815D-9FBF-4B68-9DE4-6DCFBC035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0E5C-6582-48EE-9C74-11D65965A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7FF5-5E4B-47D0-B8B6-F407C393B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32C8-6BEC-4F15-9904-A11FFBF14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CE4D-F96B-4AE8-A5D4-EB1E3E7C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5CF3-E8BB-4370-86B6-03753CF9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09A4-713D-41F7-9924-2AB645370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D7F0-706F-4820-8F1F-ED7B22508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5BE7-9AD8-436A-B7D5-3137F956E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11240" y="762120"/>
            <a:ext cx="712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HARVARD AND M.I.T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9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LAND MAMMAL THAT CAN SURVIVE ON SALT WATER IF NECESSA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942840" y="762120"/>
            <a:ext cx="7286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O" AND "GOSUB" WERE COMMANDS IN WHAT COMPUTER LANGUAGE DEVELOPED IN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38160" y="762120"/>
            <a:ext cx="7265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HE CHANGED IT TO "ONO" IN 1969, WHAT WWII-ERA FAVORITE WAS JOHN LENNON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17400" y="762120"/>
            <a:ext cx="79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53, OLIVER CROMWELL LED THE ARMED FORCE THAT OFFICIALLY DISSOLVED THE "RUMP" OF WHAT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09680" y="762120"/>
            <a:ext cx="8324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HODE ISLAND CITY WAS THE LOCATION OF THE "SUMMER WHITE HOUSES" OF KENNEDY AND EISENH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320" y="762120"/>
            <a:ext cx="3886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DDLE FIGURE IN THIS SISTINE CHAPEL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5068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523880" y="762120"/>
            <a:ext cx="6096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ORE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V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81080" y="762120"/>
            <a:ext cx="87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JAMES GARNER AS A LAWMAN, THOUGH HE PLAYED THE TITLE ROLE OF CARD SHARK IN THE 50'S TV SHOW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7944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B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068480" y="762120"/>
            <a:ext cx="7005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THE HOME OF HARVARD AND M.I.T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23920" y="762120"/>
            <a:ext cx="8696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LAND MAMMAL THAT CAN SURVIVE ON SALT WATER IF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NDS  OF  CIGARET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TO" AND "GOSUB" WERE COMMANDS IN WHAT COMPUTER LANGUAGE DEVELOPED IN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HE CHANGED IT TO "ONO" IN 1969, WHAT WWII-ERA FAVORITE WAS JOHN LENNON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630360" y="762120"/>
            <a:ext cx="78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653, OLIVER CROMWELL LED THE ARMED FORCE THAT OFFICIALLY DISSOLVED THE "RUMP" OF WHAT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1600" y="762120"/>
            <a:ext cx="82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HODE ISLAND CITY WAS THE LOCATION OF THE "SUMMER WHITE HOUSES" OF KENNEDY AND EISENH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5960" y="762120"/>
            <a:ext cx="3819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MIDDLE FIGURE IN THIS SISTINE CHAPEL PAIN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191120" y="914400"/>
            <a:ext cx="4506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71680" y="761760"/>
            <a:ext cx="620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ORE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31760" y="761760"/>
            <a:ext cx="8879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STARRED JAMES GARNER AS A LAWMAN, THOUGH HE PLAYED THE TITLE ROLE OF CARD SHARK IN THE 50'S TV SHOW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13T13:53:52Z</dcterms:modified>
  <cp:revision>395</cp:revision>
  <dc:subject/>
  <dc:title>Slide 1</dc:title>
</cp:coreProperties>
</file>