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1110-0375-42FE-94BA-0DF87307B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719E-75B2-4E50-9419-29415E64B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2B33-D031-4705-8E9C-6C35AF59A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BE9A-9264-4153-AE93-0369D36C2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4457-4E52-48A1-A2F4-90552E43F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FB48-4D02-4972-92B5-D3F3BD47C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45E-C90E-407D-AE1E-0DF276E23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562B-59C1-4B93-9805-7265482A2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58AB-17CE-41C0-815B-E2D39EC44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0A0C-F84C-408A-AD47-5D4FAD24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89D5-3D2C-44D3-A413-57495386F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6556-DC70-4B43-A27B-8EBD996BD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BA2E-06E3-4AEF-BF42-F8A850919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5D4A-47AA-4747-B4B1-8D8B1F2D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C707-62BE-448C-A47E-A78B883F1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EBC8-CC5F-4500-B4CD-95F7D0594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B646-5D3D-4890-BA8C-EB6557D7C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83E8-B0DC-40F7-B282-4812F9DDE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692F-D8AE-4E0D-88A2-5129CDF95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71A2-FCDA-46CE-9FD1-902DB90F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6F3A-133C-4E6C-9C58-968EF358E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27D6-A73D-4772-B661-079E682C7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F64-5B36-4D81-8DFA-09A791F76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–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ANS USE FOR NOR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AFTER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8360" y="762120"/>
            <a:ext cx="7667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NDI LAUPER SONG, HER FIRST #1 HIT, DID JAZZ TRUMPETER MILES DAVIS COVER IN HUNDREDS OF HIS CONC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DDED TO ESPRESSO TO MAKE A MACCHI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'S  UP  DOC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5920" y="762120"/>
            <a:ext cx="837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CATCHPHRASE WAS FIRST UTTERED IN THE 1940 SHORT "A WILD H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38280" y="771480"/>
            <a:ext cx="7867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"LITTLE ANIMALS" DID THE GREEKS GIVE TO THE BAND IN THE SKY THAT FOLLOWS THE SUN'S ECLIPT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080" y="76212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NOR OF THE FINANCIAL COMPANY'S LOGO, WHAT HAVE NJ DEVILS FANS NICKNAMED THEIR TEAM'S HOME ARENA, PRUDENTIAL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Y 2019 TWEET ABOUT THE LOW UNEMPLOYMENT RATE, WHAT WORD DID PRESIDENT TRUMP USE      3 TIMES IN A 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D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1080" y="762120"/>
            <a:ext cx="87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ECTONIC FAULT THAT STRETCHES THROUGH 750 MILES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57080" y="762120"/>
            <a:ext cx="762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NDI LAUPER SONG, HER FIRST #1 HIT, DID JAZZ TRUMPETER MILES DAVIS COVER IN HUNDREDS OF HIS CONC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  DAYS  AND  40  N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1720" y="758880"/>
            <a:ext cx="754056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 7:4 OR 7:12, HOW LONG DID IT RAIN ON NOAH'S 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RBARY  CO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4800" y="762120"/>
            <a:ext cx="7394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DID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ANS USE FOR NOR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S  SET  IN  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DDED TO ESPRESSO TO MAKE A MACCHI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53880" y="762120"/>
            <a:ext cx="843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CATCHPHRASE WAS FIRST UTTERED IN THE 1940 SHORT "A WILD H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"LITTLE ANIMALS" DID THE GREEKS GIVE TO THE BAND IN THE SKY THAT FOLLOWS THE SUN'S ECLIPT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NOR OF THE FINANCIAL COMPANY'S LOGO, WHAT HAVE NJ DEVILS FANS NICKNAMED THEIR TEAM'S HOME ARENA, PRUDENTIAL CEN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3280" y="761760"/>
            <a:ext cx="7596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MAY 2019 TWEET ABOUT THE LOW UNEMPLOYMENT RATE, WHAT WORD DID PRESIDENT TRUMP USE       3 TIMES IN A 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1760" y="761760"/>
            <a:ext cx="8879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ECTONIC FAULT THAT STRETCHES THROUGH 750 MILES OF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3280" y="762120"/>
            <a:ext cx="7597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 7:4 OR 7:12, HOW LONG DID IT RAIN ON NOAH'S 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0-24T13:03:04Z</dcterms:modified>
  <cp:revision>402</cp:revision>
  <dc:subject/>
  <dc:title>Slide 1</dc:title>
</cp:coreProperties>
</file>