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52B1-97EA-4993-809B-556F3F857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1017-7634-44F0-B9F0-8FB3515F4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4419-1C8C-4AF5-A46B-D0D2C1D41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DCBE-AAEE-4261-9FEE-D6DB810E3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5841-F6A0-44E1-9BF6-083697468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4AED-FE66-4F30-B325-30D0EA144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771F-9F91-47D5-9937-E9B104A09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2766-300F-4EFF-AB9B-572E98EAC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3925-4CEB-4BC7-9287-23003F527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FD9F-6111-4423-937E-FBAA2F49A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4372-7F7D-4116-AB05-873BFA6C3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708B-25A0-470A-AC6F-4B728B867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B304-F134-4ECE-A5E4-E833DE5B6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159B-B455-4E63-A94B-90951FA2C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BCF3-F9CC-49CC-9BEF-42F55CBAF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F4A5-2C38-4CD8-8FAD-28C6AAC18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FA16-CC28-4B94-B28B-3C899631B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01B0-CE2E-4F31-8DFB-629D37EB4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1543-86C7-4CB2-9A2A-86236384A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B143-A1AB-4BE1-8EB3-914093708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23D5-7479-47BD-B28B-87813EE31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62B6-08B8-4187-9347-22D228757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E5E2-1270-4678-AC79-7AE571295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85960" y="761760"/>
            <a:ext cx="7372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M DID 1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– 1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EUROPEANS USE FOR NORTH AFRIC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E  AFTER 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38360" y="762120"/>
            <a:ext cx="7667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YNDI LAUPER SONG, HER FIRST #1 HIT, DID JAZZ TRUMPETER MILES DAVIS COVER IN HUNDREDS OF HIS CONCE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68360" y="762120"/>
            <a:ext cx="8205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DDED TO ESPRESSO TO MAKE A MACCHIA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AT'S  UP  DOC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85920" y="762120"/>
            <a:ext cx="8372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TOON CATCHPHRASE WAS FIRST UTTERED IN THE 1940 SHORT "A WILD HA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ODI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38280" y="771480"/>
            <a:ext cx="7867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MEANING "LITTLE ANIMALS" DID THE GREEKS GIVE TO THE BAND IN THE SKY THAT FOLLOWS THE SUN'S ECLIPTI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43080" y="762120"/>
            <a:ext cx="8458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HONOR OF THE FINANCIAL COMPANY'S LOGO, WHAT HAVE NJ DEVILS FANS NICKNAMED THEIR TEAM'S HOME ARENA, PRUDENTIAL CEN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MAY 2019 TWEET ABOUT THE LOW UNEMPLOYMENT RATE, WHAT WORD DID PRESIDENT TRUMP USE      3 TIMES IN A R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  ANDR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81080" y="762120"/>
            <a:ext cx="8781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TECTONIC FAULT THAT STRETCHES THROUGH 750 MILES OF CALIFORN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57080" y="762120"/>
            <a:ext cx="7629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YNDI LAUPER SONG, HER FIRST #1 HIT, DID JAZZ TRUMPETER MILES DAVIS COVER IN HUNDREDS OF HIS CONCER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0  DAYS  AND  40  N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01720" y="758880"/>
            <a:ext cx="754056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GENESIS 7:4 OR 7:12, HOW LONG DID IT RAIN ON NOAH'S A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ARBARY  CO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74800" y="762120"/>
            <a:ext cx="7394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M DID 1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– 1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EUROPEANS USE FOR NORTH AF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85720" y="4876920"/>
            <a:ext cx="797256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LMS  SET  IN  SAN  FRANCIS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03280" y="761760"/>
            <a:ext cx="8137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DDED TO ESPRESSO TO MAKE A MACCHIA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53880" y="762120"/>
            <a:ext cx="843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TOON CATCHPHRASE WAS FIRST UTTERED IN THE 1940 SHORT "A WILD HA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00200" y="762120"/>
            <a:ext cx="7743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MEANING "LITTLE ANIMALS" DID THE GREEKS GIVE TO THE BAND IN THE SKY THAT FOLLOWS THE SUN'S ECLIPTI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762120"/>
            <a:ext cx="8496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HONOR OF THE FINANCIAL COMPANY'S LOGO, WHAT HAVE NJ DEVILS FANS NICKNAMED THEIR TEAM'S HOME ARENA, PRUDENTIAL CEN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73280" y="761760"/>
            <a:ext cx="7596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MAY 2019 TWEET ABOUT THE LOW UNEMPLOYMENT RATE, WHAT WORD DID PRESIDENT TRUMP USE       3 TIMES IN A R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31760" y="761760"/>
            <a:ext cx="8879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TECTONIC FAULT THAT STRETCHES THROUGH 750 MILES OF CALIFORN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73280" y="762120"/>
            <a:ext cx="7597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GENESIS 7:4 OR 7:12, HOW LONG DID IT RAIN ON NOAH'S A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10-24T13:03:04Z</dcterms:modified>
  <cp:revision>402</cp:revision>
  <dc:subject/>
  <dc:title>Slide 1</dc:title>
</cp:coreProperties>
</file>