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F60-D223-4C46-B281-91D7314B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5FD-4C88-430B-B4C0-3EEA53A0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AE3-43FA-4F69-8275-67674F93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5B1-3B57-49B3-9271-EC6ACDB9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7F1-E00F-41B5-8608-864D2C50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9035-1C33-45AF-9769-01E17EF0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650-65CF-46AF-AC24-2EA4FB0F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071-9F92-40D8-AD75-9539D85D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DCB-6D36-4A7C-95B6-E3648075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BF3-BBB8-4E82-8B74-3AE92770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A50-05A5-4DD9-B705-E6C116BA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44E-F2D4-4401-8586-3FE969EF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6E01-B2B6-4447-AB35-47175DEA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238-C68C-493C-9419-CAF30F05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427F-1D63-48E3-92A4-428DDC45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3C3-7341-4B4E-B270-0C84FC00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3FEE-5016-46F2-BEE8-870851E1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E82F-DA3F-4031-96BC-FAAD242B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48F2-CADA-4EDA-A562-0E14E9D0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B067-6BF2-4D5E-B37E-CFAF2856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4C8F-58A9-4AF4-BDC8-BD2D40E0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1959-EA78-4E03-9AE9-7AA6226F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C3F-E097-4120-9055-F10125D15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LORIDA'S FIRST PRIVATE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VIDEO FOR WHAT RIHANNA #1 SONG DOES SHE COMMAND AN ARMY WHILE DRESSED IN VARIOUS STYLIZED MILITARY UNI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 ANTHONY WAS THE FIRST PERSON TO EARN $1 MILLION AS WHAT SORT OF SPORT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POKER PLAYERS, WHAT IS THE MOST COMMON SLANG TERM FOR A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MCDONALDS SWITCH FROM PLASTIC TO PAPER IN THE U.K.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LATE 90'S WHAT SORT OF "BABIES" BECAME A TOY AND INVESTMENT F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ONLY CENTRAL AMERICAN COUNTRY THAT IS MORE THAN TWICE AS LONG IN THE EAST-WEST DIRECTION THAN IN THE NORTH-SOUTH DIR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FLAVORS OF QUARK, WHICH ONE WAS LAST TO BE DISCOVERED BECAUSE IT WAS SO MUCH HEAVIER THAN THE 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VIDEO FOR WHAT RIHANNA #1 SONG DOES SHE COMMAND AN ARMY WHILE DRESSED IN VARIOUS STYLIZED MILITARY UNI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T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4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YMNASTICS MOVE WAS NAMED FOR A PART OF A PIECE OF FARM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LORIDA'S FIRST PRIVATE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 ANTHONY WAS THE FIRST PERSON TO EARN $1 MILLION AS WHAT SORT OF SPORT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0640" y="76212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POKER PLAYERS, WHAT IS THE MOST COMMON SLANG TERM FOR A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MCDONALDS SWITCH FROM PLASTIC TO PAPER IN THE U.K.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LATE 90'S WHAT SORT OF "BABIES" BECAME A TOY AND INVESTMENT F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ONLY CENTRAL AMERICAN COUNTRY THAT IS MORE THAN TWICE AS LONG IN THE EAST-WEST DIRECTION THAN IN THE NORTH-SOUTH DIR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FLAVORS OF QUARK, WHICH ONE WAS LAST TO BE DISCOVERED BECAUSE IT WAS SO MUCH HEAVIER THAN THE 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YMNASTICS MOVE WAS NAMED FOR A PART OF A PIECE OF FARM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3T16:14:24Z</dcterms:modified>
  <cp:revision>388</cp:revision>
  <dc:subject/>
  <dc:title>Slide 1</dc:title>
</cp:coreProperties>
</file>