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607-8BF7-4E39-BAF4-08FFACDBD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4581-D0C9-4662-AADE-A4F12A1C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C5B7-3886-4931-A5A1-F80AD96B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B341-8A91-4BA3-9757-6AA031CA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69C5-2398-42BD-B275-44CB28D8F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DEB-7D7D-47D2-9391-6A65E291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84E2-7C7B-4842-B11E-2D026593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758E-CB03-4BA2-BDBA-48190F44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40FB-D025-4E1F-A3EC-741F80926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3D80-02DE-4B7A-81B0-F7354DDCA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B5EE-960E-462C-824A-4D54387E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78D0-586E-47C9-8E80-29DB65F8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7337-F61D-415F-9102-135EBF52F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5ECE-54D3-445E-A97A-133D63A74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5AD-4652-498D-A024-A837CEB3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F6D0-0E00-493B-A165-29E2C974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724E-5E3D-4128-B155-DC49412E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9A1-96F7-4D8F-8D0E-D5BBC9870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7FC2-EFA5-4555-BA82-7CE45178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0306-68AB-4C48-8AB8-E42FFC6CA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279A-8115-4C8A-8CBD-CA3E465F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5830-53C8-41D7-8F57-FC67D1613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92A6-EE5C-4EBE-9879-DED2EB385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LORIDA'S FIRST PRIVATE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VIDEO FOR WHAT RIHANNA #1 SONG DOES SHE COMMAND AN ARMY WHILE DRESSED IN VARIOUS STYLIZED MILITARY UNI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 ANTHONY WAS THE FIRST PERSON TO EARN $1 MILLION AS WHAT SORT OF SPORT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POKER PLAYERS, WHAT IS THE MOST COMMON SLANG TERM FOR A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MCDONALDS SWITCH FROM PLASTIC TO PAPER IN THE U.K.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LATE 90'S WHAT SORT OF "BABIES" BECAME A TOY AND INVESTMENT F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ONLY CENTRAL AMERICAN COUNTRY THAT IS MORE THAN TWICE AS LONG IN THE EAST-WEST DIRECTION THAN IN THE NORTH-SOUTH DIREC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FLAVORS OF QUARK, WHICH ONE WAS LAST TO BE DISCOVERED BECAUSE IT WAS SO MUCH HEAVIER THAN THE 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VIDEO FOR WHAT RIHANNA #1 SONG DOES SHE COMMAND AN ARMY WHILE DRESSED IN VARIOUS STYLIZED MILITARY UNI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T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4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YMNASTICS MOVE WAS NAMED FOR A PART OF A PIECE OF FARM EQUIP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LORIDA'S FIRST PRIVATE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RL ANTHONY WAS THE FIRST PERSON TO EARN $1 MILLION AS WHAT SORT OF SPORT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0640" y="76212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POKER PLAYERS, WHAT IS THE MOST COMMON SLANG TERM FOR A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DID MCDONALDS SWITCH FROM PLASTIC TO PAPER IN THE U.K.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LATE 90'S WHAT SORT OF "BABIES" BECAME A TOY AND INVESTMENT F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ONLY CENTRAL AMERICAN COUNTRY THAT IS MORE THAN TWICE AS LONG IN THE EAST-WEST DIRECTION THAN IN THE NORTH-SOUTH DIREC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6 FLAVORS OF QUARK, WHICH ONE WAS LAST TO BE DISCOVERED BECAUSE IT WAS SO MUCH HEAVIER THAN THE 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YMNASTICS MOVE WAS NAMED FOR A PART OF A PIECE OF FARM EQUIP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3T16:14:24Z</dcterms:modified>
  <cp:revision>388</cp:revision>
  <dc:subject/>
  <dc:title>Slide 1</dc:title>
</cp:coreProperties>
</file>