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1883-9F82-4193-B610-A2F31DEB88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D278-34F4-4DF6-992B-53696ECBD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3C2A-F117-4160-A22C-94E070AFB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F7F2-275D-41B5-B2F2-8B260AB3D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525E-7009-4894-8A69-E915CF773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39FC5-0B60-47F2-AB87-5E4A92AB2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B851-D2EE-448B-990A-510781FEA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6855-73FF-47AE-979C-CB44DDCC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CA7B-B5BF-43D8-9779-EC5193180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A16B8-D82B-4583-B10A-9D7387CAF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9431-148D-4411-B328-EA1CF9E35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43CE0-267D-4ED8-AE7F-654247528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D6A4-7CC3-40C6-90DC-29E299EB36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9308-380A-43C5-A396-E20EF8505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78168-D954-4DBD-A2F5-D7F281EC2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E72B4-4ED4-472F-B35F-8A3D2A039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A8E91-F636-435D-A93E-CDA9D05D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4EB4-C8BA-44F7-9B61-8642D05C0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A492-84A0-4305-A1DF-5725D127DB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C758-BC9A-446C-87AB-8B1559BB3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7D8F-C74B-4B5F-97AB-263B4FFAD6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EB1F-62D0-4DF9-8EE8-B21439A24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E732-B632-45E8-9052-AD19F7156D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BACKED UP NEIL YOUNG ON CLASSIC ALBUMS LIKE "RUST NEVER SLEEPS" AND "RAGGED GL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LL(BLADD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42840" y="762120"/>
            <a:ext cx="7258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BILE, AFTER THE ORGAN THAT STORE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SCE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039680" y="762120"/>
            <a:ext cx="706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S KISSIMMEE, FLORIDA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E  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52480" y="762120"/>
            <a:ext cx="7439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FOR AN ANIMAL THAT HAS LEFT THE PACK HAS RECENTLY COME TO MEAN A TERRORIST WHO ACTS AL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NTIA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409760" y="771480"/>
            <a:ext cx="6324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VISION OF GM MADE THE FIREBI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QUO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95360" y="762120"/>
            <a:ext cx="8196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PECIES OF TREE ON EAR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HAW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4920" y="762120"/>
            <a:ext cx="85341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OF SIKORSKY HELICOPTER WAS FAMOUSLY DOWNED IN MOGADISHU, SOMALIA IN 199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CUMSE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81080" y="762120"/>
            <a:ext cx="8781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ION GENERAL WILLIAM SHERMAN WAS ALWAYS CALLED "CUMP" BY HIS FRIENDS AND FAMILY, BECAUSE OF HIS MIDDLE NAME.  WHAT WA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905040" y="762120"/>
            <a:ext cx="7333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NOTHER NAME FOR BILE, AFTER THE ORGAN THAT STORES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ONI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14520" y="762120"/>
            <a:ext cx="79135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.S. PARATROOPERS AT FORT BENNING, GEORGIA IN THE 1940'S INVENTED THE PRACTICE OF YELLING WHAT WORD AS THEY JUMP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  H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600120" y="762120"/>
            <a:ext cx="79437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BACKED UP NEIL YOUNG ON CLASSIC ALBUMS LIKE "RUST NEVER SLEEPS" AND "RAGGED GL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MOUS  NATIVE  AMERIC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39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Y IS KISSIMMEE, FLORIDA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57240" y="762120"/>
            <a:ext cx="7228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ERM FOR AN ANIMAL THAT HAS LEFT THE PACK HAS RECENTLY COME TO MEAN A TERRORIST WHO ACTS AL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407960" y="762120"/>
            <a:ext cx="6328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VISION OF GM MADE THE FIREBI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47840" y="762120"/>
            <a:ext cx="82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SPECIES OF TREE ON EAR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ODEL OF SIKORSKY HELICOPTER WAS FAMOUSLY DOWNED IN MOGADISHU, SOMALIA IN 199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9000" y="761760"/>
            <a:ext cx="8766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NION GENERAL WILLIAM SHERMAN WAS ALWAYS CALLED "CUMP" BY HIS FRIENDS AND FAMILY, BECAUSE OF HIS MIDDLE NAME.  WHAT WAS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73120" y="762120"/>
            <a:ext cx="7997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.S. PARATROOPERS AT FORT BENNING, GEORGIA IN THE 1940'S INVENTED THE PRACTICE OF YELLING WHAT WORD AS THEY JUMP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06-23T16:21:35Z</dcterms:modified>
  <cp:revision>394</cp:revision>
  <dc:subject/>
  <dc:title>Slide 1</dc:title>
</cp:coreProperties>
</file>