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CC8C-2874-4E80-B0CB-D128FC76F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6D05-F324-42D3-BB70-1B220CCC5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54ED-870C-440A-91DA-26CA945F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29BF-FEC8-454A-B7F3-4DA4A5929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ED4B-6A57-4B6D-95E3-A780131E8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A936-1DA1-4258-93D2-ED4EDC6F7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97E2-F0ED-4E36-A4F6-2740E1DA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28EE-15A1-49BB-9AE6-3B97A37BA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B61B-6DEE-4A95-9576-95B287635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2F44-7479-4399-B826-DDC7C5C7E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20F5-9B00-461E-B6BD-EC94A065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6D35-FCCB-43EE-8128-7780B9CB4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A563-7A32-4360-9ADB-6943BF602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1412-DDCD-4FFD-B102-AE6983D1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41C7-14A5-4858-AFB4-83B5DC79B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6635-AEAD-4B88-986D-938F58179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F575-F273-4141-9084-5482E64F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664A-B54E-4C5D-B823-405C7492C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C6C6-8222-452B-8C0B-3A418342A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4A32-5DD9-465B-AC74-2A2B42BF6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7E5D-4061-42A3-B807-904727B86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AA14-944A-42D9-8B40-2C8487839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1EE9-862D-4883-86CC-3C5D0B0FA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761760"/>
            <a:ext cx="79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BACKED UP NEIL YOUNG ON CLASSIC ALBUMS LIKE "RUST NEVER SLEEPS" AND "RAGGED GL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L(BLADD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42840" y="762120"/>
            <a:ext cx="7258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BILE, AFTER THE ORGAN THAT STORE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SCE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39680" y="762120"/>
            <a:ext cx="706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S KISSIMMEE, FLORIDA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E  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52480" y="762120"/>
            <a:ext cx="7439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FOR AN ANIMAL THAT HAS LEFT THE PACK HAS RECENTLY COME TO MEAN A TERRORIST WHO ACTS AL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T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409760" y="77148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VISION OF GM MADE THE FIRE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96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PECIES OF TREE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HAW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OF SIKORSKY HELICOPTER WAS FAMOUSLY DOWNED IN MOGADISHU, SOMALIA IN 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CUMSE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1080" y="762120"/>
            <a:ext cx="878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ION GENERAL WILLIAM SHERMAN WAS ALWAYS CALLED "CUMP" BY HIS FRIENDS AND FAMILY, BECAUSE OF HIS MIDDLE NAME.  WHAT WA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BILE, AFTER THE ORGAN THAT STORES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ONI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14520" y="762120"/>
            <a:ext cx="79135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.S. PARATROOPERS AT FORT BENNING, GEORGIA IN THE 1940'S INVENTED THE PRACTICE OF YELLING WHAT WORD AS THEY JUMP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0120" y="762120"/>
            <a:ext cx="7943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BACKED UP NEIL YOUNG ON CLASSIC ALBUMS LIKE "RUST NEVER SLEEPS" AND "RAGGED GL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NATIVE  AMERIC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2480" y="761760"/>
            <a:ext cx="7439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S KISSIMMEE, FLORIDA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7240" y="762120"/>
            <a:ext cx="722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FOR AN ANIMAL THAT HAS LEFT THE PACK HAS RECENTLY COME TO MEAN A TERRORIST WHO ACTS AL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07960" y="762120"/>
            <a:ext cx="6328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VISION OF GM MADE THE FIREB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PECIES OF TREE ON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OF SIKORSKY HELICOPTER WAS FAMOUSLY DOWNED IN MOGADISHU, SOMALIA IN 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9000" y="761760"/>
            <a:ext cx="876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ION GENERAL WILLIAM SHERMAN WAS ALWAYS CALLED "CUMP" BY HIS FRIENDS AND FAMILY, BECAUSE OF HIS MIDDLE NAME.  WHAT WAS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.S. PARATROOPERS AT FORT BENNING, GEORGIA IN THE 1940'S INVENTED THE PRACTICE OF YELLING WHAT WORD AS THEY JUMP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23T16:21:35Z</dcterms:modified>
  <cp:revision>394</cp:revision>
  <dc:subject/>
  <dc:title>Slide 1</dc:title>
</cp:coreProperties>
</file>