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01EA-002D-43DB-933F-186386860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2F08-493B-46B1-A725-8CEE69FEF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03B0-11CD-4406-AD23-B3224081E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A6AE-4E3D-4709-92BF-346F0A506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6E84-2991-459D-82C7-7EFBAE857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431F-3B3E-4F86-B08F-99FD15B17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4153-032D-49F7-BBBF-A8BFAE740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B46D-DE56-4E06-976D-89D88272F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8480-5E64-4DBD-96CB-C2564DC5E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0C33-03F4-44F4-B886-60F8CFEE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D1AA-B35E-4809-986E-1EA5F0C89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C81D-277A-4221-9EC7-CB2547AD3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18B5-8F0F-44D4-A8A5-DFBBF05E6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1240-18B1-402F-AC24-12C23B334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4CAF-2695-4E39-8C95-87D8E184E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8547-677F-4994-BE43-C2E84016A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DF9C-40C1-4299-BD3B-692D3D932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788A-3AB9-4738-9E59-EE8EEF3F8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0487-4F8A-420A-B6BC-CD333CA8E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1698-896E-4EFC-B815-01AAF4099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0D06-809E-498D-A565-1D2D4CEBB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7358-69D1-4389-BDFF-371C56473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A48B-04F8-46A8-975E-913357C05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TEACHER WHO WAS CHARGED IN 1925 WITH TEACHING EVOLUTION IN   A TENNESSEE SCH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(RYLLI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42840" y="762120"/>
            <a:ext cx="7258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RREGULAR VERB    IS ALSO THE CHEMICAL SYMBOL OF ELEMENT #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73280" y="762120"/>
            <a:ext cx="7597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1, A NORWEGIAN BOY ESCAPED FROM WOLVES BY PLAYING A HEAVY METAL SONG ON HI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70000" y="762120"/>
            <a:ext cx="680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VEHICLE WAS THE PARTRIDGE FAMILY FAMOU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409760" y="77148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IS REPRESENTED BY "– ⦁" IN MORSE C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IS ERIK ESTRADA BEST KNOWN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FT  (CE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NAME OF THE MUSICAL GROUP THAT SANG THE #1 SONG "TAINTED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CIENCE MAJOR IN COLLE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05040" y="762120"/>
            <a:ext cx="733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RREGULAR VERB    IS ALSO THE CHEMICAL SYMBOL OF ELEMENT #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06440" y="763560"/>
            <a:ext cx="653112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HAIRSTYLE OR A HAND GES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SCO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19000" y="762120"/>
            <a:ext cx="7506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TEACHER WHO WAS CHARGED IN 1925 WITH TEACHING EVOLUTION IN   A TENNESSEE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MICRO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31880" y="76176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1, A NORWEGIAN BOY ESCAPED FROM WOLVES BY PLAYING A HEAVY METAL SONG ON HI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57240" y="762120"/>
            <a:ext cx="722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VEHICLE WAS THE PARTRIDGE FAMILY FAMOU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07960" y="762120"/>
            <a:ext cx="6328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IS REPRESENTED BY "– ⦁" IN MORSE C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IS ERIK ESTRADA BEST KNOWN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NAME OF THE MUSICAL GROUP THAT SANG THE #1 SONG "TAINTED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4280" y="761760"/>
            <a:ext cx="6715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CIENCE MAJOR IN COLLE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20760" y="762120"/>
            <a:ext cx="6701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HAIRSTYLE OR A HAND GES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6-22T13:06:06Z</dcterms:modified>
  <cp:revision>393</cp:revision>
  <dc:subject/>
  <dc:title>Slide 1</dc:title>
</cp:coreProperties>
</file>