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36D-2D41-43BF-9330-46FFD16F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B5F2-E8AB-47FF-9010-0E09B82D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9FB4-5130-4CC8-B3A8-62997782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CDB0-02CC-4503-BCAB-8D0C4B6C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029F-F2DD-43F7-9CC8-F230EA7B1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DDE7-BA61-4E65-81B8-4DC509AD4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0929-7A0C-4C0A-AD26-41B030B1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8636-1BD8-4E8F-A583-CC052E520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8334-9391-4B79-B533-A66D0265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AD26-4A03-40AA-8315-B45EB6A2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7B50-C460-4D8B-BDB7-742026AC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B7D-C80A-4365-AF7E-3760F38B8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8B27-B971-46A1-9F76-5A2C3C77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5925-FC71-4DE5-9D68-895FF6589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E746-B9DA-4A63-B8A8-7F21F7D4F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C7CF-C2FF-4D1F-906A-7E4D8A1EB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E180-3FEB-46E1-91CD-081BE6E3C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F6FB-9CF6-45E6-A364-DF89AA3C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9F4C-BC00-4EC4-878E-F0229F502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D6E3-A430-47B0-8F64-53169DFC1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B6FD-F613-4CB5-9961-6A798EF1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73F6-2C77-4A67-8517-221CD9901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DFB1-4655-4E86-A8A8-051FAD717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(RYLLI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RREGULAR VERB    IS ALSO THE CHEMICAL SYMBOL OF ELEMENT #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73280" y="762120"/>
            <a:ext cx="7597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1, A NORWEGIAN BOY ESCAPED FROM WOLVES BY PLAYING A HEAVY METAL SONG ON HI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70000" y="762120"/>
            <a:ext cx="68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HICLE WAS THE PARTRIDGE FAMILY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09760" y="77148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REPRESENTED BY "– ⦁" IN MORS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ERIK ESTRADA BEST KNOW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T  (CE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MUSICAL GROUP THAT SANG THE #1 SONG "TAINTED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IENCE MAJOR IN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RREGULAR VERB    IS ALSO THE CHEMICAL SYMBOL OF ELEMENT #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06440" y="763560"/>
            <a:ext cx="653112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HAIRSTYLE OR A HAND GES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MICR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1880" y="76176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1, A NORWEGIAN BOY ESCAPED FROM WOLVES BY PLAYING A HEAVY METAL SONG ON HI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7240" y="762120"/>
            <a:ext cx="72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HICLE WAS THE PARTRIDGE FAMILY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7960" y="762120"/>
            <a:ext cx="6328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REPRESENTED BY "– ⦁" IN MORSE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ERIK ESTRADA BEST KNOWN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MUSICAL GROUP THAT SANG THE #1 SONG "TAINTED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4280" y="761760"/>
            <a:ext cx="671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IENCE MAJOR IN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20760" y="762120"/>
            <a:ext cx="6701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HAIRSTYLE OR A HAND GES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2T13:06:06Z</dcterms:modified>
  <cp:revision>393</cp:revision>
  <dc:subject/>
  <dc:title>Slide 1</dc:title>
</cp:coreProperties>
</file>