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2CB2-9007-4C4E-8084-1BFDB2EB7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E32F-AD0F-42D1-90AB-994658087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038A-5F21-4312-870E-10AFCBED1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01A4-A41C-4303-9C97-CDDA0EF60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38CD-FE23-41EE-830A-2ED8CBF26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E1A2-7573-4EAC-A807-6EB715CE5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4927-8B08-4B50-9A38-6CD14CB9C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FB2D-FD0C-4A6D-B4E0-5FEF46712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C909-894D-48C6-89BA-009FF5CD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FA4B-0539-4871-B239-487E4440E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EB00-EE26-443E-8A72-65C1746C3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349C-E5AD-41C1-83A3-1C9D04311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0EF1-CFF7-4BB1-9897-E1237932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20A1-2284-492C-BBDE-298B3F81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2D0B-4452-4D87-93AA-877081DC9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7B1E-AE4B-423A-B440-2345FFC60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AA1C-BAFF-48DA-A849-49292F174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32B7-C3CB-43E2-8808-5107C77E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7794-8477-4868-952F-AD101855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0D3B-3720-4C2E-A892-2C5704EA8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292A-D2E6-4E79-9DC7-96BB6F662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FACF-BED6-48F4-9AEF-6E7EB27D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83F6-EA12-4EAB-8874-9B34FFA18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STARTING CENTER FOR THE OKLAHOMA CITY THUNDER SINCE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NEST  RUTHER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71520" y="762120"/>
            <a:ext cx="8400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EMICAL ELEMENT WITH THE LONGEST NAME, ELEMENT #104, HONORS WHAT PHYSICIST WHO DISCOVERED THE ATOMIC NUCLE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LAW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54040" y="762120"/>
            <a:ext cx="805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MARRIED TO ROB TAPERT, THE CO-CREATOR OF HER TV HIT "XENA: WARRIOR PRINC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MUND  HILL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62040" y="76356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WITH TENZING NORGAY ON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THE WEEK OF JULY 13,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SPIRED BY A PHOTO OF THIRD BASEMAN GEORGE BRETT WHEN SHE WROTE HER BREAKOUT HIT "ROYALS"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08000" y="762120"/>
            <a:ext cx="712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AND PRODUCED THE "LORD OF THE RINGS" AND "HOBBIT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CR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3880" y="762120"/>
            <a:ext cx="6096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GLADI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UR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2000" y="762120"/>
            <a:ext cx="8820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S HAD 18 #1 SONGS, INCLUDING "SOMEBODY LIKE YOU", WHICH WAS NAMED THE BIGGEST COUNTRY HIT      OF THE 2000'S DEC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33360" y="762120"/>
            <a:ext cx="847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EMICAL ELEMENT WITH THE LONGEST NAME, ELEMENT #104, HONORS WHAT PHYSICIST WHO DISCOVERED THE ATOMIC NUCLE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PAQ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58800" y="765000"/>
            <a:ext cx="78264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HE PIANO" AT AGE 11, AND HAS PLAYED ROGUE IN 4 "X-ME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STARTING CENTER FOR THE OKLAHOMA CITY THUNDER SINCE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IN  NEW  ZEA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60520" y="761760"/>
            <a:ext cx="8022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MARRIED TO ROB TAPERT, THE CO-CREATOR OF HER TV HIT "XENA: WARRIOR PRINC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0640" y="762120"/>
            <a:ext cx="790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WITH TENZING NORGAY ON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THE WEEK OF JULY 13,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SPIRED BY A PHOTO OF THIRD BASEMAN GEORGE BRETT WHEN SHE WROTE HER BREAKOUT HIT "ROYALS"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AND PRODUCED THE "LORD OF THE RINGS" AND "HOBBIT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47640" y="761760"/>
            <a:ext cx="60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GLADI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0840" y="761760"/>
            <a:ext cx="884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S HAD 18 #1 SONGS, INCLUDING "SOMEBODY LIKE YOU", WHICH WAS NAMED THE BIGGEST COUNTRY HIT     OF THE 2000'S DEC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762120"/>
            <a:ext cx="7921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HE PIANO" AT AGE 11, AND HAS PLAYED ROGUE IN 4 "X-ME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0-24T13:07:01Z</dcterms:modified>
  <cp:revision>390</cp:revision>
  <dc:subject/>
  <dc:title>Slide 1</dc:title>
</cp:coreProperties>
</file>