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84B3-8289-40FC-AE45-E17BB0EE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516-7D54-4394-B7D5-0F4860F8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001-5C06-4092-B468-59CBF852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BF2-78E1-40EE-8087-AF4F2707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F24-A475-4922-BC3E-050545FC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6C0-89FA-4CA8-B5A9-64DEFDC2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DF94-1AFE-459A-BDEB-C9382C704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6C3A-BD1F-4CD5-A0B3-20836633B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517E-3622-48D3-B408-B32FB8E9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9F35-C83A-4FB8-B95F-EFD48603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6BD-08B1-4763-8D91-F106263B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8C9-9468-476C-8252-00169A58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459-896A-43C8-B0C4-A571A238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BEC-EB6B-4BB7-8C06-93F38EC9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F029-B49A-415F-B30D-DF83ACDB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37E-23EC-4F57-A30A-1DE07DA1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316-4F93-4887-8FBF-E18171E1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899-F263-42B0-85CE-47F60E58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4E48-3F52-4759-A777-6E7F1A936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49C-0C46-4F6C-ABE9-D1CBF2B3F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807-2B4B-4ED9-AEA3-AAB79108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954-23FB-44DE-BB12-36948365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07C-2DF0-43CD-9E02-5BD6B3DE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CENTER FOR THE OKLAHOMA CITY THUNDER SINCE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RUTHER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1520" y="762120"/>
            <a:ext cx="840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MICAL ELEMENT WITH THE LONGEST NAME, ELEMENT #104, HONORS WHAT PHYSICIST WHO DISCOVERED THE ATOMIC NUCLE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54040" y="762120"/>
            <a:ext cx="805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ROB TAPERT, THE CO-CREATOR OF HER TV HIT "XENA: WARRIOR PRIN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HIL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2040" y="76356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WITH TENZING NORGAY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THE WEEK OF JULY 13,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SPIRED BY A PHOTO OF THIRD BASEMAN GEORGE BRETT WHEN SHE WROTE HER BREAKOUT HIT "ROYALS"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08000" y="762120"/>
            <a:ext cx="712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PRODUCED THE "LORD OF THE RINGS" AND "HOBBIT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3880" y="762120"/>
            <a:ext cx="6096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UR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2000" y="762120"/>
            <a:ext cx="882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HAD 18 #1 SONGS, INCLUDING "SOMEBODY LIKE YOU", WHICH WAS NAMED THE BIGGEST COUNTRY HIT      OF THE 2000'S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MICAL ELEMENT WITH THE LONGEST NAME, ELEMENT #104, HONORS WHAT PHYSICIST WHO DISCOVERED THE ATOMIC NUCLE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PAQ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8800" y="765000"/>
            <a:ext cx="78264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 AT AGE 11, AND HAS PLAYED ROGUE IN 4 "X-ME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CENTER FOR THE OKLAHOMA CITY THUNDER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IN  NEW  ZEA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0520" y="761760"/>
            <a:ext cx="8022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ROB TAPERT, THE CO-CREATOR OF HER TV HIT "XENA: WARRIOR PRIN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0640" y="762120"/>
            <a:ext cx="790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WITH TENZING NORGAY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THE WEEK OF JULY 13,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SPIRED BY A PHOTO OF THIRD BASEMAN GEORGE BRETT WHEN SHE WROTE HER BREAKOUT HIT "ROYALS"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PRODUCED THE "LORD OF THE RINGS" AND "HOBBIT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47640" y="761760"/>
            <a:ext cx="60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0840" y="76176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HAD 18 #1 SONGS, INCLUDING "SOMEBODY LIKE YOU", WHICH WAS NAMED THE BIGGEST COUNTRY HIT     OF THE 2000'S DEC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762120"/>
            <a:ext cx="792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 AT AGE 11, AND HAS PLAYED ROGUE IN 4 "X-ME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3:07:01Z</dcterms:modified>
  <cp:revision>390</cp:revision>
  <dc:subject/>
  <dc:title>Slide 1</dc:title>
</cp:coreProperties>
</file>