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781A6-34DF-49CC-8FEC-9F17F0F85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6CFEA-E4B1-4396-BAA0-B2AAB0AF2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9611E-A7F6-4D8B-B86E-6E2C657D7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63CE3-E498-475A-991F-1CC8562B0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180E2-BF51-434E-BA3F-CBF91F66F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F4FEA-07AD-4B38-AC22-FA2571ED3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880FF-61F7-4982-AFEA-313749A2E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913EB-C3CB-4A32-8269-5AB4799B6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F0AD2-3705-4477-A654-592AC1164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FA931-537E-4581-B66F-DDF74C6FC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17367-5E8C-4294-A0AD-250D216A3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4233C-6949-49EE-8CFB-A887AD205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DCA27-2312-4AD3-9230-95A73DEDD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A94AE-7251-4467-9EEE-46052237E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3EB93-71E1-40B0-9028-E089D6182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654EE-EEA9-4C25-BC29-434692D21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880BF-3F2A-4F39-A513-084C227A2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1139D-76C0-4A86-8919-3BDD4E5B0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69831-B75C-466E-8BC3-889E34751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E38E9-1151-455F-A4F0-20D452E68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05A78-A16B-4525-A2B3-B59DFF84E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28C0C-1A2E-4C22-973E-834BED443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B24A9-B7E5-4D95-9ACA-26609D5FB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843120" y="761760"/>
            <a:ext cx="7457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9-2016 TV SHOW STARRED NATHAN FILLION AS A MYSTERY WRITER AND STANA KATIC AS A HOMICIDE DETECTIV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DIO  SH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942840" y="762120"/>
            <a:ext cx="72583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WORLD'S LARGEST ELECTRONICS CHAIN IN THE EARLY 1990'S, BUT DECLARED BANKRUPTCY IN 201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5335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MPLE  UNIVERS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30360" y="1066680"/>
            <a:ext cx="394164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HOOL IS THIS THE LOGO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5167440" y="514440"/>
            <a:ext cx="3519360" cy="403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ISTINE  CHAP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1170000" y="762120"/>
            <a:ext cx="680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NURSE ON THE ORIGINAL "STAR TRE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1752480" y="4876920"/>
            <a:ext cx="5639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TTAGE  CHEE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743040" y="762120"/>
            <a:ext cx="7657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LUNCH, PRESIDENT NIXON USUALLY HAD A PINEAPPLE RING AND WHAT PRODUCT, FLOWN IN FROM KNUDSEN'S DAIRY IN L.A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NCHO  VIL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217440" y="762120"/>
            <a:ext cx="8709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2 SPAGHETTI WESTERN FILM STARRING TELLY SAVALAS HAD TAG LINE "THE ONLY MAN TO INVADE THE U.S.A.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AEL  C.  H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990720" y="762120"/>
            <a:ext cx="716256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ROLE IN "DEXT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14860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USES  OF  THE  HO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228600" y="990720"/>
            <a:ext cx="4133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IS LED ZEPPELIN ALB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4952880" y="45720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905040" y="762120"/>
            <a:ext cx="7333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WORLD'S LARGEST ELECTRONICS CHAIN IN THE EARLY 1990'S, BUT DECLARED BANKRUPTCY IN 201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T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804960" y="762120"/>
            <a:ext cx="753264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PUBLICAN WON LYNDON JOHNSON'S SENATE SEAT WHEN HE BECAME VICE PRESI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S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819000" y="762120"/>
            <a:ext cx="7506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9-2016 TV SHOW STARRED NATHAN FILLION AS A MYSTERY WRITER AND STANA KATIC AS A HOMICIDE DETECT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331920" y="4876920"/>
            <a:ext cx="848016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880" y="1066320"/>
            <a:ext cx="43293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HOOL IS THIS THE LOGO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5167440" y="514440"/>
            <a:ext cx="351936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957240" y="762120"/>
            <a:ext cx="7228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NURSE ON THE ORIGINAL "STAR TRE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03440" y="762120"/>
            <a:ext cx="77356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LUNCH, PRESIDENT NIXON USUALLY HAD A PINEAPPLE RING AND WHAT PRODUCT, FLOWN IN FROM KNUDSEN'S DAIRY IN L.A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3920" y="762120"/>
            <a:ext cx="8696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2 SPAGHETTI WESTERN FILM STARRING TELLY SAVALAS HAD TAG LINE "THE ONLY MAN TO INVADE THE U.S.A.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43080" y="761760"/>
            <a:ext cx="6657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ROLE IN "DEXT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0920" y="1066680"/>
            <a:ext cx="42721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IS LED ZEPPELIN ALBU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4800600" y="457200"/>
            <a:ext cx="38862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878040" y="762120"/>
            <a:ext cx="7387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PUBLICAN WON LYNDON JOHNSON'S SENATE SEAT WHEN HE BECAME VICE PRESID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1-06-22T13:18:03Z</dcterms:modified>
  <cp:revision>397</cp:revision>
  <dc:subject/>
  <dc:title>Slide 1</dc:title>
</cp:coreProperties>
</file>