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57B7F-8EA5-4944-AB87-520ED85FE3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CEF8D-C641-486B-8073-C8C3F97B7B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5DB05-DEBC-4C88-A352-05CAE17588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CCBE2-EF9C-4E99-8323-BC5A9B4254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790A2-2544-431A-8F9B-D237C9F0A9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458FB-CAE8-41AE-B344-398711004D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4AD87-D734-4409-8252-5A0B152736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AFC67-BDC8-42A5-B837-AC4BECB795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7FB48-FF1B-465E-A232-5181F3A698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C5B2B-174E-4AB7-92A8-8B665FEC82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C004A-9C0F-4D57-9A46-91BF994FB8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47D8B-0260-42A4-98D8-A9BF15F92D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2B4C6-201E-4387-9E5F-AC71CBA73A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4957C-9EAF-4146-AB63-1FEECD22DB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13347-EB70-4259-93DF-8772EB133D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07608-F781-4B41-B1C6-7E30E9DC26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A6784-B920-4901-9BF5-E2BE11F38A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D0A81-7548-4496-978D-43D4BFD380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E46DD-433E-4E1F-8B9D-5A69FB6A29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1FCC6-5D8A-4CE7-9A8B-B60D9E0647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99765-0690-4AC6-85B2-D21436DD58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77A66-58F5-467C-86EF-92628D92B2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04814-D7A7-495E-BD71-6541956F47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843120" y="761760"/>
            <a:ext cx="74577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9-2016 TV SHOW STARRED NATHAN FILLION AS A MYSTERY WRITER AND STANA KATIC AS A HOMICIDE DETECTIV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7200" y="48769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ADIO  SHA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942840" y="762120"/>
            <a:ext cx="72583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WORLD'S LARGEST ELECTRONICS CHAIN IN THE EARLY 1990'S, BUT DECLARED BANKRUPTCY IN 2015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53352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EMPLE  UNIVERS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630360" y="1066680"/>
            <a:ext cx="394164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CHOOL IS THIS THE LOGO F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5167440" y="514440"/>
            <a:ext cx="3519360" cy="4038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RISTINE  CHAP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1170000" y="762120"/>
            <a:ext cx="6804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THE NURSE ON THE ORIGINAL "STAR TREK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3"/>
          <p:cNvSpPr/>
          <p:nvPr/>
        </p:nvSpPr>
        <p:spPr>
          <a:xfrm>
            <a:off x="1752480" y="4876920"/>
            <a:ext cx="56390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TTAGE  CHEE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743040" y="762120"/>
            <a:ext cx="7657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R LUNCH, PRESIDENT NIXON USUALLY HAD A PINEAPPLE RING AND WHAT PRODUCT, FLOWN IN FROM KNUDSEN'S DAIRY IN L.A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NCHO  VIL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217440" y="762120"/>
            <a:ext cx="87091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72 SPAGHETTI WESTERN FILM STARRING TELLY SAVALAS HAD TAG LINE "THE ONLY MAN TO INVADE THE U.S.A.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CHAEL  C.  H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990720" y="762120"/>
            <a:ext cx="716256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TITLE ROLE IN "DEXT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3"/>
          <p:cNvSpPr/>
          <p:nvPr/>
        </p:nvSpPr>
        <p:spPr>
          <a:xfrm>
            <a:off x="1486080" y="4876920"/>
            <a:ext cx="6172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USES  OF  THE  HO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228600" y="990720"/>
            <a:ext cx="41338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IS LED ZEPPELIN ALBU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4952880" y="457200"/>
            <a:ext cx="3733920" cy="3733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905040" y="762120"/>
            <a:ext cx="7333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WORLD'S LARGEST ELECTRONICS CHAIN IN THE EARLY 1990'S, BUT DECLARED BANKRUPTCY IN 2015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  TO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804960" y="762120"/>
            <a:ext cx="753264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EPUBLICAN WON LYNDON JOHNSON'S SENATE SEAT WHEN HE BECAME VICE PRESID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3"/>
          <p:cNvSpPr/>
          <p:nvPr/>
        </p:nvSpPr>
        <p:spPr>
          <a:xfrm>
            <a:off x="19044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S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819000" y="762120"/>
            <a:ext cx="75060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9-2016 TV SHOW STARRED NATHAN FILLION AS A MYSTERY WRITER AND STANA KATIC AS A HOMICIDE DETECTIV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3"/>
          <p:cNvSpPr/>
          <p:nvPr/>
        </p:nvSpPr>
        <p:spPr>
          <a:xfrm>
            <a:off x="331920" y="4876920"/>
            <a:ext cx="8480160" cy="6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NAMES  OF 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80880" y="1066320"/>
            <a:ext cx="43293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CHOOL IS THIS THE LOGO F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5167440" y="514440"/>
            <a:ext cx="351936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957240" y="762120"/>
            <a:ext cx="7228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THE NURSE ON THE ORIGINAL "STAR TREK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703440" y="762120"/>
            <a:ext cx="77356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R LUNCH, PRESIDENT NIXON USUALLY HAD A PINEAPPLE RING AND WHAT PRODUCT, FLOWN IN FROM KNUDSEN'S DAIRY IN L.A.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223920" y="762120"/>
            <a:ext cx="86961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72 SPAGHETTI WESTERN FILM STARRING TELLY SAVALAS HAD TAG LINE "THE ONLY MAN TO INVADE THE U.S.A.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243080" y="761760"/>
            <a:ext cx="66578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TITLE ROLE IN "DEXTE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70920" y="1066680"/>
            <a:ext cx="427212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IS LED ZEPPELIN ALBU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4800600" y="457200"/>
            <a:ext cx="3886200" cy="38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878040" y="762120"/>
            <a:ext cx="73879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EPUBLICAN WON LYNDON JOHNSON'S SENATE SEAT WHEN HE BECAME VICE PRESIDE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8T16:34:55Z</dcterms:created>
  <dc:creator>Jennifer Budzinski</dc:creator>
  <dc:description/>
  <dc:language>en-US</dc:language>
  <cp:lastModifiedBy>Erich Friedman</cp:lastModifiedBy>
  <dcterms:modified xsi:type="dcterms:W3CDTF">2021-06-22T13:18:03Z</dcterms:modified>
  <cp:revision>397</cp:revision>
  <dc:subject/>
  <dc:title>Slide 1</dc:title>
</cp:coreProperties>
</file>