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5AE-3B8A-4F0C-81AA-4438A9AA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312-7083-40C3-A501-074A01762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ABB-AF9F-4C8F-B05E-345B2CE5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98F-9B9E-4B1F-957D-DCAF952B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FE0D-2F19-4298-A978-E48734F5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93B9-1648-48C2-882C-C18BD241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B198-83F0-427A-BD24-5BFA5191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9861-D265-4065-9F01-22368058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B0A-594F-481A-8B64-98FE6504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09D-7951-4C1E-A764-67A881FF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EB6-6C70-4048-81AD-051E1AFB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D66-E180-4766-8EF6-23E6DEC8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6861-FB17-4774-862A-968D7DED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AA9-0233-470D-9B25-A6F48C46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4E5-A4E6-4AC4-B1D3-DBA3D40D7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531-1702-4A7F-B615-922CB2D2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074-8B54-421B-BB0B-B0ADEB061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6D4-4373-4522-92A3-02C06596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ED9-D417-4468-AE64-8FBF00C4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08E-0DA4-472F-92AE-FE708EFD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8B5-10F8-4DF5-BF84-8FA10E93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923-25A3-43D2-9FA5-563E9542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F27-6422-4CB9-B18A-7A9D9255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SEY AFFLECK'S BROTHER, WHO HAS ALSO WON AN ACADE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14360" y="762120"/>
            <a:ext cx="6515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WAS ELVIS PRESLEY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NCY)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6480" y="762120"/>
            <a:ext cx="73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OF THE "GIRL DETECTIVE" FEATURED IN 175 BOOKS, 5 FILMS, AND 2 TV SH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1440" y="762120"/>
            <a:ext cx="806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THE WORD "FRE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1066680"/>
            <a:ext cx="487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EAGLE MUPPETS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93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9400" y="762120"/>
            <a:ext cx="758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WIN BROTHER OF ROMUL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CANINE CHARACTER'S NAME IN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(LEWIS)  (FRAZI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BOXERS WHO WERE  HEAVYWEIGHT CHAMPS 1937-1949 AND 1970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WAS ELVIS PRESLEY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(HA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8200" y="762120"/>
            <a:ext cx="7527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WON THE OSCAR FOR BEST ACTOR IN BOTH 1993 AND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3400" y="762120"/>
            <a:ext cx="7477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SEY AFFLECK'S BROTHER, WHO HAS ALSO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27200" y="4876920"/>
            <a:ext cx="588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UN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OF THE "GIRL DETECTIVE" FEATURED IN 175 BOOKS, 5 FILMS, AND 2 TV SH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0280" y="762120"/>
            <a:ext cx="808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THE WORD "FRE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4957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EAGLE MUPPETS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9396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2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WIN BROTHER OF ROMUL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CANINE CHARACTER'S NAME IN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BOXERS WHO WERE  HEAVYWEIGHT CHAMPS 1937-1949 AND 1970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WON THE OSCAR FOR BEST ACTOR  IN BOTH 1993 AND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15T16:55:01Z</dcterms:modified>
  <cp:revision>394</cp:revision>
  <dc:subject/>
  <dc:title>Slide 1</dc:title>
</cp:coreProperties>
</file>