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3B62-AC09-4AE4-8B95-F8305C38D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40D9-21C3-422F-BB72-C525295F3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6B6-6CDB-4F86-90D0-07B322583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C832-BDBE-4B31-97AF-318A3B15D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7410-1E10-4011-853A-A98D94D7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EDB-F33B-4610-B47B-7B56624CF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6444-8D4D-49DD-9F5D-3B7573D8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B22-C2F5-42FB-AE9D-D293FCBD8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C2BE-299C-4639-ADCF-E1298C12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26C0-945F-4D8F-8826-8DC0C0270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EBA-0105-4E9E-AE3E-1DD71613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E325-177D-44D8-AA2A-3F0FD04F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DD09-6F3A-4FFE-AD83-23BD178E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EA57-457B-4C5A-AE09-103C2EB69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C564-F0A1-43F4-884D-C4E6C26E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E31-23A3-48E7-8C57-CC4DE9093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D3AF-8917-4B68-8211-EC986F12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A46B-B8DB-46B9-86A6-AF83468D0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61D-C63E-4CE1-ABDE-9E3040571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A79A-32F9-4875-936B-8DCA46C8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728-1229-4A22-8AAA-99E6E6C24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6AEB-C3B0-4073-8FDC-FC01FE2C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0E9-8EAD-4DFB-8F37-E05FA460A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SEY AFFLECK'S BROTHER, WHO HAS ALSO WON AN ACADE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14360" y="762120"/>
            <a:ext cx="6515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WAS ELVIS PRESLEY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NCY)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6480" y="762120"/>
            <a:ext cx="733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OF THE "GIRL DETECTIVE" FEATURED IN 175 BOOKS, 5 FILMS, AND 2 TV SH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1440" y="762120"/>
            <a:ext cx="806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THE WORD "FRE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1066680"/>
            <a:ext cx="487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EAGLE MUPPETS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93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9400" y="762120"/>
            <a:ext cx="758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WIN BROTHER OF ROMUL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CANINE CHARACTER'S NAME IN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(LEWIS)  (FRAZI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BOXERS WHO WERE  HEAVYWEIGHT CHAMPS 1937-1949 AND 1970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WAS ELVIS PRESLEY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(HAN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8200" y="762120"/>
            <a:ext cx="7527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WON THE OSCAR FOR BEST ACTOR IN BOTH 1993 AND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3400" y="762120"/>
            <a:ext cx="7477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SEY AFFLECK'S BROTHER, WHO HAS ALSO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27200" y="4876920"/>
            <a:ext cx="588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UN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OF THE "GIRL DETECTIVE" FEATURED IN 175 BOOKS, 5 FILMS, AND 2 TV SH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0280" y="762120"/>
            <a:ext cx="808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THE WORD "FRE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49579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EAGLE MUPPETS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791320" y="609480"/>
            <a:ext cx="279396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2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WIN BROTHER OF ROMUL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N CANINE CHARACTER'S NAME IN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BOXERS WHO WERE  HEAVYWEIGHT CHAMPS 1937-1949 AND 1970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WON THE OSCAR FOR BEST ACTOR  IN BOTH 1993 AND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15T16:55:01Z</dcterms:modified>
  <cp:revision>394</cp:revision>
  <dc:subject/>
  <dc:title>Slide 1</dc:title>
</cp:coreProperties>
</file>