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1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074E-2F85-4D47-AE9F-F2C808C28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9B4-9216-4EF8-B924-259EF586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1DA-DAF0-4E59-A727-23E4AF587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C5B7-13C8-449B-808B-EF8AE2C7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145-B194-4435-8935-94A2FA86E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7B68-661E-4A4A-80EA-0B6241EA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65DF-430F-47C4-A7C8-DE200F0E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F221-2420-4467-94FA-4E26AD26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7BB6-1408-419E-AE63-111FBED8B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3F80-E127-49C4-996B-7F47E0149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72ED-BB04-40F1-BF4E-36BF680F8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26D2-0EF4-456A-8DBC-0B1E7F4D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38BF-0C2B-44F5-8736-8CF50DB09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81E6-7E55-4494-8991-DAF79B82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CA8D-6C2B-4008-8DA9-BBD13B782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32A3-D682-4B9A-9CE1-17C278C1E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FDFA-4444-44F3-BACB-7A1C89598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56E6-F3F8-4E5B-8ECC-922A087EA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66C9-38BE-4442-B608-AC2EDE8CF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CA0A-84A8-46BC-82CE-1DA9FCCA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A89E-27F3-4739-8FFC-FAB690A58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9DB8-5257-432B-A33C-EF14C4CA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8D98-F161-4DE9-B93F-99B9686AD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A6A8-6A77-43FF-8AD8-02022AF82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10.gif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50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THE SIZE OF CONNECTICUT THAT USED TO BE PART OF YUGOSLAVIA IS JUST  NORTHEAST OF THE ANSWER  TO THE PREVIOUS QUES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837720"/>
            <a:ext cx="4556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FRICAN COUNTRY IS PICTURED TO THE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3195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GY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NAME HAS NO VOWELS IN ITS FIRST 7 LETTERS EXCEPT FOR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CAPITAL THAT THEY WOULD WRITE AS HÀ NỘ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OVER 1.4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6320" y="762120"/>
            <a:ext cx="77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SIAN COUNTRY IN N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5800" y="762120"/>
            <a:ext cx="8310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U.N. BUILDING IS IN NEW YORK CITY.  IN WHAT TRADITIONALLY NEUTRAL COUNTR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N. BUILDING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4120" y="762120"/>
            <a:ext cx="8375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RAKESH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00040" y="990720"/>
            <a:ext cx="63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 ALPHABETICAL LIST OF COUNTRIES, AFGHANISTAN COME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WHAT COME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NEG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62000" y="762120"/>
            <a:ext cx="8820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THE SIZE OF CONNECTICUT THAT USED TO BE PART OF YUGOSLAVIA IS JUST  NORTHEAST OF THE ANSWER 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4953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NI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69960" y="762120"/>
            <a:ext cx="413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FRICAN COUNTRY IS PICTURED TO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5486400" y="380880"/>
            <a:ext cx="3319560" cy="502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RED  BACKGR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343080" y="752400"/>
            <a:ext cx="84582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374760" y="2602080"/>
            <a:ext cx="1616040" cy="1074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2201760" y="2610000"/>
            <a:ext cx="1590840" cy="1066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97440" y="2602080"/>
            <a:ext cx="159228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5792760" y="2602080"/>
            <a:ext cx="159228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5"/>
          <a:stretch/>
        </p:blipFill>
        <p:spPr>
          <a:xfrm>
            <a:off x="584280" y="3860640"/>
            <a:ext cx="1617480" cy="108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6"/>
          <a:stretch/>
        </p:blipFill>
        <p:spPr>
          <a:xfrm>
            <a:off x="7594560" y="2610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"/>
          <p:cNvPicPr/>
          <p:nvPr/>
        </p:nvPicPr>
        <p:blipFill>
          <a:blip r:embed="rId7"/>
          <a:stretch/>
        </p:blipFill>
        <p:spPr>
          <a:xfrm>
            <a:off x="2401920" y="3857760"/>
            <a:ext cx="1514520" cy="1082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"/>
          <p:cNvPicPr/>
          <p:nvPr/>
        </p:nvPicPr>
        <p:blipFill>
          <a:blip r:embed="rId8"/>
          <a:stretch/>
        </p:blipFill>
        <p:spPr>
          <a:xfrm>
            <a:off x="4113360" y="3852720"/>
            <a:ext cx="2199960" cy="1100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2" descr=""/>
          <p:cNvPicPr/>
          <p:nvPr/>
        </p:nvPicPr>
        <p:blipFill>
          <a:blip r:embed="rId9"/>
          <a:stretch/>
        </p:blipFill>
        <p:spPr>
          <a:xfrm>
            <a:off x="6519960" y="3843360"/>
            <a:ext cx="1861920" cy="108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NAME HAS NO VOWELS IN ITS FIRST 7 LETTERS EXCEPT FOR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34920" y="761760"/>
            <a:ext cx="727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CAPITAL THAT THEY WOULD WRITE AS HÀ NỘ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5720" y="762120"/>
            <a:ext cx="743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OVER 1.4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SIAN COUNTRY IN N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U.N. BUILDING IS IN NEW YORK CITY.  IN WHAT TRADITIONALLY NEUTRAL COUNTR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N. BUILDING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RAKESH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 ALPHABETICAL LIST OF COUNTRIES, AFGHANISTAN COME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WHAT COME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0-24T13:13:37Z</dcterms:modified>
  <cp:revision>535</cp:revision>
  <dc:subject/>
  <dc:title>Slide 1</dc:title>
</cp:coreProperties>
</file>