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11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0074-4C2D-4527-94F7-2BF793DC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9E3B-D3E3-4BED-8939-540A0A1D6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5D5-BDEC-45C0-9A8A-B4D87C96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A6B-15D8-46C2-ACF9-6E8598E21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4249-DFB3-4D86-ACF1-0B56E5277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C6F-B8AE-4BF2-B377-8DA7465C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4C79-C056-4D30-A341-687B9C61E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015A-2188-4D6C-B1A1-3D4E66F6F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4F7E-F12F-40AC-98C8-7D5FD43A3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5ED2-F5C6-418F-827E-F57F38C15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B90A-6A22-4230-9891-88B111429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E35-D103-4E97-905D-F82A684B1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25CD-C500-4366-9594-FADCF49A7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4362-61D2-41E0-84C3-39D3960EC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C26F-216B-4CD0-BC85-C2B1E184F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F10E-1D85-4EAB-9CA0-7AA957DDA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D805-7A76-43DE-9DB8-D6FDF0C0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5699-B343-4DEE-989D-1FF3EED07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5C42-40D0-4C24-96D7-1759C9CAB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5A3F-C046-44A4-A86F-C99A3918A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D69C-DB99-4428-B287-69B86756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DA81-BA01-4D3A-9512-F24C2423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2654-79A8-4531-A2B5-EC4D52707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A774-07AE-46E2-8914-3B097236E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6840" y="762120"/>
            <a:ext cx="8950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THE SIZE OF CONNECTICUT THAT USED TO BE PART OF YUGOSLAVIA IS JUST  NORTHEAST OF THE ANSWER  TO THE PREVIOUS QUES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4556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FRICAN COUNTRY IS PICTURED TO THE 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33195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RGY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NAME HAS NO VOWELS IN ITS FIRST 7 LETTERS EXCEPT FOR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N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6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CAPITAL THAT THEY WOULD WRITE AS HÀ NỘ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9960" y="762120"/>
            <a:ext cx="834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OVER 1.4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6320" y="762120"/>
            <a:ext cx="773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SIAN COUNTRY IN N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5800" y="762120"/>
            <a:ext cx="8310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U.N. BUILDING IS IN NEW YORK CITY.  IN WHAT TRADITIONALLY NEUTRAL COUNTR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N. BUILDING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OC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4120" y="762120"/>
            <a:ext cx="8375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RAKESH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00040" y="990720"/>
            <a:ext cx="63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8800" y="762120"/>
            <a:ext cx="836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 ALPHABETICAL LIST OF COUNTRIES, AFGHANISTAN COME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WHAT COME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NEG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62000" y="762120"/>
            <a:ext cx="8820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THE SIZE OF CONNECTICUT THAT USED TO BE PART OF YUGOSLAVIA IS JUST  NORTHEAST OF THE ANSWER 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4953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NI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69960" y="762120"/>
            <a:ext cx="413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FRICAN COUNTRY IS PICTURED TO THE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3319560" cy="502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RED  BACKGR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43080" y="752400"/>
            <a:ext cx="84582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374760" y="2602080"/>
            <a:ext cx="1616040" cy="107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2201760" y="2610000"/>
            <a:ext cx="1590840" cy="1066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97440" y="2602080"/>
            <a:ext cx="159228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5792760" y="2602080"/>
            <a:ext cx="159228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5"/>
          <a:stretch/>
        </p:blipFill>
        <p:spPr>
          <a:xfrm>
            <a:off x="584280" y="3860640"/>
            <a:ext cx="1617480" cy="108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6"/>
          <a:stretch/>
        </p:blipFill>
        <p:spPr>
          <a:xfrm>
            <a:off x="7594560" y="2610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"/>
          <p:cNvPicPr/>
          <p:nvPr/>
        </p:nvPicPr>
        <p:blipFill>
          <a:blip r:embed="rId7"/>
          <a:stretch/>
        </p:blipFill>
        <p:spPr>
          <a:xfrm>
            <a:off x="2401920" y="3857760"/>
            <a:ext cx="1514520" cy="1082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"/>
          <p:cNvPicPr/>
          <p:nvPr/>
        </p:nvPicPr>
        <p:blipFill>
          <a:blip r:embed="rId8"/>
          <a:stretch/>
        </p:blipFill>
        <p:spPr>
          <a:xfrm>
            <a:off x="4113360" y="3852720"/>
            <a:ext cx="2199960" cy="11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"/>
          <p:cNvPicPr/>
          <p:nvPr/>
        </p:nvPicPr>
        <p:blipFill>
          <a:blip r:embed="rId9"/>
          <a:stretch/>
        </p:blipFill>
        <p:spPr>
          <a:xfrm>
            <a:off x="6519960" y="3843360"/>
            <a:ext cx="186192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NAME HAS NO VOWELS IN ITS FIRST 7 LETTERS EXCEPT FOR "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34920" y="761760"/>
            <a:ext cx="727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CAPITAL THAT THEY WOULD WRITE AS HÀ NỘ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55720" y="762120"/>
            <a:ext cx="743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OVER 1.4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6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SIAN COUNTRY IN N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U.N. BUILDING IS IN NEW YORK CITY.  IN WHAT TRADITIONALLY NEUTRAL COUNTR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N. BUILDING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RAKESH IS LOCATE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 ALPHABETICAL LIST OF COUNTRIES, AFGHANISTAN COME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WHAT COME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0-24T13:13:37Z</dcterms:modified>
  <cp:revision>535</cp:revision>
  <dc:subject/>
  <dc:title>Slide 1</dc:title>
</cp:coreProperties>
</file>