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FB13-F05C-4A5F-8B3C-8D3F9BDFB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D0AA-6227-4DAC-B3DE-06431A3BE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B386-6AC3-450C-BD64-8AC11BD49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3C03-A02E-491B-91E1-7D4B2BECF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C16E-ECF6-4482-8B0F-C4155D448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4315-E0D6-41DE-878B-1784CE7C4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07CA-BC93-47E7-8F99-BF8E041C3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DD7B-174F-44FF-827B-9AE2AEEF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F72D-3BFD-4FDA-8DBC-571FA961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837E-6AD8-46DA-856E-4709BE63A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6F70-A41F-472C-B4D4-E4E4DFC24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58DD-FB46-49C5-B688-47762130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7F0B-796F-4876-8DD8-C6C24CA99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FEA6-0CCE-40A5-A521-BA31A701F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B88A-D0AB-4853-B9FF-00CE7837F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9823-6DAB-49B6-B99B-630A28960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3A1A-6696-4916-A7E6-8E2F1C6EA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A4D4-5290-490E-AFDF-E57530B90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F859-7C5D-46B5-9F87-DEBFBDFB0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A9A5-9F76-490B-9AE2-BA54E51A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0194-B54B-451E-9577-10DE470E9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EE23-01BC-41CB-8341-36881C50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E768-9611-40F6-BA7E-C7C6063ED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3200" y="761760"/>
            <a:ext cx="887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 PACIFIST, PABLO PICASSO NAMED HI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ILD "PALOMA", THE SPANISH WORD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IFTH  DIM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33560" y="762120"/>
            <a:ext cx="7075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UP, UP AND AWAY", "STONED SOUL PICNIC", AND "NEVER MY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&amp;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30200" y="762120"/>
            <a:ext cx="8332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, BESIDES WHITE AND SILVER, ARE THE COLORS OF THE PHILADELPHIA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RTHEST PLANET FROM THE SUN IN OUR SOLAR SYSTEM THAT IS INSIDE THE ASTEROID BE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44440" y="762120"/>
            <a:ext cx="865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S "WHEN LILACS LAST IN THE DOORYARD BLOOM'D" AND "O CAPTAIN! MY CAPTAIN!" ABOUT THE DEATH OF ABRAHAM LINCOL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M  THE  HALLS  OF  MONTEZU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2360" y="762120"/>
            <a:ext cx="809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FIVE WORDS OF THE "MARINES' HYMN", THE OLDEST SONG OF THE U.S. ARMED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OD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52600" y="762120"/>
            <a:ext cx="803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PPOSEDLY RODE NAKED THROUGH COVENTRY IN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PROTEST THE EXCESSIVE TAXATION OF HER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SUNG  GALA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11400" y="762120"/>
            <a:ext cx="672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COMPETITOR TO APPLE'S I-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44640" y="762120"/>
            <a:ext cx="7254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UP, UP AND AWAY", "STONED SOUL PICNIC", AND "NEVER MY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S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98520" y="762120"/>
            <a:ext cx="8345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MALL TOURIST TOWN    IS ONLY 10 MILES EAST OF HARRISBURG, PEN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76040" y="762120"/>
            <a:ext cx="8790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 PACIFIST, PABLO PICASSO NAMED HI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ILD "PALOMA", THE SPANISH WORD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35200" y="4419720"/>
            <a:ext cx="5672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CHOCOLATE  B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, BESIDES WHITE AND SILVER, ARE THE COLORS OF THE PHILADELPHIA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60520" y="762120"/>
            <a:ext cx="8022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RTHEST PLANET FROM THE SUN IN OUR SOLAR SYSTEM THAT IS INSIDE THE ASTEROID BE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39760" y="762120"/>
            <a:ext cx="866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S "WHEN LILACS LAST IN THE DOORYARD BLOOM'D" AND "O CAPTAIN! MY CAPTAIN!" ABOUT THE DEATH OF ABRAHAM LINCOL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FIVE WORDS OF THE "MARINES' HYMN", THE OLDEST SONG OF THE U.S. ARMED FOR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PPOSEDLY RODE NAKED THROUGH COVENTRY IN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PROTEST THE EXCESSIVE TAXATION OF HER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7080" y="761760"/>
            <a:ext cx="6548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COMPETITOR TO APPLE'S I-PH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MALL TOURIST TOWN     IS ONLY 10 MILES EAST OF HARRISBURG, PENNSYLVA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4-26T16:42:16Z</dcterms:modified>
  <cp:revision>513</cp:revision>
  <dc:subject/>
  <dc:title>Slide 1</dc:title>
</cp:coreProperties>
</file>