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B718-C573-4175-8581-0EBB8BDD7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1CCB-78B4-4A89-ABD0-078D197C1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111F-03C5-420D-90DD-AFB346782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7719-C4C3-4E5C-8998-A3EDAFBAB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92ED-829A-43FE-A23F-08E9A867A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480F-CCFD-4F52-AFBB-063CDABA7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83AC-DE83-43A4-9149-5503332EF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7D44-FE78-4152-A4F2-06B1C362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7199-0E67-446E-A16A-3C5603C5E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F210-5B03-42BB-96B9-260C6FC4F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19DB-220B-456B-82D7-84EBDF027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0A00-4940-4AAB-B1A1-A650002DD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C4F4-3EA2-4FE8-B881-DC7E3CF24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A27F-6081-4EDE-B9F4-555D2CD1A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7F5E-40D8-4BC8-846D-9305A7EFB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46D2-0FB5-4C42-B261-2986E4289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875F-BC24-454C-8A8B-B299D04CC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8A0E-52CA-453E-B1BE-46C89D881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D5EC-12D7-4BCF-911D-3AB9E94C2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DCA2-F40E-43A9-B06F-75B6CED92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7809-FE22-418C-8016-611D3FEC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94BA-BEB5-4B67-A217-94E22984A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8B2D-555D-475D-B445-8575674E8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3200" y="761760"/>
            <a:ext cx="887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 PACIFIST, PABLO PICASSO NAMED HI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ILD "PALOMA", THE SPANISH WORD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IFTH  DIM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33560" y="762120"/>
            <a:ext cx="7075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UP, UP AND AWAY", "STONED SOUL PICNIC", AND "NEVER MY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&amp;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30200" y="762120"/>
            <a:ext cx="8332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, BESIDES WHITE AND SILVER, ARE THE COLORS OF THE PHILADELPHIA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RTHEST PLANET FROM THE SUN IN OUR SOLAR SYSTEM THAT IS INSIDE THE ASTEROID BE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WHI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44440" y="762120"/>
            <a:ext cx="865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S "WHEN LILACS LAST IN THE DOORYARD BLOOM'D" AND "O CAPTAIN! MY CAPTAIN!" ABOUT THE DEATH OF ABRAHAM LINCOL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M  THE  HALLS  OF  MONTEZ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2360" y="762120"/>
            <a:ext cx="809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FIVE WORDS OF THE "MARINES' HYMN", THE OLDEST SONG OF THE U.S. ARMED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OD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52600" y="762120"/>
            <a:ext cx="803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PPOSEDLY RODE NAKED THROUGH COVENTRY IN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PROTEST THE EXCESSIVE TAXATION OF HER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SUNG  GALA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11400" y="762120"/>
            <a:ext cx="672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COMPETITOR TO APPLE'S I-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44640" y="762120"/>
            <a:ext cx="725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UP, UP AND AWAY", "STONED SOUL PICNIC", AND "NEVER MY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S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98520" y="762120"/>
            <a:ext cx="8345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MALL TOURIST TOWN    IS ONLY 10 MILES EAST OF HARRISBURG, PEN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76040" y="762120"/>
            <a:ext cx="8790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 PACIFIST, PABLO PICASSO NAMED HI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ILD "PALOMA", THE SPANISH WORD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35200" y="4419720"/>
            <a:ext cx="5672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CHOCOLATE  B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, BESIDES WHITE AND SILVER, ARE THE COLORS OF THE PHILADELPHIA EA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60520" y="762120"/>
            <a:ext cx="8022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RTHEST PLANET FROM THE SUN IN OUR SOLAR SYSTEM THAT IS INSIDE THE ASTEROID BE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39760" y="762120"/>
            <a:ext cx="866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S "WHEN LILACS LAST IN THE DOORYARD BLOOM'D" AND "O CAPTAIN! MY CAPTAIN!" ABOUT THE DEATH OF ABRAHAM LINCOL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FIVE WORDS OF THE "MARINES' HYMN", THE OLDEST SONG OF THE U.S. ARMED FOR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PPOSEDLY RODE NAKED THROUGH COVENTRY IN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PROTEST THE EXCESSIVE TAXATION OF HER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97080" y="761760"/>
            <a:ext cx="6548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COMPETITOR TO APPLE'S I-PH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MALL TOURIST TOWN     IS ONLY 10 MILES EAST OF HARRISBURG, PENNSYLVA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04-26T16:42:16Z</dcterms:modified>
  <cp:revision>513</cp:revision>
  <dc:subject/>
  <dc:title>Slide 1</dc:title>
</cp:coreProperties>
</file>