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C716-F661-4119-91B1-3B9C145F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1A7-EDC7-4CDE-8B82-B799364C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B8C-99D5-48ED-982F-111D17B4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23E-3EAC-4B1A-8AC3-00FBC3A7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D46-D6E3-4CED-A127-4A26F572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4CB-94F8-4B67-920C-53C3817A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F19-E355-44B1-824D-D8DC56A2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52C-2451-490D-A27D-AA965EB9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B9D-D7E3-4E76-B293-B0B26619B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1F99-B55B-48C6-8AC4-085FA201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57B1-2CA2-42A3-94B3-3718B54D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41D-7DC5-4351-BA7F-56B85D29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7994-1CEE-4BDB-98C2-9B04E342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5960-E9D7-411D-8561-82ADEB93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B740-7079-4246-9CC6-0A22660C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D29-5BBD-4118-8F32-9794A19BD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0AB-B03C-46D3-B452-C96A197B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669-1ADF-4EE6-BE48-4C4414C7D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FEF-2A10-490F-BFDB-6B892A52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BCAA-B4F4-430C-8A95-25E32E9B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4C69-B7B9-41CE-B201-BA0AF37C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9B72-B747-4075-B2D0-AF8ECE02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27F-AFA7-470C-A457-26FD2E7F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708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W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4:52:28Z</dcterms:created>
  <dc:creator>Jennifer Budzinski</dc:creator>
  <dc:description/>
  <dc:language>en-US</dc:language>
  <cp:lastModifiedBy>Erich Friedman</cp:lastModifiedBy>
  <dcterms:modified xsi:type="dcterms:W3CDTF">2020-08-24T22:46:04Z</dcterms:modified>
  <cp:revision>404</cp:revision>
  <dc:subject/>
  <dc:title>Slide 1</dc:title>
</cp:coreProperties>
</file>