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8BA-0BD8-4603-8759-F33AAFEA8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2774-84AA-465B-AE8A-85B908EC0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982-1F2D-4948-BD17-560D976A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D1C4-572B-43B3-B229-5C711D322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05E5-78AE-4861-A252-335646F9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9F86-A9EF-4ACE-92C0-D7870176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6DA6-DB4B-40D7-B1A1-806E1B57B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DCEE-ED64-4E16-8C47-4DA6CB614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9468-F24A-40FC-92ED-6895D2B6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D31F-C04B-4B0F-9EC1-169A8224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EE3A-D43A-4800-9048-9867FA4DB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6F36-1D84-45ED-B4FF-945751EE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BDA8-BDBD-471B-8569-9015AB1E5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D8CD-4C76-4D45-B945-EF089118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A919-E0E0-4362-AE15-19D3E559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3CF-88C9-443E-9B16-1AE852A2B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80FC-F937-4B98-890F-1A68D02B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03C0-F5CC-4392-983B-BF0629815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F36E-0291-4C43-9F5B-4ACEE9BD3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36AD-26CE-4C19-BAB0-373E6CC7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D36F-D9C2-43C2-9458-A94852F5C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2097-359B-4AB7-80C2-6F04D3FDC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E4A9-0D4F-47B1-A6C2-42E83C8B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A TEE SHOT IS ALSO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A BATTED BALL THAT IS NOT FOUL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  E.)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OMMANDER OF THE CONFEDERAT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57080"/>
            <a:ext cx="74678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APE OF THE MOST RECOGNIZABLE MONUMENT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SHARK WAS DEPICTED IN "JA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ENGLISH SENTENCES CONTAINING THE WORD "NEITHER" ALSO CONTAIN WHAT OTHER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BOXING, WRESTLING, AND MIXED MARTIAL 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A BATTED BALL THAT IS NOT FOUL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DNA IS SHARED BY TWO SIBL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A TEE SHOT IS ALSO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WA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OMMANDER OF THE CONFEDERATE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APE OF THE MOST RECOGNIZABLE MONUMENT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SHARK WAS DEPICTED IN "JA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ENGLISH SENTENCES CONTAINING THE WORD "NEITHER" ALSO CONTAIN WHAT OTHER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BOXING, WRESTLING, AND MIXED MARTIAL 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DNA IS SHARED BY TWO SIBL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4:52:28Z</dcterms:created>
  <dc:creator>Jennifer Budzinski</dc:creator>
  <dc:description/>
  <dc:language>en-US</dc:language>
  <cp:lastModifiedBy>Erich Friedman</cp:lastModifiedBy>
  <dcterms:modified xsi:type="dcterms:W3CDTF">2020-08-24T22:46:04Z</dcterms:modified>
  <cp:revision>404</cp:revision>
  <dc:subject/>
  <dc:title>Slide 1</dc:title>
</cp:coreProperties>
</file>