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76BF-513D-44BF-A38B-3B9E5AE48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71B2-D65F-4C8B-BA50-7FFDF8F36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5184-189B-4338-9762-3123CC44B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B998-0953-416F-AD3B-BE1C5516F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6A11-F698-4EC5-8B83-2C8C218E6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964F-C90D-463E-B10C-776DBCB32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D4B1-F4F6-4BA7-92A1-D5F03427E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E395-7EE6-45C6-BECB-D83ABB76B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B8FC-C2B9-4260-BA1F-72E504508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5716-9692-49F5-9618-4E3DCCD1C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3749-D2D7-4C5A-9405-87A57C5D6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FD1F-E931-42F4-9877-71170E6BB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C226-CFE0-4A89-AC5B-497E0FF31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C812-FE66-48F4-AD76-400115AC3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C3F1-BA73-4CB4-82AE-D4F347008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34DD-542F-49A4-8190-6B494ABF0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455B-3388-4804-8789-41A98FBAE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D749-6295-411C-813C-C5B911F5A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541F-E434-436A-ADCC-7847F1511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65EB-0566-424F-B0AF-5BCA43BE2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4022-10B9-45D1-89AF-8233952A5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A8F0-5C64-4053-9433-B0B7B64AD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E864-3377-4BA8-9AE8-19F017EE0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OLF, A TEE SHOT IS ALSO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A BATTED BALL THAT IS NOT FOUL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ROBERT  E.)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COMMANDER OF THE CONFEDERATE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57080"/>
            <a:ext cx="74678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APE OF THE MOST RECOGNIZABLE MONUMENT IN ST. LOU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AT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SHARK WAS DEPICTED IN "JAW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ENGLISH SENTENCES CONTAINING THE WORD "NEITHER" ALSO CONTAIN WHAT OTHER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S AS A TROPHY IN BOXING, WRESTLING, AND MIXED MARTIAL 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TRUMAN'S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A BATTED BALL THAT IS NOT FOUL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DNA IS SHARED BY TWO SIBL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OLF, A TEE SHOT IS ALSO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28880" y="434340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WA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COMMANDER OF THE CONFEDERATE ARM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APE OF THE MOST RECOGNIZABLE MONUMENT IN ST. LOU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SHARK WAS DEPICTED IN "JAW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ENGLISH SENTENCES CONTAINING THE WORD "NEITHER" ALSO CONTAIN WHAT OTHER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S AS A TROPHY IN BOXING, WRESTLING, AND MIXED MARTIAL 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TRUMAN'S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DNA IS SHARED BY TWO SIBL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14:52:28Z</dcterms:created>
  <dc:creator>Jennifer Budzinski</dc:creator>
  <dc:description/>
  <dc:language>en-US</dc:language>
  <cp:lastModifiedBy>Erich Friedman</cp:lastModifiedBy>
  <dcterms:modified xsi:type="dcterms:W3CDTF">2020-08-24T22:46:04Z</dcterms:modified>
  <cp:revision>404</cp:revision>
  <dc:subject/>
  <dc:title>Slide 1</dc:title>
</cp:coreProperties>
</file>