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DC00-042E-462C-9C04-BD5EBDEF1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A049-7BDD-46CE-89BF-1A24F03BD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7BF9-8DA3-4C28-9964-673C4C67C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4EE0-CD3D-4447-9CA1-454F632A6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7B55-7A3B-41E2-8F82-1DCBF9C6D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49F9-068D-4D11-A7EB-A6C137A94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BF5F-0BB6-4252-9A5F-916C93937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4B56-3D68-4A07-841D-6D7677D19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2EA5-D5C1-4C53-917D-EDB28C9D6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DC46-4102-4A92-B523-475F9D871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7B33-5DCD-4029-9100-8E1793C2E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3643-5EE8-49D7-BA93-0BCB1A2D6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183B-6CA3-4045-9C29-071FEFF67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F3E8-F834-407B-BCB4-6C0D2D8E0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A51D-64B6-41D3-892C-06058F49E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EEFD-052A-44F7-A9A6-3B64A4F52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6C22-BE68-40C7-B16A-2EF9D1E03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1B50-2AD8-4113-8247-40948B48D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16D6-F3DA-4611-B76F-6EEA84A23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88DC-D0B6-47A6-9B90-83F6A8806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8E0B-7A7A-4626-B5E0-00768DA1D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CA3D-2484-4E76-99C4-8A45D837C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ADE6-63C9-4969-AF77-F78DF7A12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6600" y="761760"/>
            <a:ext cx="901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OLO SONG DOES JOHN LENNON REJECT MAGIC, I CHING, THE BIBLE, THE KENNEDYS, TAROT, JESUS, BUDDHA, YOGA, ELVIS, AND THE BEAT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01760" y="762120"/>
            <a:ext cx="8339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AEL JACKSON SONG WAS PARODIED BY WEIRD AL YANKOVIC'S SONG "F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.O.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28680" y="762120"/>
            <a:ext cx="848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DID ABBA PERFORM ON "SATURDAY NIGHT LIVE" SET ON A SINKING BO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6676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04920" y="762120"/>
            <a:ext cx="8551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CH BOYS SONG STARTED THE "HOT ROD MUSIC" CRAZE OF THE 196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93680" y="762120"/>
            <a:ext cx="875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JOHN MAYER SONG IS HIS HIGHEST-CHARTING SINGLE, AND WON HIM A GRAMMY AWARD FOR BEST MALE POP VOCAL PERFORM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90440" y="49528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100160" y="762120"/>
            <a:ext cx="6943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7 STEELY DAN SONG IS THE TITLE SONG OFF THEIR ALBUM WITH  A PALINDROMIC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63680" y="762120"/>
            <a:ext cx="8181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PERT HOLMES HAD TWO TOP-10 HIT SONGS: "ESCAPE         (THE PIÑA COLADA SONG)" AND WHAT OTHER SONG, ALSO ABOUT INFIDE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00160" y="762120"/>
            <a:ext cx="694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EDWIN STARR, WHICH HAS THE SAME NAME AS A FUNK GROUP WITH A #1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762120"/>
            <a:ext cx="835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AEL JACKSON SONG WAS PARODIED BY WEIRD AL YANKOVIC'S SONG "F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4400" y="7621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CKSON 5 SONG IS THE FIRST #1 SONG WHEN LISTED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7480" y="762120"/>
            <a:ext cx="8967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OLO SONG DOES JOHN LENNON REJECT MAGIC, I CHING, THE BIBLE, THE KENNEDYS, TAROT, JESUS, BUDDHA, YOGA, ELVIS, AND THE BEA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630440" y="4952880"/>
            <a:ext cx="588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E  3–LETTER 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16080" y="761760"/>
            <a:ext cx="851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DID ABBA PERFORM ON "SATURDAY NIGHT LIVE" SET ON A SINKING BO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57120" y="762120"/>
            <a:ext cx="842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CH BOYS SONG STARTED THE "HOT ROD MUSIC" CRAZE OF THE 196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7320" y="762120"/>
            <a:ext cx="882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JOHN MAYER SONG IS HIS HIGHEST-CHARTING SINGLE, AND WON HIM A GRAMMY AWARD FOR BEST MALE POP VOCAL PERFORM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85760" y="761760"/>
            <a:ext cx="6972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7 STEELY DAN SONG IS THE TITLE SONG OFF THEIR ALBUM WITH A PALINDROMIC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PERT HOLMES HAD TWO TOP-10 HIT SONGS: "ESCAPE         (THE PIÑA COLADA SONG)" AND WHAT OTHER SONG, ALSO ABOUT INFIDEL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44440" y="761760"/>
            <a:ext cx="6855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EDWIN STARR, WHICH HAS THE SAME NAME AS A FUNK GROUP WITH A #1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4520" y="762120"/>
            <a:ext cx="791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CKSON 5 SONG IS THE FIRST #1 SONG WHEN LISTED ALPHABE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1-10-24T13:17:06Z</dcterms:modified>
  <cp:revision>520</cp:revision>
  <dc:subject/>
  <dc:title>Slide 1</dc:title>
</cp:coreProperties>
</file>