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4769-E03E-4DD0-B491-CB3D6B18B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F710-58FB-481D-BD00-6CEC4F077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CE7F-2652-469B-BEE7-59D66DE2B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8542-7405-4554-BF75-F2AD3F091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ABF5-B7E3-469E-A956-FE9D4AB55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7EE8-EB0F-45DA-AC66-EE3E3522A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D09B-0E9E-4172-8F17-82D9C17E7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FBFC-5130-46F5-B4D1-A4B61EBD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DF71-652F-43A0-9F12-60F650C0E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9FD8-8C04-4000-A6B9-F3BC4986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AA35-6CAC-4177-89AA-2F235510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B790-8D9D-43C9-AFE7-B1765E99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DC0B-4B0D-46FB-8DD9-683F40AAB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71B1-4051-46C3-B79D-D50F12304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98D0-D9F0-4487-B500-D9A1FE6C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DCD5-C200-44E6-8FB5-15BEFD8C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000-00A7-4D51-882D-9E1FC5787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02D8-F07C-4321-8D5A-8DC95A8BE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3909-C05E-47B1-B0B2-62D22A7F5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FE2F-7F91-49D0-A6D9-CEF4EBB62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A157-8DEE-476F-BE04-20564AB0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59B6-1D2A-49C4-9FA5-645A1151F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F97C-487A-49CE-AA31-3C377EEBA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600" y="761760"/>
            <a:ext cx="901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LO SONG DOES JOHN LENNON REJECT MAGIC, I CHING, THE BIBLE, THE KENNEDYS, TAROT, JESUS, BUDDHA, YOGA, ELVIS, AND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0176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SONG WAS PARODIED BY WEIRD AL YANKOVIC'S SONG "F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O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8680" y="762120"/>
            <a:ext cx="848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ABBA PERFORM ON "SATURDAY NIGHT LIVE" SET ON A SINKING BO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762120"/>
            <a:ext cx="8551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STARTED THE "HOT ROD MUSIC" CRAZE OF THE 19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93680" y="762120"/>
            <a:ext cx="875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JOHN MAYER SONG IS HIS HIGHEST-CHARTING SINGLE, AND WON HIM A GRAMMY AWARD FOR BEST MALE POP VOCAL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00160" y="762120"/>
            <a:ext cx="694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STEELY DAN SONG IS THE TITLE SONG OFF THEIR ALBUM WITH  A PALINDROMIC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63680" y="762120"/>
            <a:ext cx="81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PERT HOLMES HAD TWO TOP-10 HIT SONGS: "ESCAPE         (THE PIÑA COLADA SONG)" AND WHAT OTHER SONG, ALSO ABOUT INFIDE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0160" y="762120"/>
            <a:ext cx="694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EDWIN STARR, WHICH HAS THE SAME NAME AS A FUNK GROUP WITH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762120"/>
            <a:ext cx="8352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SONG WAS PARODIED BY WEIRD AL YANKOVIC'S SONG "F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SON 5 SONG IS THE FIRST #1 SONG WHEN LISTED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480" y="762120"/>
            <a:ext cx="89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LO SONG DOES JOHN LENNON REJECT MAGIC, I CHING, THE BIBLE, THE KENNEDYS, TAROT, JESUS, BUDDHA, YOGA, ELVIS, AND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30440" y="4952880"/>
            <a:ext cx="588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3–LETTER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ABBA PERFORM ON "SATURDAY NIGHT LIVE" SET ON A SINKING BO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7120" y="762120"/>
            <a:ext cx="842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STARTED THE "HOT ROD MUSIC" CRAZE OF THE 19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7320" y="762120"/>
            <a:ext cx="882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JOHN MAYER SONG IS HIS HIGHEST-CHARTING SINGLE, AND WON HIM A GRAMMY AWARD FOR BEST MALE POP VOCAL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STEELY DAN SONG IS THE TITLE SONG OFF THEIR ALBUM WITH A PALINDROMIC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PERT HOLMES HAD TWO TOP-10 HIT SONGS: "ESCAPE         (THE PIÑA COLADA SONG)" AND WHAT OTHER SONG, ALSO ABOUT INFIDE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4440" y="761760"/>
            <a:ext cx="685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EDWIN STARR, WHICH HAS THE SAME NAME AS A FUNK GROUP WITH A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1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SON 5 SONG IS THE FIRST #1 SONG WHEN LISTED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0-24T13:17:06Z</dcterms:modified>
  <cp:revision>520</cp:revision>
  <dc:subject/>
  <dc:title>Slide 1</dc:title>
</cp:coreProperties>
</file>