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48631-4ED5-458D-AA54-A9D6693BAA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3EEB7-86D4-4F78-8FC1-C8436E0D29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042C4-7ED4-4EF1-9A8A-7FED27A075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F1F45-DDAD-4FA3-A81C-3C7D036A34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6B36D-F05F-4A04-94A8-63EAFCB128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FF538-624D-4F9E-A27B-46E2A6C987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84037-3397-4E0A-B198-D0670A7858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C27D9-6A89-4444-B646-18F1BEDF83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69F12-4CD0-4988-9906-2C0268D895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1B3D7-2EA2-43B0-A2CE-106041104B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5B9EF-544A-46BC-8542-AAFDDB2D3A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0C950-996C-4065-9B57-FCF420ADE6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A401A-B6AA-44C8-9AA2-4618645F36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64C4F-3CD1-4CB0-9FF1-0B9F6F8D0B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95F3C-AE37-48CC-87D3-E2310D5BC7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0F046-35F8-4A0C-A7F5-E89741F219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F5FCD-F9B7-4149-902F-2E7FD22D8A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A9A30-DE59-4F15-9473-A4565C89B3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E16C8-B7D9-4C9C-9E32-906E9BDD5F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5BFFB-D366-45C5-8D89-6D3EF415F7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95C48-0FE5-44B8-81EB-A24A47A5EF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D531A-0075-41FA-8ED8-DB11C2A1B0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433CA-AAE2-43F8-9E65-F0441CD7CE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514440" y="1523880"/>
            <a:ext cx="81151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66600" y="761760"/>
            <a:ext cx="9010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MOST FAMOUS SCULPTURE BY ROBERT INDIANA, APPROPRIATELY ENOUGH DISPLAYED IN INDIANAPOLIS, IS THE SPELLING OF WHAT WOR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990720" y="4952880"/>
            <a:ext cx="716256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OU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401760" y="762120"/>
            <a:ext cx="83390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IA MODEL IS TH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" descr=""/>
          <p:cNvPicPr/>
          <p:nvPr/>
        </p:nvPicPr>
        <p:blipFill>
          <a:blip r:embed="rId1"/>
          <a:stretch/>
        </p:blipFill>
        <p:spPr>
          <a:xfrm>
            <a:off x="2286000" y="2057400"/>
            <a:ext cx="4572000" cy="2876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1542960" y="4952880"/>
            <a:ext cx="6058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887400" y="762120"/>
            <a:ext cx="7367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12-FOOT DIAMETER TARGET IN CURLING IS CALLED THE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266760" y="4952880"/>
            <a:ext cx="8610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647640" y="762120"/>
            <a:ext cx="78487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QUANTITY IN PHYSICS IS THE RATE AT WHICH WORK IS DO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ULL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193680" y="762120"/>
            <a:ext cx="87552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YPOGRAPHY, A DOT THAT IS RAISED AND LARGER THAN A PERIOD (•) IS CALLED A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190440" y="4952880"/>
            <a:ext cx="8763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UBW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743040" y="762120"/>
            <a:ext cx="76579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ESTAURANT CHAIN HAS THE MOST STOR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UNAW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463680" y="762120"/>
            <a:ext cx="81817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DEL SHANNON'S ONLY #1 SO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1579680" y="4952880"/>
            <a:ext cx="5984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1100160" y="762120"/>
            <a:ext cx="69422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ONLY #1 SONG BY EDWIN STAR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95280" y="762120"/>
            <a:ext cx="8352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IA MODEL IS THI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2286000" y="2057400"/>
            <a:ext cx="4572000" cy="287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914400" y="4952880"/>
            <a:ext cx="7315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RAV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914400" y="762120"/>
            <a:ext cx="73152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ES IN BROWN, RED-EYE, AND CREA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O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87480" y="762120"/>
            <a:ext cx="89676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MOST FAMOUS SCULPTURE BY ROBERT INDIANA, APPROPRIATELY ENOUGH DISPLAYED IN INDIANAPOLIS, IS THE SPELLING OF WHAT WOR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3"/>
          <p:cNvSpPr/>
          <p:nvPr/>
        </p:nvSpPr>
        <p:spPr>
          <a:xfrm>
            <a:off x="380880" y="4952880"/>
            <a:ext cx="8382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BE  FOLLOWED  BY  "TRAIN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457200" y="762120"/>
            <a:ext cx="8229600" cy="31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90120" y="761760"/>
            <a:ext cx="77612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12-FOOT DIAMETER TARGET IN CURLING IS CALLED THE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674640" y="762120"/>
            <a:ext cx="77947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QUANTITY IN PHYSICS IS THE RATE AT WHICH WORK IS DO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57320" y="762120"/>
            <a:ext cx="88279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YPOGRAPHY, A DOT THAT IS RAISED AND LARGER THAN A PERIOD (•) IS CALLED A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52320" y="761760"/>
            <a:ext cx="78393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ESTAURANT CHAIN HAS THE MOST STOR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47840" y="761760"/>
            <a:ext cx="8248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DEL SHANNON'S ONLY #1 SO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144440" y="761760"/>
            <a:ext cx="68551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ONLY #1 SONG BY EDWIN STAR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14520" y="762120"/>
            <a:ext cx="79149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ES IN BROWN, RED-EYE, AND CREA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21T16:48:58Z</dcterms:created>
  <dc:creator>Jennifer Budzinski</dc:creator>
  <dc:description/>
  <dc:language>en-US</dc:language>
  <cp:lastModifiedBy>Erich Friedman</cp:lastModifiedBy>
  <dcterms:modified xsi:type="dcterms:W3CDTF">2021-10-24T13:18:07Z</dcterms:modified>
  <cp:revision>524</cp:revision>
  <dc:subject/>
  <dc:title>Slide 1</dc:title>
</cp:coreProperties>
</file>