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B8E-F5B5-40BE-A981-85F9FE394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2346-4EC0-4D6A-90C2-66CD156CE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40D4-A8E6-49CD-9865-18883173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9D79-B2BC-4AFE-9EA0-B169B63B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559B-D703-4018-A6AC-2C127896A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D382-A37D-40D1-BABE-3233EEFB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6457-B56B-49A2-A1D0-6B889F54C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7C9-05E8-4E85-BB6C-2291856B9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B9AAE-37BB-489F-81B2-526F9142B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CF5B-DA13-4119-829C-4BA24F494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1CCF-AFFF-4619-A816-2F28882A1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6056-3BE7-4401-87AD-8807E6C20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B8A3-0F89-43C3-AB27-EE77FD26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1D22-D9D4-4126-8737-858B0A22B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1954-E258-44F7-A877-FFD976E4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ABC6-7E80-43D4-BC4B-EE802E238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B055-2C4F-4E7C-888F-24A594E7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138F-B250-427B-B69C-CDB6A568E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7BCE-AB09-4D4F-898E-973EC006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CB44-70FC-468D-9A07-C3925F39B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6E3A-0CDC-4E26-8A7C-C3664A0D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8720-DC12-4035-88F5-61360064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191-6686-4DF5-A6A8-9E9C016A4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6600" y="761760"/>
            <a:ext cx="901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SCULPTURE BY ROBERT INDIANA, APPROPRIATELY ENOUGH DISPLAYED IN INDIANAPOLIS, IS THE SPELLING OF WHA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176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A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8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87400" y="762120"/>
            <a:ext cx="73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-FOOT DIAMETER TARGET IN CURLING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RATE AT WHICH WORK IS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93680" y="762120"/>
            <a:ext cx="875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A DOT THAT IS RAISED AND LARGER THAN A PERIOD (•)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CHAIN HAS THE MOST ST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3680" y="762120"/>
            <a:ext cx="81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EL SHANNON'S ONLY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00160" y="762120"/>
            <a:ext cx="694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A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57200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IN BROWN, RED-EYE, AND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7480" y="762120"/>
            <a:ext cx="89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SCULPTURE BY ROBERT INDIANA, APPROPRIATELY ENOUGH DISPLAYED IN INDIANAPOLIS, IS THE SPELLING OF WHA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TRAI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90120" y="761760"/>
            <a:ext cx="7761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2-FOOT DIAMETER TARGET IN CURLING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74640" y="762120"/>
            <a:ext cx="779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RATE AT WHICH WORK IS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7320" y="762120"/>
            <a:ext cx="882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YPOGRAPHY, A DOT THAT IS RAISED AND LARGER THAN A PERIOD (•)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52320" y="761760"/>
            <a:ext cx="783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CHAIN HAS THE MOST ST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EL SHANNON'S ONLY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4440" y="761760"/>
            <a:ext cx="685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IN BROWN, RED-EYE, AND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0-24T13:18:07Z</dcterms:modified>
  <cp:revision>524</cp:revision>
  <dc:subject/>
  <dc:title>Slide 1</dc:title>
</cp:coreProperties>
</file>