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8014-BB25-44E9-B7A2-9F1419C10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85A7-1957-4507-8A8D-A2C262436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28A1-8489-4594-9217-F61FE97D5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4993-9625-4016-B151-EB70219BB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6AAD-C3D0-4BA0-BA65-CE9938D27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FA43-29C3-415A-A83C-BC3CA9FA3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01E-E72D-4AFD-9126-788AA77E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EB8-2E11-4093-BC4E-B8EB97AF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4A70-F3B8-4106-B29D-28B551534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8E2E-E31C-476B-83A0-B79048DD2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C0A8-AABC-4B76-B8C2-0497CA64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FC6-6396-4914-8582-492C863FD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C826-E11E-498D-9A5C-D3A1BCA4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8E8D-E28C-4D6D-8BEE-FA4488867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E019-1A6E-460C-9525-590E9C18E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341A-2E74-4060-BEB1-DDD61139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4311-C43F-44CF-99B7-5F833628E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DD76-C1A7-452D-843A-3DEDC262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F7BF-9B03-4A02-A487-B922724E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E79-8B0E-4507-9200-DD557708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34BE-FBBF-444E-8BFD-0F1D02B8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EEBE-FF9C-4791-9245-ACC1BBF9D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E62D-86F3-4143-8ED6-C02D3FF84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BEN AFFLECK AND MATT DAMON AS FALLEN ANGELS TRYING TO EXPLOIT A LOOPHOLE    TO RETURN TO HEAV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284120" y="762120"/>
            <a:ext cx="6573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 UNIT OF FORCE, NAMED AFTER A FAMOUS PHYSIC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3560" y="762120"/>
            <a:ext cx="7616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OPENING THROUGH WHICH LIGHT ENTERS A CAMERA OR TELE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66680" y="48769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88840" y="762120"/>
            <a:ext cx="7366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LY SIMON SONG WAS WRITTEN IN 15 MINUTES AS SHE WAITED FOR CAT STEVENS TO PICK HER UP FOR A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679320" y="4886280"/>
            <a:ext cx="7785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44520" y="771480"/>
            <a:ext cx="665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IS KNOWN AS A SPANNER IN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79440" y="762120"/>
            <a:ext cx="838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TEM HAS BEEN REMOVED FROM THE TOPS OF THESE COATS OF ARMS OF DENMARK AND NOR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64960" y="3440160"/>
            <a:ext cx="2856240" cy="315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6054840" y="3419640"/>
            <a:ext cx="2787480" cy="31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WABU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6640" y="762120"/>
            <a:ext cx="801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ART SIMP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LEC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52480" y="762120"/>
            <a:ext cx="74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ELECTRICALLY NEUTRAL  GROUP OF ATOMS HELD TOGETHER BY CHEMICAL BOND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 UNIT OF FORCE, NAMED AFTER A FAMOUS PHYSIC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KNOWN WRITTEN RECIPE IS FOR MAKING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92200" y="762120"/>
            <a:ext cx="795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BEN AFFLECK AND MATT DAMON AS FALLEN ANGELS TRYING TO EXPLOIT A LOOPHOLE    TO RETURN TO HEA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30120" y="3733920"/>
            <a:ext cx="8483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ANIMAL  NAMES  (NEWT,  APE,  ANT,  WREN, CROW,  COW,  MOLE,  BEE,  DO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OPENING THROUGH WHICH LIGHT ENTERS A CAMERA OR TELE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LY SIMON SONG WAS WRITTEN IN 15 MINUTES AS SHE WAITED FOR CAT STEVENS TO PICK HER UP FOR A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85840" y="762120"/>
            <a:ext cx="67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IS KNOWN AS A SPANNER IN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7920" y="762120"/>
            <a:ext cx="858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TEM HAS BEEN REMOVED FROM THE TOPS OF THESE COATS OF ARMS OF DENMARK AND NORW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4960" y="3440160"/>
            <a:ext cx="2856240" cy="31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6054840" y="3419640"/>
            <a:ext cx="2787480" cy="31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ART SIMP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ELECTRICALLY NEUTRAL  GROUP OF ATOMS HELD TOGETHER BY CHEMICAL B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6720" y="762120"/>
            <a:ext cx="835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KNOWN WRITTEN RECIPE IS FOR MAKING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0-24T13:34:06Z</dcterms:modified>
  <cp:revision>427</cp:revision>
  <dc:subject/>
  <dc:title>Slide 1</dc:title>
</cp:coreProperties>
</file>