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8327-44AA-45BE-9302-F64313E5F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312B-97E5-4C06-AEF9-0DDFCC93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973B-979C-4372-830A-DF9EC9369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CC2E-B3BB-4889-9A96-BE633324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E0E3-E323-45EB-A119-F59637395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5EA8-6AC9-42D7-9EE7-A72401281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DD9C-1B09-4E14-B093-D703D397B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94BE-A82E-44D3-8EB4-508D6D4F1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5AFB-AF1E-4260-9554-C48267498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3575-3753-4220-8DEE-46C315459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7F2-AD5D-49D7-84FF-21D91946B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B2B9-42B7-4953-9294-7607233B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4744-08B3-4160-81A0-CB5EF1139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B2E-0183-4FE7-9006-5C7A49BD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BED5-400A-46C0-9E86-25683C5FB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B590-13A2-4133-B486-88D17EE3A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A55A-6206-4EDF-BE71-97769EC72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A8B7-DC17-4DE6-9A1C-724B86013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A05A-DA1C-4F83-A221-53B727E10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5128-D11A-4BDC-9EB6-484441EAB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7CF5-FA18-4617-B3C4-1075C704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5624-B2A0-4C71-AF56-802390CC0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9F1C-5D74-44DE-A748-1F6DB1158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BEN AFFLECK AND MATT DAMON AS FALLEN ANGELS TRYING TO EXPLOIT A LOOPHOLE    TO RETURN TO HEAV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284120" y="762120"/>
            <a:ext cx="6573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 UNIT OF FORCE, NAMED AFTER A FAMOUS PHYSIC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3560" y="762120"/>
            <a:ext cx="7616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OPENING THROUGH WHICH LIGHT ENTERS A CAMERA OR TELE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66680" y="48769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88840" y="762120"/>
            <a:ext cx="7366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LY SIMON SONG WAS WRITTEN IN 15 MINUTES AS SHE WAITED FOR CAT STEVENS TO PICK HER UP FOR A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679320" y="4886280"/>
            <a:ext cx="7785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44520" y="771480"/>
            <a:ext cx="665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IS KNOWN AS A SPANNER IN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79440" y="762120"/>
            <a:ext cx="838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TEM HAS BEEN REMOVED FROM THE TOPS OF THESE COATS OF ARMS OF DENMARK AND NOR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64960" y="3440160"/>
            <a:ext cx="2856240" cy="315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6054840" y="3419640"/>
            <a:ext cx="2787480" cy="31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WABUN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6640" y="762120"/>
            <a:ext cx="801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ART SIMP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LEC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52480" y="762120"/>
            <a:ext cx="74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ELECTRICALLY NEUTRAL  GROUP OF ATOMS HELD TOGETHER BY CHEMICAL BOND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 UNIT OF FORCE, NAMED AFTER A FAMOUS PHYSIC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KNOWN WRITTEN RECIPE IS FOR MAKING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92200" y="762120"/>
            <a:ext cx="795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BEN AFFLECK AND MATT DAMON AS FALLEN ANGELS TRYING TO EXPLOIT A LOOPHOLE    TO RETURN TO HEAV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30120" y="3733920"/>
            <a:ext cx="8483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ANIMAL  NAMES  (NEWT,  APE,  ANT,  WREN, CROW,  COW,  MOLE,  BEE,  DO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OPENING THROUGH WHICH LIGHT ENTERS A CAMERA OR TELE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LY SIMON SONG WAS WRITTEN IN 15 MINUTES AS SHE WAITED FOR CAT STEVENS TO PICK HER UP FOR A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85840" y="762120"/>
            <a:ext cx="67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IS KNOWN AS A SPANNER IN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7920" y="762120"/>
            <a:ext cx="858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TEM HAS BEEN REMOVED FROM THE TOPS OF THESE COATS OF ARMS OF DENMARK AND NORW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4960" y="3440160"/>
            <a:ext cx="2856240" cy="31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6054840" y="3419640"/>
            <a:ext cx="2787480" cy="31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ART SIMP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N ELECTRICALLY NEUTRAL  GROUP OF ATOMS HELD TOGETHER BY CHEMICAL B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6720" y="762120"/>
            <a:ext cx="835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KNOWN WRITTEN RECIPE IS FOR MAKING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0-24T13:34:06Z</dcterms:modified>
  <cp:revision>427</cp:revision>
  <dc:subject/>
  <dc:title>Slide 1</dc:title>
</cp:coreProperties>
</file>