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F91DD-60E8-4A5A-9402-333797FEF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1BB87-518C-4ECA-8F2A-79C2D6474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DE15B-D984-4850-ACED-CE54DC7BA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77205-F625-4669-B83B-24162532A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8593C-CD67-449A-81AD-0D3560813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31D15-7BD9-45D8-AEEF-249D1D8EA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CE5B2-F89B-45F5-AD8A-CA43D6600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CF489-5AAD-412D-B811-944FAD21F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997D7-6B64-4EAF-B3E5-0AA31758C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9E91E-94D2-4759-9A4F-CD6DF7B2A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1D4A4-7183-4E78-9404-53994F7E8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0D375-5494-4BD2-AA51-E5088FF1F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B73A0-247A-4938-8D5E-E3F9C24AD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CEFC2-464F-4AF8-9348-86DC99CFA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D361E-5AC2-4C9E-8173-4E2B41E8A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6C0FB-C531-4B70-92F6-EFD43CCBD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4067D-13D7-4B8C-8E5E-51A4896EE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C1A01-487E-4828-BEAA-E2670279C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E5763-6890-4E2A-BC15-B0D48D9AD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C01DA-5193-43C3-B756-CE8807D50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F596B-0561-4C4B-AFCC-9F664C497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14867-820B-488E-A3A2-6AE45BDBD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79F57-7D09-4406-B78C-F3E844B01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VAL BOARD GAME INTRODUCED BY MILTON BRADLEY IN 1967 MOTIVATED THE 2012 MILITARY SCI-FI FILM OF THE SAME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O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276120" y="762120"/>
            <a:ext cx="85917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   BOX ON A BLACKJACK OR BACCARAT TABLE FROM   WHICH THE CARDS ARE DEAL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838080" y="4876920"/>
            <a:ext cx="7467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IM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95360" y="758880"/>
            <a:ext cx="8153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FTER WENDY OFFERED TO SEW PETER PAN'S SHADOW BACK ON, WHAT DID SHE GIVE HIM TO SYMBOLIZE A KI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 SANG THE HIT SONGS "MEET VIRGINIA" AND "HEY SOUL SIST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257480" y="4876920"/>
            <a:ext cx="662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762120" y="762120"/>
            <a:ext cx="7619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CONSTELLATION IN THE SKY IS URSA MAJOR, WHICH DEPICTS WHAT ANIM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N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1-1976 DETECTIVE TV SERIES STARRED WILLIAM CONRAD AS    THE TITLE CHARAC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EELBARR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104840" y="762120"/>
            <a:ext cx="69343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NE-WHEELED DEVICE WAS INVENTED IN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CHIN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95280" y="4876920"/>
            <a:ext cx="6553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BBER  DUCK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WOULD BERT AND ERNIE SING WHILE THEY WERE TAKING A BA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66760" y="7621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   BOX ON A BLACKJACK OR BACCARAT TABLE FROM   WHICH THE CARDS ARE DEAL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R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704880" y="762120"/>
            <a:ext cx="7734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HAS CHEMICAL SYMBOL F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TTLE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762120"/>
            <a:ext cx="79250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VAL BOARD GAME INTRODUCED BY MILTON BRADLEY IN 1967 MOTIVATED THE 2012 MILITARY SCI-FI FILM OF THE SAME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762120" y="4876920"/>
            <a:ext cx="7619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SED  AS  MONOPOLY  PIE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0600" y="761760"/>
            <a:ext cx="8362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FTER WENDY OFFERED TO SEW PETER PAN'S SHADOW BACK ON, WHAT DID SHE GIVE HIM TO SYMBOLIZE A KIS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 SANG THE HIT SONGS "MEET VIRGINIA" AND "HEY SOUL SIST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43040" y="762120"/>
            <a:ext cx="7657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CONSTELLATION IN THE SKY IS URSA MAJOR, WHICH DEPICTS WHAT ANIM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95320" y="762120"/>
            <a:ext cx="73533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1-1976 DETECTIVE TV SERIES STARRED WILLIAM CONRAD AS    THE TITLE CHARAC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162080" y="761760"/>
            <a:ext cx="6819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NE-WHEELED DEVICE WAS INVENTED IN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CHINA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WOULD BERT AND ERNIE SING WHILE THEY WERE TAKING A BAT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HAS CHEMICAL SYMBOL F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1T13:59:04Z</dcterms:created>
  <dc:creator>Jennifer Budzinski</dc:creator>
  <dc:description/>
  <dc:language>en-US</dc:language>
  <cp:lastModifiedBy>Erich Friedman</cp:lastModifiedBy>
  <dcterms:modified xsi:type="dcterms:W3CDTF">2021-10-24T13:35:30Z</dcterms:modified>
  <cp:revision>364</cp:revision>
  <dc:subject/>
  <dc:title>Slide 1</dc:title>
</cp:coreProperties>
</file>