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512B-78C4-4068-B486-89F47E7DB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F127-4E18-4E60-BC60-5AC6C8965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EBE3-D811-4B8A-BAEB-4E1AC3EA7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4D76-8476-4754-A5D1-D295923C4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A552-CFDC-4530-B1DB-BA6ED9FEE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6D1C-5DE4-4E16-AC45-A47B43656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B5F3-53A7-4C9C-A953-40968B24B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14B4-A500-4C4E-89E6-1F63F8110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A1C7-0223-4627-96B1-5DF114A15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546E-B523-4A36-AFE6-35AEC9BBF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4EDC-D5AA-4207-B022-34AB25404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A5FD-6C4A-4496-9386-938BFEA66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E33F-3A5C-4276-870B-116DBF773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B95C-18ED-47ED-98CE-1C0F4F6A6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281F-22AA-4A1C-8A01-768594AFC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385C-9A25-450A-95E8-8A085D7E5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F32F-03DF-4863-AB58-262B6017B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2798-326C-41A3-BBEA-737F1ADAF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DF05-D153-45E8-AD5C-C0AAB6B44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1370-0BBC-47DC-ABF5-07E2C2A94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F97D-AF40-4711-AFE8-D0A80FE37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EE96-02C5-461B-92FF-9FE431E4E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0909-4B94-4008-BADC-8B3EAE092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VAL BOARD GAME INTRODUCED BY MILTON BRADLEY IN 1967 MOTIVATED THE 2012 MILITARY SCI-FI FILM OF THE SAM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76120" y="762120"/>
            <a:ext cx="8591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   BOX ON A BLACKJACK OR BACCARAT TABLE FROM   WHICH THE CARDS ARE DEA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M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95360" y="75888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WENDY OFFERED TO SEW PETER PAN'S SHADOW BACK ON, WHAT DID SHE GIVE HIM TO SYMBOLIZE A KI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THE HIT SONGS "MEET VIRGINIA" AND "HEY SOUL SIS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ONSTELLATION IN THE SKY IS URSA MAJOR, WHICH DEPICTS WHAT ANI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1-1976 DETECTIVE TV SERIES STARRED WILLIAM CONRAD AS    THE TITLE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ELBA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04840" y="762120"/>
            <a:ext cx="6934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NE-WHEELED DEVICE WAS INVENTED IN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CH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BBER  DUCK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OULD BERT AND ERNIE SING WHILE THEY WERE TAKING A BA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   BOX ON A BLACKJACK OR BACCARAT TABLE FROM   WHICH THE CARDS ARE DEAL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04880" y="762120"/>
            <a:ext cx="7734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CHEMICAL SYMBOL 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TTLE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VAL BOARD GAME INTRODUCED BY MILTON BRADLEY IN 1967 MOTIVATED THE 2012 MILITARY SCI-FI FILM OF THE SAM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62120" y="487692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SED  AS  MONOPOLY  PIE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0600" y="761760"/>
            <a:ext cx="8362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WENDY OFFERED TO SEW PETER PAN'S SHADOW BACK ON, WHAT DID SHE GIVE HIM TO SYMBOLIZE A KI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THE HIT SONGS "MEET VIRGINIA" AND "HEY SOUL SIS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ONSTELLATION IN THE SKY IS URSA MAJOR, WHICH DEPICTS WHAT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95320" y="762120"/>
            <a:ext cx="7353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1-1976 DETECTIVE TV SERIES STARRED WILLIAM CONRAD AS    THE TITLE CHARAC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62080" y="761760"/>
            <a:ext cx="6819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NE-WHEELED DEVICE WAS INVENTED IN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CHINA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OULD BERT AND ERNIE SING WHILE THEY WERE TAKING A BA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CHEMICAL SYMBOL 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0-24T13:35:30Z</dcterms:modified>
  <cp:revision>364</cp:revision>
  <dc:subject/>
  <dc:title>Slide 1</dc:title>
</cp:coreProperties>
</file>